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EDC-19CD-4A59-906D-C47C2B71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C84F-B720-488A-8C81-8023DCFA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5B0-EE3B-47C5-841F-3CE5488D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519-36EC-4362-AAED-E75F843F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CF1-7FAC-4D8C-8701-5B92CD5D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9F8-BC96-4D41-A896-5CA1753D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907-3435-4272-A84B-42A3528C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6C6-A7C8-42A6-A46F-0D478ED1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B2C-D32E-4C00-B249-750C4EF8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531-5690-428B-989F-3C03F97B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84D-AF03-4EEC-9898-FD840010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FED6-9C3F-4BA9-81BE-79105971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7B69-A92C-4D91-B441-05F1E8824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29160" y="639936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in-Meng Ho, Texas Instru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3EDA785-24E3-48A3-83A8-ACC18E7362DC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90760" y="6446880"/>
            <a:ext cx="933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8120" y="1673280"/>
            <a:ext cx="8832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ffic Descrip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802.11E Performance Simulatio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314880"/>
            <a:ext cx="64008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n-Meng 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as Instruments Incorpo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500 TI Blv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las, Texas 752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214) 480-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nmengho@ti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71928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PEG2 Traffic Models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Doc 34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3640" y="1749600"/>
            <a:ext cx="816120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source rate = 5.12 Mb/s (V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ed by scenes, GOPs (group of pictures), and I/B/P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 overhead (per MSDU) = 4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frame arrival time (to LLC) = 33.33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length distributions (in bi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58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94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827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160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493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829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162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495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828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160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497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830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162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495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832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90840" y="5927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256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922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254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5912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24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56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589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926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58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591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24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25720" y="53420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593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64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782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6120" y="594036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= 15 Frames = 0.5 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560" y="5915160"/>
            <a:ext cx="782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5840" y="59166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3240" y="59166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544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880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213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546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879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212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5484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81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5214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546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98832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216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5488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8816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82040" y="5927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642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308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640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97360" y="53420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3100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642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975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30840" y="5342040"/>
            <a:ext cx="27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6448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977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3104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432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1800" y="56404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97960" y="534204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1440" y="594036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= 15 Frames = 0.5 s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18560" y="591660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026560" y="5711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040600" y="6031080"/>
                <a:ext cx="21132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49160" y="4408560"/>
                <a:ext cx="43675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lognorma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29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lognorma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3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lognorma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η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64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199120" y="4381560"/>
                <a:ext cx="347184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t xml:space="preserve">ε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717480" y="4362480"/>
            <a:ext cx="436104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48360" y="4362480"/>
            <a:ext cx="3554280" cy="86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1352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Data Traffic Models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Emails, Web Requests/Objects,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File/Image Transfers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6280" y="2629080"/>
            <a:ext cx="8550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ed by (hierarchical) renewal processes per-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ivals to LLC in bursts (which may be decomposed into fr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 overhead included (absorbed) i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jitter evaluated with respect to bursts, but no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λ (needed later) given on slide 5 under various channel 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23960" y="5513400"/>
            <a:ext cx="567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911240" y="5250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278160" y="5250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932360" y="5250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97760" y="52509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657440" y="4979880"/>
                <a:ext cx="5317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049480" y="5535720"/>
                <a:ext cx="1125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-bur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456240" y="560700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540480" y="5113440"/>
                <a:ext cx="21132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008160" y="4979880"/>
                <a:ext cx="5320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4633920" y="4979880"/>
                <a:ext cx="5317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18040" y="4979880"/>
                <a:ext cx="5320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urs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35200" y="5535720"/>
                <a:ext cx="1125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-bur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994280" y="5535720"/>
                <a:ext cx="1125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r-bur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43344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Email Traffic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97960" y="1363680"/>
            <a:ext cx="25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going Email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928800" y="3430440"/>
                <a:ext cx="40957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623960" y="247968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1911240" y="2217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892600" y="2217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989520" y="2217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211720" y="22172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110280" y="2263680"/>
                <a:ext cx="1373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735520" y="3006720"/>
                <a:ext cx="19828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860400" y="2959200"/>
            <a:ext cx="418644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56320" y="2959200"/>
            <a:ext cx="263844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666800" y="190332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622600" y="190332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718080" y="189396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4930920" y="190332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117880" y="2468520"/>
                <a:ext cx="64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3147840" y="2468520"/>
                <a:ext cx="665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330800" y="2457360"/>
                <a:ext cx="66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353200" y="257328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740560" y="2079720"/>
                <a:ext cx="21096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699160" y="3398760"/>
                <a:ext cx="2592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28800" y="3049560"/>
                <a:ext cx="2919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598320" y="39625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ing Email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42840" y="5972040"/>
                <a:ext cx="443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 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/>
          <p:cNvSpPr/>
          <p:nvPr/>
        </p:nvSpPr>
        <p:spPr>
          <a:xfrm>
            <a:off x="1623960" y="506412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911240" y="4801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892600" y="4801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989520" y="4801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211720" y="48016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6110280" y="4851360"/>
                <a:ext cx="137304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811840" y="5591160"/>
                <a:ext cx="1717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E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846000" y="5529240"/>
            <a:ext cx="457704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42000" y="5529240"/>
            <a:ext cx="2576520" cy="82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666800" y="448776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622600" y="448776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718080" y="442116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930920" y="448776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117880" y="5052960"/>
                <a:ext cx="64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147840" y="5052960"/>
                <a:ext cx="665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30800" y="5041800"/>
                <a:ext cx="664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353200" y="515772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740560" y="459252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756400" y="5954760"/>
                <a:ext cx="2536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3226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923760" y="5619600"/>
                <a:ext cx="35308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685800" y="43344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File/Image Traffic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7960" y="1392120"/>
            <a:ext cx="21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 Transf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942840" y="3344760"/>
                <a:ext cx="4381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1490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623960" y="249408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11240" y="2231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2892600" y="2231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89520" y="2231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211720" y="2231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6081840" y="2278080"/>
                <a:ext cx="137304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735520" y="2978280"/>
                <a:ext cx="19274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666800" y="191772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622600" y="191772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718080" y="1908000"/>
                <a:ext cx="81756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0920" y="191772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2117880" y="2482920"/>
                <a:ext cx="64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47840" y="2482920"/>
                <a:ext cx="665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330800" y="2471760"/>
                <a:ext cx="664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5353200" y="258768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740560" y="2093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708520" y="3313080"/>
                <a:ext cx="25750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354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928800" y="2978280"/>
                <a:ext cx="31496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1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98680" y="3919680"/>
            <a:ext cx="25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 Transfer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919080" y="5943600"/>
                <a:ext cx="4286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836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623960" y="507852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911240" y="4816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892600" y="4816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989520" y="4816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5211720" y="48160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081840" y="4848120"/>
                <a:ext cx="1373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λ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3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5430960" y="5497560"/>
                <a:ext cx="2136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863640" y="5502240"/>
            <a:ext cx="436068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62560" y="5502240"/>
            <a:ext cx="292896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666800" y="4430880"/>
                <a:ext cx="7984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622600" y="4430880"/>
                <a:ext cx="8190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718080" y="442116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930920" y="4430880"/>
                <a:ext cx="817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117880" y="5067360"/>
                <a:ext cx="645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147840" y="5067360"/>
                <a:ext cx="665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330800" y="5056200"/>
                <a:ext cx="664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353200" y="517212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740560" y="467820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5425920" y="5925960"/>
                <a:ext cx="28242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63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923760" y="5548320"/>
                <a:ext cx="3130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30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860400" y="2932200"/>
            <a:ext cx="447516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656320" y="2932200"/>
            <a:ext cx="2638440" cy="76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685800" y="39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Web Traffic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9760" y="117792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Requests (LP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47880" y="2620800"/>
                <a:ext cx="339408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947880" y="2944800"/>
                <a:ext cx="4343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1623960" y="217980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191124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289260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98952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21172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39000" y="1960560"/>
                <a:ext cx="13716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P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673600" y="2570040"/>
                <a:ext cx="2195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863640" y="2571840"/>
            <a:ext cx="4430520" cy="67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624640" y="2557440"/>
            <a:ext cx="2668320" cy="67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666800" y="160344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622600" y="160344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718080" y="159372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4930920" y="160344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117880" y="2168640"/>
                <a:ext cx="6458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147840" y="2168640"/>
                <a:ext cx="6652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330800" y="2157480"/>
                <a:ext cx="664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598320" y="343224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Objects (LP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47880" y="4932360"/>
                <a:ext cx="339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00000" y="5792760"/>
                <a:ext cx="36957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Weibull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222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666720" y="4448160"/>
            <a:ext cx="677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954000" y="4185720"/>
            <a:ext cx="0" cy="274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173520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44664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7585200" y="4219560"/>
                <a:ext cx="1373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P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153040" y="4848120"/>
                <a:ext cx="2500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863640" y="4925880"/>
            <a:ext cx="401328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09560" y="3871800"/>
                <a:ext cx="800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407960" y="3990960"/>
                <a:ext cx="9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049560" y="3990960"/>
                <a:ext cx="100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912960" y="4427640"/>
                <a:ext cx="79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4680" y="4427640"/>
                <a:ext cx="819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544840" y="397656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633760" y="4427640"/>
                <a:ext cx="876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494080" y="4541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511440" y="4508640"/>
                <a:ext cx="6476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 flipV="1">
            <a:off x="4195800" y="4185720"/>
            <a:ext cx="0" cy="274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497664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68808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154400" y="4427640"/>
                <a:ext cx="79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956120" y="4427640"/>
                <a:ext cx="819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86280" y="3976560"/>
                <a:ext cx="20988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877000" y="4427640"/>
                <a:ext cx="87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35520" y="4541760"/>
                <a:ext cx="2113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743880" y="4508640"/>
                <a:ext cx="6667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944880" y="3871800"/>
                <a:ext cx="819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653000" y="3990960"/>
                <a:ext cx="933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284880" y="3990960"/>
                <a:ext cx="10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353200" y="2273400"/>
                <a:ext cx="20952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740560" y="170820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7215120" y="397656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7365960" y="4541760"/>
                <a:ext cx="2113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919080" y="5200560"/>
                <a:ext cx="35672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923760" y="5499000"/>
                <a:ext cx="2590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914400" y="6084720"/>
                <a:ext cx="37530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70720" y="2927520"/>
                <a:ext cx="2593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5087880" y="4911840"/>
            <a:ext cx="320508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110200" y="5504040"/>
                <a:ext cx="3243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9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8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129280" y="5829480"/>
                <a:ext cx="309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75</m:t>
                    </m:r>
                    <m:r>
                      <m:t xml:space="preserve">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39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3936960" y="551808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5149800" y="6102360"/>
                <a:ext cx="1793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4660920" y="5773680"/>
            <a:ext cx="144360" cy="360360"/>
          </a:xfrm>
          <a:custGeom>
            <a:avLst/>
            <a:gdLst>
              <a:gd name="textAreaLeft" fmla="*/ 19080 w 144360"/>
              <a:gd name="textAreaRight" fmla="*/ 125280 w 1443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39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Web Traffic Models (Con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928800" y="4917960"/>
                <a:ext cx="3489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890640" y="5778360"/>
                <a:ext cx="35431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Gamma: 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8335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860400" y="4911840"/>
            <a:ext cx="375444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890640" y="5186520"/>
                <a:ext cx="36813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909720" y="5484960"/>
                <a:ext cx="339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Gamma: 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68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0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928800" y="6070680"/>
                <a:ext cx="3581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4957920" y="4848120"/>
                <a:ext cx="2519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4900680" y="4911840"/>
            <a:ext cx="339228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952880" y="5504040"/>
                <a:ext cx="32432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7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5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4948200" y="5829480"/>
                <a:ext cx="3335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084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959360" y="6102360"/>
                <a:ext cx="20638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149960" y="6137280"/>
                <a:ext cx="762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599040" y="117792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Requests (HP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938160" y="2620800"/>
                <a:ext cx="375624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lognormal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5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83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933480" y="2944800"/>
                <a:ext cx="4457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Pareto: 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,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623960" y="217980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191124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289260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98952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211720" y="1917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39000" y="1960560"/>
                <a:ext cx="13716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602320" y="2570040"/>
                <a:ext cx="2311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P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λ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863640" y="2571840"/>
            <a:ext cx="4560840" cy="67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567400" y="2557440"/>
            <a:ext cx="2725560" cy="67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666800" y="1603440"/>
                <a:ext cx="798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622600" y="1603440"/>
                <a:ext cx="819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718080" y="1593720"/>
                <a:ext cx="8175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930920" y="1603440"/>
                <a:ext cx="8175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117880" y="2168640"/>
                <a:ext cx="6458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147840" y="2168640"/>
                <a:ext cx="6652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330800" y="2157480"/>
                <a:ext cx="6649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597240" y="343224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Objects (HP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6720" y="4448160"/>
            <a:ext cx="677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954000" y="4185720"/>
            <a:ext cx="0" cy="274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73520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44664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7585200" y="4219560"/>
                <a:ext cx="1373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P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09560" y="3871800"/>
                <a:ext cx="800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1407960" y="3990960"/>
                <a:ext cx="932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3049560" y="3990960"/>
                <a:ext cx="1009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912960" y="4427640"/>
                <a:ext cx="79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714680" y="4427640"/>
                <a:ext cx="819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544840" y="397656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633760" y="4427640"/>
                <a:ext cx="876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494080" y="4541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511440" y="4508640"/>
                <a:ext cx="6476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 flipV="1">
            <a:off x="4195800" y="4185720"/>
            <a:ext cx="0" cy="2746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497664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6688080" y="431460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154400" y="4427640"/>
                <a:ext cx="798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956120" y="4427640"/>
                <a:ext cx="8193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786280" y="3976560"/>
                <a:ext cx="20988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877000" y="4427640"/>
                <a:ext cx="874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5735520" y="4541760"/>
                <a:ext cx="2113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6743880" y="4508640"/>
                <a:ext cx="6667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944880" y="3871800"/>
                <a:ext cx="8193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53000" y="3990960"/>
                <a:ext cx="9334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284880" y="3990960"/>
                <a:ext cx="10303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353200" y="2273400"/>
                <a:ext cx="20952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740560" y="170820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7215120" y="397656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365960" y="4541760"/>
                <a:ext cx="2113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5599080" y="2927520"/>
                <a:ext cx="27082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3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85800" y="833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Delay and Delay Variation Eval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81560" y="2195640"/>
            <a:ext cx="78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burst of data arrivals (as illustrated by arrow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zed by RVs    and     in the previous sli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a “message”, such as a user request, an web obje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n embedded web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711600" y="2631960"/>
                <a:ext cx="2271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417920" y="2624040"/>
                <a:ext cx="400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79" name=""/>
          <p:cNvSpPr/>
          <p:nvPr/>
        </p:nvSpPr>
        <p:spPr>
          <a:xfrm>
            <a:off x="777600" y="3824280"/>
            <a:ext cx="796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ssage is “meaningful” to the user only after the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rst of data arrivals has been recei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79040" y="4718160"/>
            <a:ext cx="78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and delay variation should be evaluated with respec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s, instead of “frames” into which messages m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m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19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17480" y="1766880"/>
            <a:ext cx="82137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rves as a starting common simulation scenario for evaluation of 802.11e QoS MAC propos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vides more details of the simulation scenario outlined as Model 3 in doc 196r2 for 11 Mbps home environ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s other simulation scenarios that are applicable to other PHY rates and operation environ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04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7480" y="1752480"/>
            <a:ext cx="82137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y of traffic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of traffic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ideo Conferenc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44520">
              <a:lnSpc>
                <a:spcPct val="100000"/>
              </a:lnSpc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458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Requests, Web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8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Transfers, Image Transf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458640">
              <a:lnSpc>
                <a:spcPct val="100000"/>
              </a:lnSpc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m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89120" y="36590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/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41400" y="575460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11360" y="385920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1680" y="3630600"/>
            <a:ext cx="17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 (Video Conferenc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84600" y="575460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84600" y="381168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41400" y="181116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84600" y="181116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88920" y="2287440"/>
            <a:ext cx="0" cy="145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2360" y="2868480"/>
            <a:ext cx="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69960" y="4421160"/>
            <a:ext cx="2202120" cy="14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79680" y="2077920"/>
            <a:ext cx="2095560" cy="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845000">
            <a:off x="2450160" y="49035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12920" y="2430360"/>
            <a:ext cx="0" cy="124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12720" y="2271600"/>
            <a:ext cx="0" cy="146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0400" y="2388240"/>
            <a:ext cx="3628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_Requests (L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69160" y="2374560"/>
            <a:ext cx="36288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_Objects (L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50920" y="4527720"/>
            <a:ext cx="0" cy="122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51080" y="4584600"/>
            <a:ext cx="0" cy="1193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9320" y="4564080"/>
            <a:ext cx="362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Requests (H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07160" y="4541040"/>
            <a:ext cx="3628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Objects (H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2560" y="2392200"/>
            <a:ext cx="0" cy="1414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22720" y="237024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0400" y="2430720"/>
            <a:ext cx="362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Transfers (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97880" y="2450880"/>
            <a:ext cx="3628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Transfers (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31960" y="4125960"/>
            <a:ext cx="1924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55880" y="38973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Emails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55640" y="435456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34640" y="4125960"/>
            <a:ext cx="159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_Emails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6332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imulation Scenario for 802.11B (11 Mbps Home Environment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98880" y="44118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31200" y="4830480"/>
            <a:ext cx="3628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15880" y="183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2400" y="2135160"/>
            <a:ext cx="16866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iority lev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40040" y="2135160"/>
            <a:ext cx="20430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-DCF mapp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560" y="5319720"/>
            <a:ext cx="343584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(dotted) links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le most of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34776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otal Traffic Source 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11240" y="3083040"/>
            <a:ext cx="35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individual rate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244520" y="3514680"/>
                <a:ext cx="4860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0920" y="3462480"/>
            <a:ext cx="46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ntrols rate proportions among data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243080" y="3905280"/>
                <a:ext cx="253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362600" y="3824280"/>
            <a:ext cx="384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controls aggregate data traffic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257480" y="4653000"/>
                <a:ext cx="3616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λ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λ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779040" y="2651040"/>
            <a:ext cx="7225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Traffic (Webs + Emai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File/Image Transf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12680" y="4167360"/>
            <a:ext cx="34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erage aggregate r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00" y="1106640"/>
            <a:ext cx="210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tal Traf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12680" y="1474920"/>
            <a:ext cx="34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Average aggregate r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08160" y="1973160"/>
                <a:ext cx="686268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PEG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kbps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PEG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at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kbp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249200" y="5192640"/>
                <a:ext cx="443412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bps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bps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6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  <m:r>
                          <m:t xml:space="preserve"> </m:t>
                        </m:r>
                        <m:r>
                          <m:t xml:space="preserve">@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bp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852880" y="5238720"/>
            <a:ext cx="184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580000" y="5288040"/>
                <a:ext cx="24624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44520" y="6137280"/>
                <a:ext cx="44611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  <m:r>
                      <m:t xml:space="preserve"> </m:t>
                    </m:r>
                    <m:r>
                      <m:t xml:space="preserve">@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bp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5794200" y="6091200"/>
            <a:ext cx="24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MPEG2 loa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50472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ome Heavy-Tailed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80" y="1749600"/>
            <a:ext cx="17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normal 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171440" y="2262240"/>
                <a:ext cx="41738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η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147680" y="2967120"/>
                <a:ext cx="67629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η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η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η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352600" y="1820880"/>
                <a:ext cx="32958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andard devi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436360" y="1749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840" y="421164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to 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139760" y="4867200"/>
                <a:ext cx="291636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b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111320" y="5313240"/>
                <a:ext cx="10080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αb</m:t>
                        </m:r>
                      </m:num>
                      <m:den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773360" y="4275000"/>
                <a:ext cx="1065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656440" y="4211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50472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re Heavy-Tailed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8960" y="17496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bull 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171440" y="2262240"/>
                <a:ext cx="3657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s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47600" y="3157560"/>
                <a:ext cx="39625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Γ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62000" y="1820880"/>
                <a:ext cx="3391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andard devi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150520" y="17496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42116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ma (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35080" y="4707000"/>
                <a:ext cx="3352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γ</m:t>
                            </m:r>
                          </m:sup>
                        </m:sSup>
                      </m:num>
                      <m:den>
                        <m:r>
                          <m:t xml:space="preserve">Γ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z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12760" y="5532480"/>
                <a:ext cx="20192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γ</m:t>
                        </m:r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92240" y="4273560"/>
                <a:ext cx="331308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an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tandard devi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112360" y="4211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708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Voice Traffic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5440" y="1728720"/>
            <a:ext cx="72957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ec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rate (in each direction) = 64 kb/s (C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-packet arrival time (to LLC) = 20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 and WEP overhead (per MSDU) = 4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3160" indent="-173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frame (MSDU) length = 20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23960" y="513072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911240" y="4868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935440" y="4868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989520" y="4868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1560" y="486864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39000" y="4854600"/>
                <a:ext cx="13716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535040" y="4635360"/>
                <a:ext cx="9493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08160" y="5129280"/>
                <a:ext cx="665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153040" y="522432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5540400" y="4730760"/>
                <a:ext cx="21096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089160" y="5129280"/>
                <a:ext cx="66528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14880" y="5129280"/>
                <a:ext cx="6649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27200" y="4635360"/>
                <a:ext cx="951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581280" y="4635360"/>
                <a:ext cx="951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4622760" y="4635360"/>
                <a:ext cx="9493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8222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Video Conferencing Traffic Models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Doc 34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5800" y="2171880"/>
            <a:ext cx="7352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rate (in each direction) = 98.4 kb/s (CB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arrival rate (to LLC) = 20 packets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 and WEP overhead (per MSDU) = 48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172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 frame (MSDU) length = 663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23960" y="557532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911240" y="5312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935440" y="5312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989520" y="5312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054760" y="531288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39000" y="5335560"/>
                <a:ext cx="1373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verage rate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bp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547640" y="5079960"/>
                <a:ext cx="9511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51000" y="5573880"/>
                <a:ext cx="66528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195880" y="5668920"/>
                <a:ext cx="209520" cy="1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583240" y="5175360"/>
                <a:ext cx="210960" cy="11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558880" y="5079960"/>
                <a:ext cx="9493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610080" y="5079960"/>
                <a:ext cx="9507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676760" y="5079960"/>
                <a:ext cx="95076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6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te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89240" y="5573880"/>
                <a:ext cx="66528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257720" y="5573880"/>
                <a:ext cx="66528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14:40:44Z</dcterms:created>
  <dc:creator>jinmengho</dc:creator>
  <dc:description/>
  <dc:language>en-US</dc:language>
  <cp:lastModifiedBy>jinmengho</cp:lastModifiedBy>
  <cp:lastPrinted>2000-11-03T21:22:42Z</cp:lastPrinted>
  <dcterms:modified xsi:type="dcterms:W3CDTF">2000-11-04T01:28:47Z</dcterms:modified>
  <cp:revision>72</cp:revision>
  <dc:subject/>
  <dc:title>No Slide Title</dc:title>
</cp:coreProperties>
</file>