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A12-CE56-46E3-BA60-B5A1306DE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3F7-9F81-44EA-9DE0-B0550DBC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4E29-D28D-45FA-885F-E68B6A1F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998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0724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095-0F48-4BF1-BF60-D0129AB77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4E32-3D56-443F-BDEF-DC71321E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994F-4DF4-4127-8D8E-7C0258C7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2DF5-2826-4B0A-B656-BDBB1F3A1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556-CE48-4C3E-BE65-F9444FCD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E84-FB02-4D49-9B0C-5BC675BB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267-3113-40D1-9F15-1EFEF3FA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072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815-192A-4857-8B8E-96B2462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9984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0724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2D2-E713-407A-9792-5624C1CB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61C262-422D-437B-AA41-727032FC1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ramework for Evaluating 5GHz P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F513-F9FC-409D-BC75-F844DC4D65D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 Lessons from 2.4G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wireless channel is inherently shared with all devices in a physical location -- i.e. there is only one “wire” that must be shared by all communications in a given hou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eting protocols in the same band, with similar capabilities (e.g. .11, Bluetooth, HomeRF) create many problem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ference, and the perception/fear of inter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reased volumes and increased costs due to fragment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ck of inter-operability, reducing the utility of devi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ket confusion that delays adoption of new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cost for multi-mode devices and supporting legacy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ing the above problems is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standards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we do better at 5GHz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A2C-E6EB-42D9-ABA5-1AE75779A77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Hz Opportunity and Per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urrently two primary types of WLAN standard compete in the 5.15-5.35 GHz band:  802.11a and Hiperlan2 (MMAC is similar to the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02.11a, Hiperlan2, MMAC, and 5GWLIAG are all working at creating a single worldwide standard by merging these stand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international regulatory recognition of 5GHz wireless networking, the industry must speak with one vo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wever, there are discussions of standardizing new types of systems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ith similar performance and capabilit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this ban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02.16 Fixed Wireless Ac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02.15 Personal Area Network (High Rate and Low Ra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omeRF MM? (most likely to operate at 2.4GHz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13CC-1B42-442D-931D-F7D8841F39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’s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ect the valuable resource of radio spectrum.  We can’t afford the luxury of competing standards -- Token ring and Ethernet PARs would never have been approved if they were intending to use the same wire at the same time!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oid proposals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o not hav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stinct identi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a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compati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ith existing standards in this band.  Currently, 802 standard proposals pose a great threat to themselv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 proactively.  Efforts to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cov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co-existence for competing, dissimilar MACs are costly, are unlikely to alleviate interference problems, and cannot achieve the other standardization bene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02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erving the industry or consumer well when it creates interfering standards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 same spectru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at would be used i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 same physical space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71B-6878-418F-9D4D-3054096A37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International Cons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60 corporations (5GWLIAG) documented concern that they cannot develop a WLAN market that is not international and is characterized by conflicting systems and protoco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industry and 802 are already struggling for coexistence among defined WLAN systems with differing MAC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TSI and ERC already allocated 5.15-5.35 GHz for indoor-only WLAN and BRAN opposes the use of 5.15-5.35 GHz for FW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aying new applications and protocols into designated 5GHz bands jeopardizes international allocations for WLA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equency spreading to accommodate WLAN users requires an adequate number of channels for spreading energ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15-5.35 GHz must be shared with primary satellite services.  Sharing studies assume indoor WLAN usa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042D-7D9F-46BA-955E-769F40E332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 to Reduce Interfer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 greater use and incremental extension of already defined standar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relatively little difference between the capabilities of 802.15.3 proposals and 802.11e/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ilarly, the 802.11e/a enhancements to 802.11 can most likely serve many of the 802.16 applications quite wel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 a partitioning of the spectrum.  Exampl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quest that new protocols for 802.16 use only licensed bands and the 5.725-5.825 GHz unlicensed b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courage 802.15 to stay in the 2.4 GHz b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rve the 5.15-5.35 GHz band for 802.11 W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F27-8306-41FD-9288-234FD63165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um Partitioning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GHz spectrum partitioning proposals similar to that shown below are  gaining consensus in international regulatory bodies and industry organiz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2870280"/>
            <a:ext cx="8001000" cy="344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requency (MHz)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150-535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oor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 mW EIRP maxim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470-5725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where allocated)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oor and outdoor nomadic access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725-582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door, Fixed Wireless Access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p to 4W EIRP, depending on reg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58128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5720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486400"/>
            <a:ext cx="800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2870280"/>
            <a:ext cx="0" cy="345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8993-C9A0-49C2-85FB-14DF5F594A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Unique Opport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oo late to save the 5GHz band from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some other organizations may create interfering standards in this band, 802 can take a leadership role in preserving its u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n opportunity to create an international standard by being consistent with allocations set out by ETSI/CEPT, and possibly ITU and other international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very least, 802 should not create interference problems with its own standard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hen,  Athe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54D6-7D73-4DD4-A2AB-5917B4741B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22:01:30Z</dcterms:created>
  <dc:creator>user</dc:creator>
  <dc:description/>
  <dc:language>en-US</dc:language>
  <cp:lastModifiedBy>Harry Worstell</cp:lastModifiedBy>
  <cp:lastPrinted>1998-02-10T13:28:06Z</cp:lastPrinted>
  <dcterms:modified xsi:type="dcterms:W3CDTF">2000-11-08T19:07:52Z</dcterms:modified>
  <cp:revision>31</cp:revision>
  <dc:subject/>
  <dc:title>No Slide Title</dc:title>
</cp:coreProperties>
</file>