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BCD-2520-418F-AAD9-C17F06CA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5957-8755-42C6-8C03-FC711C8A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90C-661F-4952-B1D1-5E85960E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2D3-9B49-46B0-BE31-C92CCF7D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3A4A-18CB-4030-8284-D0FD297D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C4C4-B50F-428A-A0A1-DD93F832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69B-A338-448F-9D03-886FDD05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E32B-1653-48A8-BFF7-AE5BF123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0BF-B9E7-474F-B94B-BE4B1D56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589-FF57-4927-ACF8-1969E72A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BC6-70A2-464F-BFAF-DD019CD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74F3-B998-4F9E-A7F5-C3F9294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97A709-47BD-48C2-8E92-2D87941FF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960" y="6475320"/>
            <a:ext cx="32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ramework Progress Update - Nov.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ulation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gress Update - Nov.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811B-0B47-4ECA-BECB-693A1625DA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our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tre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priority and destination pe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MPE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ream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Video Conferen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Multi-str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lf simila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on DCF only M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8A3-CFF6-4ECF-8AB0-8F4755C84E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688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24382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743200"/>
            <a:ext cx="24382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0920" y="3962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41911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5562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120" y="3048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6480" y="21337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5560" y="28954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3 - MP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4680" y="36576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0480" y="44197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6480" y="52578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6 -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6480" y="2819520"/>
            <a:ext cx="1924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Add 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Add Stream 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Add Stream 3 - M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Add Stream 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Add Stream 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 Add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196r3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706-FC28-443D-AB8D-953AC936BA1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03240" y="36021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5880" y="53546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5840" y="380196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17640" y="3573360"/>
            <a:ext cx="20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 0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99080" y="53546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9080" y="37544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5880" y="21542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21542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400" y="265896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2440" y="2811600"/>
            <a:ext cx="3628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3520" y="4363920"/>
            <a:ext cx="21430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3800" y="2420640"/>
            <a:ext cx="2095560" cy="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541400">
            <a:off x="3477240" y="475416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7400" y="2763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200" y="26208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2716200"/>
            <a:ext cx="36288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P_Data 1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3640" y="2716200"/>
            <a:ext cx="36288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P_Data 0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5400" y="4487760"/>
            <a:ext cx="0" cy="8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5200" y="451656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73800" y="4563720"/>
            <a:ext cx="3628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_Data 5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1640" y="4468320"/>
            <a:ext cx="3628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_Data 0_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7040" y="2773440"/>
            <a:ext cx="0" cy="98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7200" y="2744640"/>
            <a:ext cx="0" cy="10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880" y="2734560"/>
            <a:ext cx="362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_Data 2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2360" y="2915640"/>
            <a:ext cx="362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_Data 3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6440" y="406872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4320" y="38401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_3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70120" y="429732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4320" y="40687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_0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ified 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36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3360" y="4383000"/>
            <a:ext cx="0" cy="98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88520" y="4371840"/>
            <a:ext cx="362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 4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3120" y="21826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6320" y="2509920"/>
            <a:ext cx="170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_Data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_Data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_Data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51E6-A9AF-4DD2-9451-359CA77B881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2852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cenarios to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MACs to drop in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ver i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fts from origina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 vs 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/ ETSI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641-CD7D-449D-8A4D-3A6D285FCE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 Since Sept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# mtgs 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A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Che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ghyun Cho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lips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ini Kanda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ku Mo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Par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Rudn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Multi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Sal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hew Sherma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ew Showma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 Sing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Srinivasa Somayazul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haled Tur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erry Walr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s 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ttendance: 12+10+9+5+7 =4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Ave. # participants: 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821-EA03-4F1C-9C52-B0AE42EFA8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Prior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5r1: A Simulation Framework for Evaluation of 802.11 QoS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TGe Metrics &amp; Criteria ad hoc group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ocuments of Inte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0r2: September 20 Simulation Ad Hoc Group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4: Simulation Framework Progres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8 Simulation Model for PCF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9 Request for Guidance on Simul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documents of interest referenced in 00/265 and 00/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5CB-38B2-4CDB-A923-D1BC03942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ocument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2r4: Ongoing Simulation, Metrics, and Criteria Ad Hoc Group Minutes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9r1: Models for MPEG2 and Video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63: Traffic Descri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Status on 802.11 PCF model as of 11/6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NS Simulations (Gr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Khaled’s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4CC-BBB6-4D24-8FF4-67110F70F9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OPNET’s Wireless LAN October ‘00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/DCF M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00/0XXX for lates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date with current receiv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mpatible with October Baseline DCF                and Multi-sourc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and 802.11a versions plan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 Sour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8CC-090B-4B22-A779-E6CD8E4A9E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ource node / MAC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eparate per stream address and priority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MAC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, global, per stream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Self Similar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ge 21 of 00/0196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additional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7FBF-FA0E-42DF-BD62-BB60AA8383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 (October mod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s part of current OPNET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/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Matthew Sherman (mjsherman@at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under 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Greg Chesson (greg@athero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software on OPNET 802.11 FTP sit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s:   http://www.opnet.com/80211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name:    80211        Password: 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201-EF07-4391-8632-FE32D693C4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Status as of Sept.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d to create simulation framework (May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s to Apples comparison of QoS MAC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802.11 model fo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simulation tools - OPNET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i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development of source models and baseline MAC (PCF/DCF) models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&amp; Metrics document issued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/ Metrics and Criteria ad hocs merge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address turning Metrics &amp; Criteria into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C5D-ED0C-4F72-807E-69996E7DA9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irst “Completed” Scenario (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some “gluing” of pieces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econd scenario in works (Modified 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everal data streams to Mod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near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Enhanced statistics available in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p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, global, Per Stream, Jitter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nhancements in PCF MAC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 bur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C “twea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ize fix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ADE-8B5E-4D34-A5EA-4B5E3F9C36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Harry Worstell</cp:lastModifiedBy>
  <cp:lastPrinted>1998-02-10T13:28:06Z</cp:lastPrinted>
  <dcterms:modified xsi:type="dcterms:W3CDTF">2000-11-08T21:54:48Z</dcterms:modified>
  <cp:revision>28</cp:revision>
  <dc:subject/>
  <dc:title>PowerPoint Presentation</dc:title>
</cp:coreProperties>
</file>