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C4DC-0EE8-4D21-A617-5A2CE62B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A04-C432-48D8-B788-B83C7A1A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D04-1682-4B2B-9F49-73406725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141-7A92-41B9-B1BD-FB094069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829-136F-4713-B0ED-A549705F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240-1C7C-4042-8476-891F6630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D00-AD78-45A5-8F1A-DD5AA03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2F59-F0D4-4FF8-9C3B-50E669D7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7E1A-6741-4A15-84B0-FC452F1E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8F0E-0945-4D86-84C4-8F62B9F9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13A-34EB-4856-9640-ED4992D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E63-C259-40FD-BC1E-4EE2713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3687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AB8EE5-D346-4934-91D4-60AF128E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7960" y="6475320"/>
            <a:ext cx="32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ramework Progress Update - Nov.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ulation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gress Update - Nov.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6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4CD-7911-4669-84B8-4238549BA92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sour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trea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priority and destination pe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MPE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ream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 Video Conferen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existing Multi-strea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lf similar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on DCF only MA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41A1-1DD1-4F93-9E21-D89049246A6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688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24382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2743200"/>
            <a:ext cx="24382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0920" y="3962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41911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5562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120" y="3048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6480" y="21337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5560" y="28954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3 - MP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4680" y="365760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60480" y="44197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6480" y="525780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6 -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6480" y="2819520"/>
            <a:ext cx="1924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 Add 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: Add Stream 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: Add Stream 3 - M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: Add Stream 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: Add Stream 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: Add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196r3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985-F185-4495-96D1-156C167EDED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33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ified 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36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120" y="36590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414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11360" y="385920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1680" y="363060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 (Video Conferenc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846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84600" y="381168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14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846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8920" y="2287440"/>
            <a:ext cx="0" cy="145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2360" y="2868480"/>
            <a:ext cx="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960" y="4421160"/>
            <a:ext cx="2202120" cy="14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579680" y="2077920"/>
            <a:ext cx="2095560" cy="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845000">
            <a:off x="2450160" y="49035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2920" y="2430360"/>
            <a:ext cx="0" cy="124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12720" y="2271600"/>
            <a:ext cx="0" cy="146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0400" y="2388240"/>
            <a:ext cx="3628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Reques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9160" y="2374560"/>
            <a:ext cx="36288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Objec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50920" y="4527720"/>
            <a:ext cx="0" cy="122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51080" y="458460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9320" y="456408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Reques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7160" y="4541040"/>
            <a:ext cx="3628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Objec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2560" y="2392200"/>
            <a:ext cx="0" cy="1414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22720" y="237024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0400" y="243072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97880" y="2450880"/>
            <a:ext cx="3628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31960" y="4125960"/>
            <a:ext cx="1924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5880" y="38973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5640" y="435456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4640" y="412596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_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8880" y="44118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1200" y="4830480"/>
            <a:ext cx="3628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15880" y="183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2400" y="2135160"/>
            <a:ext cx="16866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iority lev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40040" y="2135160"/>
            <a:ext cx="20430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-DCF mapp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560" y="5319720"/>
            <a:ext cx="343584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(dotted) links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le most of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F20-C038-49F7-83A5-AD686E7D31B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2852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cenarios to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MACs to drop in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ver in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fts from origina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ario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 vs 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/ ETSI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7CA-6B96-4861-B0DE-8F7CB168C93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nts Since Sept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ipa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n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# mtgs 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ith A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alin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Ches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nghyun Cho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lips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n-Meng 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ini Kanda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Kowal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ku Mo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Par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e Rudni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Multime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Salm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hew Sherma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ew Showma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n Sing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.Srinivasa Somayazul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haled Tur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erry Walr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ips 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ttendance: 12+10+9+5+7 =4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Ave. # participants: 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D0C-E406-42DF-88FA-24F2845E6B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Prior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265r1: A Simulation Framework for Evaluation of 802.11 QoS MAC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TGe Metrics &amp; Criteria ad hoc group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ocuments of Inter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0r2: September 20 Simulation Ad Hoc Group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4: Simulation Framework Progres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8 Simulation Model for PCF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9 Request for Guidance on Simul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documents of interest referenced in 00/265 and 00/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C64-9CEC-4F03-9DC4-F43F5C5F8C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Documents of 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2r4: Ongoing Simulation, Metrics, and Criteria Ad Hoc Group Minutes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9r1: Models for MPEG2 and Video Confer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63: Traffic Descrip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802.11E Performance Si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73: 802.11 PCF Model Progress Update Nov 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99: Baseline D-QoS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3988-1DFC-4FC1-BB4C-B64EFDC764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OPNET’s Wireless LAN October ‘00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/DCF M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00/0373 for lates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date with current receiv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mpatible with October Baseline DCF                and Multi-sourc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and 802.11a versions plan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 Sour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1EF-C9A7-46FD-A89D-C5BE74DF27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source node / MAC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eparate per stream address and priority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MAC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, global, per stream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for Self Similar Packe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age 21 of 00/0196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additional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op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E66F-97B3-4B7F-B8DB-A5782B4B7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 (October mode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as part of current OPNET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/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Matthew Sherman (mjsherman@att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under 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Greg Chesson (greg@atheros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software on OPNET 802.11 FTP sit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s:   http://www.opnet.com/80211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name:    80211        Password:  w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AB4C-25F8-4583-B196-DE687636F3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Status as of Sept.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d to create simulation framework (May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s to Apples comparison of QoS MAC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802.11 model fo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simulation tools - OPNET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work i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development of source models and baseline MAC (PCF/DCF) models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&amp; Metrics document issued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/ Metrics and Criteria ad hocs merge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o address turning Metrics &amp; Criteria into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B99-BA3F-4184-8271-1DEE811804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first “Completed” Scenario (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some “gluing” of pieces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second scenario in works (Modified 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everal data streams to Mod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near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ly Enhanced statistics available in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p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, global, Per Stream, Jitter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enhancements in PCF MAC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 burst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MAC “twea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ize fix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8E0-B6D3-495B-9670-B528A853AC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mjsherman</cp:lastModifiedBy>
  <cp:lastPrinted>1998-02-10T13:28:06Z</cp:lastPrinted>
  <dcterms:modified xsi:type="dcterms:W3CDTF">2000-11-09T15:44:40Z</dcterms:modified>
  <cp:revision>29</cp:revision>
  <dc:subject/>
  <dc:title>PowerPoint Presentation</dc:title>
</cp:coreProperties>
</file>