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B5348EC-6E8D-440C-A844-E6A34127E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values /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mode - Total /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values /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mode - Total /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values /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mode - Total /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values /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mode - Total /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values /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mode - Total /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values /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mode - Total /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values /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mode - Total /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MAC entry till Successful delivery (but includes A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Mode - Sample mean - Average does not show peak de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investigate Gaps in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values /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mode - Total /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Beacon coll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data synchronization / post backoff when Medium I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values /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mode - Total /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values /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mode - Total /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Beacon coll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data synchronization / post backoff when Medium I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values /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on mode - Total /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FC5E-8FB0-4362-95DE-AACF065B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ED6E-57B9-49B7-8529-C9ED7879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B2B-20EA-48A9-8F9D-45E7E31A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BC7B-0CE4-4581-B0A7-7E0BA6A4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D3F-6946-47F8-844A-32110339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B828-CA46-43C3-A9F5-3A18444D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C00-762A-419F-968A-0359CED5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5A9-B54A-469E-B492-06B70996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EE7-1675-4C83-8A92-FD3E7168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2ED5-BA6C-4921-ABBC-FF26FEE8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30E8-EABB-4AA3-8DEB-CEAE12BC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64E-1B37-497C-BC62-8FA3B6FE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11908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71680" y="6474960"/>
            <a:ext cx="2638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Sherman, AT&amp;T Labs -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C21A261-FB15-4B7D-A094-BCCE57A64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440" y="6475320"/>
            <a:ext cx="284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1 PCF Model Progress Update Nov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PCF Model Progress Update Nov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ho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thew Sher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&amp;T Labs -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0 Park Aven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rham Park, NJ  079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73-236-67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jsherman@at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57150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November 8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23F5-8997-45CB-90D7-D699A0B8D35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t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6240" y="60199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3680" y="60199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086360" cy="4410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4086360" cy="441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A49C-E292-40B8-BF1C-E1C27A7AF4B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t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713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values / bin in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s of values (100) are processed at a time to generate displayed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tats are aggregate values across all str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ay is time from when packet queued in MAC until final Ack indicating successful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is traffic presented to MAC from upper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 Access Delay is time from packet queued in MAC until first access of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put is traffic forwarded to upper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s dropped self explan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E7E1-E8F3-4FBD-97A7-C6BD4E17EB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tats -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F outperforming DCF from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acket drops on DCF, none on P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F delays 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effects of Bulk data kick in at 10 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number of packet d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s start getting really b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put on PCF increases slightly when Bulk data st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put on DCF seems to slightly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retrys / back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12E0-B065-453C-8EC4-8933264074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opped Pa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2833920" cy="45781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977400" y="182880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77400" y="223524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77400" y="26416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8880" y="304812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o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8560" y="345456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k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60480" y="38606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7880" y="426708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 Con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7880" y="46735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 Con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8360" y="507996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P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5486400"/>
            <a:ext cx="7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3440" y="60199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2833920" cy="4578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98760" y="60199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D44-CF2A-465D-B162-03CC494E1E5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opped Pa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ly see that DCF is dropping MPEG traffic almost from the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ly running out of buffer r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Bulk data starts, DCF drops even more MPEG and bulk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other data affected (in first 20 s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eo conferencing is affected in longer simulations (&gt;30 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ms to be function of overall rate (buffer ro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F drops bulk data but nothing 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drops lowest priority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ll QoS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1A68-8042-4974-B7B9-21BBF329D0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ransmission Attem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4840" y="60199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8760" y="60199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281400" cy="4565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143000" y="1447920"/>
            <a:ext cx="3281400" cy="456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8F0-739B-45B9-AF6D-17BF870ADDC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ransmission Attem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antial retransmission activity for D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 Data has no obvious effects on r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um already satu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ansmissions consume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etransmissions required in PC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 and Ex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cy advantage over D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C51A-FAA8-4189-990B-FFE9F9F440C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Del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77400" y="182880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7400" y="223524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77400" y="26416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8880" y="304812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o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8560" y="3454560"/>
            <a:ext cx="80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k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0480" y="38606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7880" y="426708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 Con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7880" y="46735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deo Con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8360" y="507996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P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5486400"/>
            <a:ext cx="7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93440" y="60199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8760" y="60199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52880" y="1447920"/>
            <a:ext cx="2833920" cy="4578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2833920" cy="457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9B0A-B760-4722-A1D2-92BCE97BD34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Del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F packet delays very stable and well bounded on all streams but bulk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maintain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ecially true for 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dependence on polling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CF shows substantially greater delay variation in all strea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EG already degra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 Conferencing and Audio hit hard by bulk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 is not maint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s sharing AP with Bulk data hit hard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2DDC-4B3C-4303-B51A-1C8A9818860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 Trace - Synchroniz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04840" y="1295280"/>
            <a:ext cx="693432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078352 -Hs     6 -Hd -2 -Ni     6 -Nx  -53.26 -Ny  24.91 -Nz 100.00 -Ne -1.000000 -Nl MAC -Nw --- -Na     0 -Md     5 -Ms    6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078464 -Hs     6 -Hd -2 -Ni     6 -Nx  -53.26 -Ny  24.91 -Nz 100.00 -Ne -1.000000 -Nl MAC -Nw --- -Na     0 -Md     5 -Ms    6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78465 -Hs     0 -Hd -2 -Ni     0 -Nx  -53.26 -Ny  24.91 -Nz 100.00 -Ne -1.000000 -Nl MAC -Nw --- -Na     0 -Md     5 -Ms   -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78465 -Hs     5 -Hd -2 -Ni     5 -Nx  -53.26 -Ny  24.91 -Nz 100.00 -Ne -1.000000 -Nl MAC -Nw --- -Na     0 -Md     5 -Ms   -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78465 -Hs     4 -Hd -2 -Ni     4 -Nx  -53.26 -Ny  24.91 -Nz 100.00 -Ne -1.000000 -Nl MAC -Nw --- -Na     0 -Md     5 -Ms   -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78465 -Hs     2 -Hd -2 -Ni     2 -Nx  -53.26 -Ny  24.91 -Nz 100.00 -Ne -1.000000 -Nl MAC -Nw --- -Na     0 -Md     5 -Ms   -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78465 -Hs     3 -Hd -2 -Ni     3 -Nx  -53.26 -Ny  24.91 -Nz 100.00 -Ne -1.000000 -Nl MAC -Nw --- -Na     0 -Md     5 -Ms   -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78465 -Hs     1 -Hd -2 -Ni     1 -Nx  -53.26 -Ny  24.91 -Nz 100.00 -Ne -1.000000 -Nl MAC -Nw --- -Na     0 -Md     5 -Ms   -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080000 -Hs     0 -Hd -2 -Ni     0 -Nx  -53.26 -Ny  24.91 -Nz 100.00 -Ne -1.000000 -Nl MAC -Nw --- -Na     0 -Md    -1 -Ms    0 -Mt  WlanC_Be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080000 -Hs     1 -Hd -2 -Ni     1 -Nx  -53.26 -Ny  24.91 -Nz 100.00 -Ne -1.000000 -Nl MAC -Nw --- -Na   123 -Md     2 -Ms    1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080000 -Hs     2 -Hd -2 -Ni     2 -Nx  -53.26 -Ny  24.91 -Nz 100.00 -Ne -1.000000 -Nl MAC -Nw --- -Na   123 -Md     1 -Ms    2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080000 -Hs     3 -Hd -2 -Ni     3 -Nx  -53.26 -Ny  24.91 -Nz 100.00 -Ne -1.000000 -Nl MAC -Nw --- -Na   123 -Md     0 -Ms    3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080087 -Hs     1 -Hd -2 -Ni     1 -Nx  -53.26 -Ny  24.91 -Nz 100.00 -Ne -1.000000 -Nl MAC -Nw --- -Na   123 -Md     2 -Ms    1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080087 -Hs     2 -Hd -2 -Ni     2 -Nx  -53.26 -Ny  24.91 -Nz 100.00 -Ne -1.000000 -Nl MAC -Nw --- -Na   123 -Md     1 -Ms    2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080087 -Hs     3 -Hd -2 -Ni     3 -Nx  -53.26 -Ny  24.91 -Nz 100.00 -Ne -1.000000 -Nl MAC -Nw --- -Na   123 -Md     0 -Ms    3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 -t  0.080087 -Hs     3 -Hd -2 -Ni     3 -Nx  -53.26 -Ny  24.91 -Nz 100.00 -Ne -1.000000 -Nl MAC -Nw --- -Na     0 -Md     2 -Ms    1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 -t  0.080087 -Hs     1 -Hd -2 -Ni     1 -Nx  -53.26 -Ny  24.91 -Nz 100.00 -Ne -1.000000 -Nl MAC -Nw --- -Na     0 -Md     0 -Ms    3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 -t  0.080087 -Hs     0 -Hd -2 -Ni     0 -Nx  -53.26 -Ny  24.91 -Nz 100.00 -Ne -1.000000 -Nl MAC -Nw --- -Na     0 -Md     1 -Ms    2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 -t  0.080087 -Hs     4 -Hd -2 -Ni     4 -Nx  -53.26 -Ny  24.91 -Nz 100.00 -Ne -1.000000 -Nl MAC -Nw --- -Na     0 -Md     0 -Ms    3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 -t  0.080088 -Hs     5 -Hd -2 -Ni     5 -Nx  -53.26 -Ny  24.91 -Nz 100.00 -Ne -1.000000 -Nl MAC -Nw --- -Na     0 -Md     0 -Ms    3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080504 -Hs     0 -Hd -2 -Ni     0 -Nx  -53.26 -Ny  24.91 -Nz 100.00 -Ne -1.000000 -Nl MAC -Nw --- -Na     0 -Md     1 -Ms    2 -Mt  WlanC_Be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 -t  0.080504 -Hs     2 -Hd -2 -Ni     2 -Nx  -53.26 -Ny  24.91 -Nz 100.00 -Ne -1.000000 -Nl MAC -Nw --- -Na     0 -Md    -1 -Ms    0 -Mt  WlanC_Be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 -t  0.080504 -Hs     6 -Hd -2 -Ni     6 -Nx  -53.26 -Ny  24.91 -Nz 100.00 -Ne -1.000000 -Nl MAC -Nw --- -Na     0 -Md    -1 -Ms    0 -Mt  WlanC_Be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081074 -Hs     2 -Hd -2 -Ni     2 -Nx  -53.26 -Ny  24.91 -Nz 100.00 -Ne -1.000000 -Nl MAC -Nw --- -Na   123 -Md     1 -Ms    2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081161 -Hs     2 -Hd -2 -Ni     2 -Nx  -53.26 -Ny  24.91 -Nz 100.00 -Ne -1.000000 -Nl MAC -Nw --- -Na   123 -Md     1 -Ms    2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81162 -Hs     0 -Hd -2 -Ni     0 -Nx  -53.26 -Ny  24.91 -Nz 100.00 -Ne -1.000000 -Nl MAC -Nw --- -Na   123 -Md     1 -Ms    2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81162 -Hs     1 -Hd -2 -Ni     1 -Nx  -53.26 -Ny  24.91 -Nz 100.00 -Ne -1.000000 -Nl MAC -Nw --- -Na   123 -Md     1 -Ms    2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81162 -Hs     3 -Hd -2 -Ni     3 -Nx  -53.26 -Ny  24.91 -Nz 100.00 -Ne -1.000000 -Nl MAC -Nw --- -Na   123 -Md     1 -Ms    2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81162 -Hs     6 -Hd -2 -Ni     6 -Nx  -53.26 -Ny  24.91 -Nz 100.00 -Ne -1.000000 -Nl MAC -Nw --- -Na   123 -Md     1 -Ms    2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81162 -Hs     4 -Hd -2 -Ni     4 -Nx  -53.26 -Ny  24.91 -Nz 100.00 -Ne -1.000000 -Nl MAC -Nw --- -Na   123 -Md     1 -Ms    2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81162 -Hs     5 -Hd -2 -Ni     5 -Nx  -53.26 -Ny  24.91 -Nz 100.00 -Ne -1.000000 -Nl MAC -Nw --- -Na   123 -Md     1 -Ms    2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081172 -Hs     1 -Hd -2 -Ni     1 -Nx  -53.26 -Ny  24.91 -Nz 100.00 -Ne -1.000000 -Nl MAC -Nw --- -Na     0 -Md     2 -Ms    1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081284 -Hs     1 -Hd -2 -Ni     1 -Nx  -53.26 -Ny  24.91 -Nz 100.00 -Ne -1.000000 -Nl MAC -Nw --- -Na     0 -Md     2 -Ms    1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81284 -Hs     3 -Hd -2 -Ni     3 -Nx  -53.26 -Ny  24.91 -Nz 100.00 -Ne -1.000000 -Nl MAC -Nw --- -Na     0 -Md     2 -Ms   -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81284 -Hs     4 -Hd -2 -Ni     4 -Nx  -53.26 -Ny  24.91 -Nz 100.00 -Ne -1.000000 -Nl MAC -Nw --- -Na     0 -Md     2 -Ms   -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81284 -Hs     2 -Hd -2 -Ni     2 -Nx  -53.26 -Ny  24.91 -Nz 100.00 -Ne -1.000000 -Nl MAC -Nw --- -Na     0 -Md     2 -Ms   -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81284 -Hs     0 -Hd -2 -Ni     0 -Nx  -53.26 -Ny  24.91 -Nz 100.00 -Ne -1.000000 -Nl MAC -Nw --- -Na     0 -Md     2 -Ms   -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81284 -Hs     5 -Hd -2 -Ni     5 -Nx  -53.26 -Ny  24.91 -Nz 100.00 -Ne -1.000000 -Nl MAC -Nw --- -Na     0 -Md     2 -Ms   -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 -t  0.081284 -Hs     6 -Hd -2 -Ni     6 -Nx  -53.26 -Ny  24.91 -Nz 100.00 -Ne -1.000000 -Nl MAC -Nw --- -Na     0 -Md     2 -Ms   -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C3E2-AE91-4524-9E15-2E3A033AAD9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/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2852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or descriptions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264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318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F model developed by AT&amp;T L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ion still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mping off point for MAC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available under NDA from AT&amp;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come part of OPNET Standard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ual contributed model with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NDA for contributed mo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DB80-DCB8-4D2F-8006-15DC0D32841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Trace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 compat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letter is event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52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: packet Tx 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52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: packet Tx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52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: packet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52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: packet dr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 indicates simulation time (rounded to micros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s is observing (reporting) station addr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a is Duration fie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d is packet destin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s is packet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type at end of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69A-FC07-481D-BA5D-4546900A897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 Trace - Synchronize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packet collision is common in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 to beacon all STA have completed post-back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rame generated in sources at 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voice calls have identic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ynchronized with Bea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sions could be avoided by phasing sources to discourage simultaneous trigg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network synchro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devices in real network become synchronized so that this becomes a common probl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0C3C-7905-4F06-8ECA-F4A03DCD91A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 Trace - Delayed Beac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04840" y="1676520"/>
            <a:ext cx="69343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118858 -Hs     0 -Hd -2 -Ni     0 -Nx  -53.26 -Ny  24.91 -Nz 100.00 -Ne -1.000000 -Nl MAC -Nw --- -Na   123 -Md     4 -Ms    0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119943 -Hs     0 -Hd -2 -Ni     0 -Nx  -53.26 -Ny  24.91 -Nz 100.00 -Ne -1.000000 -Nl MAC -Nw --- -Na   123 -Md     4 -Ms    0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119954 -Hs     4 -Hd -2 -Ni     4 -Nx  -53.26 -Ny  24.91 -Nz 100.00 -Ne -1.000000 -Nl MAC -Nw --- -Na     0 -Md     0 -Ms    4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120066 -Hs     4 -Hd -2 -Ni     4 -Nx  -53.26 -Ny  24.91 -Nz 100.00 -Ne -1.000000 -Nl MAC -Nw --- -Na     0 -Md     0 -Ms    4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120337 -Hs     5 -Hd -2 -Ni     5 -Nx  -53.26 -Ny  24.91 -Nz 100.00 -Ne -1.000000 -Nl MAC -Nw --- -Na   123 -Md     6 -Ms    5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121451 -Hs     5 -Hd -2 -Ni     5 -Nx  -53.26 -Ny  24.91 -Nz 100.00 -Ne -1.000000 -Nl MAC -Nw --- -Na   123 -Md     6 -Ms    5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121461 -Hs     6 -Hd -2 -Ni     6 -Nx  -53.26 -Ny  24.91 -Nz 100.00 -Ne -1.000000 -Nl MAC -Nw --- -Na     0 -Md     5 -Ms    6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121573 -Hs     6 -Hd -2 -Ni     6 -Nx  -53.26 -Ny  24.91 -Nz 100.00 -Ne -1.000000 -Nl MAC -Nw --- -Na     0 -Md     5 -Ms    6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121684 -Hs     3 -Hd -2 -Ni     3 -Nx  -53.26 -Ny  24.91 -Nz 100.00 -Ne -1.000000 -Nl MAC -Nw --- -Na   123 -Md     0 -Ms    3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121771 -Hs     3 -Hd -2 -Ni     3 -Nx  -53.26 -Ny  24.91 -Nz 100.00 -Ne -1.000000 -Nl MAC -Nw --- -Na   123 -Md     0 -Ms    3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121782 -Hs     0 -Hd -2 -Ni     0 -Nx  -53.26 -Ny  24.91 -Nz 100.00 -Ne -1.000000 -Nl MAC -Nw --- -Na     0 -Md     3 -Ms    0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121894 -Hs     0 -Hd -2 -Ni     0 -Nx  -53.26 -Ny  24.91 -Nz 100.00 -Ne -1.000000 -Nl MAC -Nw --- -Na     0 -Md     3 -Ms    0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121965 -Hs     1 -Hd -2 -Ni     1 -Nx  -53.26 -Ny  24.91 -Nz 100.00 -Ne -1.000000 -Nl MAC -Nw --- -Na   123 -Md     2 -Ms    1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122052 -Hs     1 -Hd -2 -Ni     1 -Nx  -53.26 -Ny  24.91 -Nz 100.00 -Ne -1.000000 -Nl MAC -Nw --- -Na   123 -Md     2 -Ms    1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122062 -Hs     2 -Hd -2 -Ni     2 -Nx  -53.26 -Ny  24.91 -Nz 100.00 -Ne -1.000000 -Nl MAC -Nw --- -Na     0 -Md     1 -Ms    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122174 -Hs     2 -Hd -2 -Ni     2 -Nx  -53.26 -Ny  24.91 -Nz 100.00 -Ne -1.000000 -Nl MAC -Nw --- -Na     0 -Md     1 -Ms    2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122265 -Hs     4 -Hd -2 -Ni     4 -Nx  -53.26 -Ny  24.91 -Nz 100.00 -Ne -1.000000 -Nl MAC -Nw --- -Na   123 -Md     0 -Ms    4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123350 -Hs     4 -Hd -2 -Ni     4 -Nx  -53.26 -Ny  24.91 -Nz 100.00 -Ne -1.000000 -Nl MAC -Nw --- -Na   123 -Md     0 -Ms    4 -Mt  WlanC_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123360 -Hs     0 -Hd -2 -Ni     0 -Nx  -53.26 -Ny  24.91 -Nz 100.00 -Ne -1.000000 -Nl MAC -Nw --- -Na     0 -Md     4 -Ms    0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123472 -Hs     0 -Hd -2 -Ni     0 -Nx  -53.26 -Ny  24.91 -Nz 100.00 -Ne -1.000000 -Nl MAC -Nw --- -Na     0 -Md     4 -Ms    0 -Mt  WlanC_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 -t  0.123623 -Hs     0 -Hd -2 -Ni     0 -Nx  -53.26 -Ny  24.91 -Nz 100.00 -Ne -1.000000 -Nl MAC -Nw --- -Na     0 -Md    -1 -Ms    0 -Mt  WlanC_Be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x -t  0.124127 -Hs     0 -Hd -2 -Ni     0 -Nx  -53.26 -Ny  24.91 -Nz 100.00 -Ne -1.000000 -Nl MAC -Nw --- -Na     0 -Md    -1 -Ms    0 -Mt  WlanC_Be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CED9-2DD3-4533-A883-F2799B06BF0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 Trace - Delayed Beac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CF, Beacon is required to follow DCF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ack off and defer like any other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imulations backoff and deference can cause Beacon to be delayed beyond TBTT by several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case delayed 9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ed roughly 3.6 millisec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wrong, but interesting to obser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nstrates utility of t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E1BE-9608-4F0D-87DF-B803419F5B0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s Since Sept ‘00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132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 more_data bit in frame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F use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lined frame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packet formats call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5920" indent="-17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an_mac_pc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5920" indent="-17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an_control_pc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all possible fields that might be needed for data / management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 Control Frame fields since some irrelev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 to beacon header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 by 6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busy / SIFS f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busy now ignored during S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215-04EC-4899-8FDC-9D83BB04C8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s Since Sept ‘00 Meeting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frame timeout for PCF side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was not waiting long enough for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FS f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still being set in NAV for som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F Duration field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setting to 0 rather than 327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 NAV reset at start of CF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reconsider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 to reset NAV for CF_END for all BSSs or only own B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 Compatible trace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to October models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AB2-8B68-49BF-BD68-0E45355F53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s Since Sept ‘00 Meeting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132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rted Retry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 frame type, duration filed, trace inf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ed support for multi-sourc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host Packet” and other receiver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BTT overrun f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 packet size f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cast packet CW reset f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gment train before Beacon F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us other minor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F poll flag fi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PCF active flag was set by mis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2D0E-6C80-4807-BBF0-5AD4BA5000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cenario Simula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most current “Model 3 Scenari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d Video Conference packet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s were too l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bulk traffic stream 10 sec into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d system beyond channel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es assigned to favor higher priority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resses used as AID by poll schedu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update scenario to final “Model 3” once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EG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ize Video Conference and data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6D6B-63F9-4C93-9ADF-A7F3E06DD5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NET Sce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1295280"/>
          <a:ext cx="815328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95280"/>
                    <a:ext cx="815328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8D49-A52A-4C21-B455-52187264778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42880" y="1600200"/>
            <a:ext cx="3724200" cy="3295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800600" y="1600200"/>
            <a:ext cx="3724200" cy="2152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800600" y="3886200"/>
            <a:ext cx="3724200" cy="164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E9F3-D481-4EDF-BC8B-E90BB866DB0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ffic 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04920" y="1219320"/>
          <a:ext cx="8534160" cy="4997160"/>
        </p:xfrm>
        <a:graphic>
          <a:graphicData uri="http://schemas.openxmlformats.org/drawingml/2006/table">
            <a:tbl>
              <a:tblPr/>
              <a:tblGrid>
                <a:gridCol w="711000"/>
                <a:gridCol w="706680"/>
                <a:gridCol w="868320"/>
                <a:gridCol w="914400"/>
                <a:gridCol w="1371600"/>
                <a:gridCol w="914400"/>
                <a:gridCol w="761760"/>
                <a:gridCol w="914400"/>
                <a:gridCol w="685800"/>
                <a:gridCol w="68580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rce Add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 State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 State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arrival 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et Size (Byt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p Time (Se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tination Add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of 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eam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form (0.08333,0.2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son (0.0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form (0.08333,0.2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3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gnormal (0.01136, 0.0000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son (0.00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F1B4-4E39-48B4-9EEF-B1C1FDF28AC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01:50:24Z</dcterms:created>
  <dc:creator>mjsherman</dc:creator>
  <dc:description/>
  <dc:language>en-US</dc:language>
  <cp:lastModifiedBy>Harry Worstell</cp:lastModifiedBy>
  <cp:lastPrinted>1998-02-10T13:28:06Z</cp:lastPrinted>
  <dcterms:modified xsi:type="dcterms:W3CDTF">2000-11-08T21:59:17Z</dcterms:modified>
  <cp:revision>36</cp:revision>
  <dc:subject/>
  <dc:title>PowerPoint Presentation</dc:title>
</cp:coreProperties>
</file>