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476-D5BC-4E8F-8C80-CB508A6F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D17-458D-4B09-B9E1-2D3613A7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E84-8562-4DBD-8EFA-35875CB0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5101-8D15-4934-B613-328DBC1E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585-F906-471E-885D-2C5C838F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91F6-807D-4E0C-ADD9-2BB55DF9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BA8-A87F-4200-820B-7FF0D7D9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3E-7036-472F-9BB8-3A66702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512-D239-42F7-A024-49E047F5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8D0-33AE-4AD8-86B1-82E29905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ACE-28D2-4B9A-B5F2-40F6BAFD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67A-68E4-4D3B-95FB-40BE2529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F483C8-673A-4610-9EB2-F442DAD6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 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5v has been forwarded to Rev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d submitted to Sponsor Bal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 issue left untou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motion to purchase 3 more proje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to work issue of fre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eliminate paper at tutorials was made and tabled pending discussion at W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20B1-0BFF-4E29-86C6-982C74FC68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ed 802 hosted interims-will be addressed at join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2k+1 CD available Wednesday to Voting members of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Warning for Hilton Head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D projectors must be turned off with power button and allowed to cool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ndayExcom Meeting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457C-15BF-4369-9662-D6B73C38F7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06:24:01Z</dcterms:created>
  <dc:creator>Robert F. Heile</dc:creator>
  <dc:description>00/339r0</dc:description>
  <dc:language>en-US</dc:language>
  <cp:lastModifiedBy>Stuart J. Kerry</cp:lastModifiedBy>
  <cp:lastPrinted>2000-03-05T01:29:49Z</cp:lastPrinted>
  <dcterms:modified xsi:type="dcterms:W3CDTF">2000-11-06T15:38:27Z</dcterms:modified>
  <cp:revision>83</cp:revision>
  <dc:subject>IEEE 802.15 &lt;subject&gt;</dc:subject>
  <dc:title>Nov00 Report on Monday Excom Meeting</dc:title>
</cp:coreProperties>
</file>