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600-767C-4517-AF5B-68BA7F90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C3A-6581-407B-B7EF-313125E5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914C-EE81-4EB5-807F-F800DF44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8D7E-3D77-4F5C-B38F-B2CDA81F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25E-6B32-43DB-AE44-9B0F1574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2B9-8D39-461C-AD0A-8A3B3A71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78E-99E6-4CED-A0EA-8F14377B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93D-002E-42C8-B4AD-CD130FC8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F47E-C277-464C-9111-900A5695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4A0-4044-4228-8300-7DBF0648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940-8EEA-4436-839B-AE61F94B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83B-25F8-47C7-8764-78AD7DC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B447B1C-344E-41FE-900B-8E7519577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ered Contention’, A QoS-Based Distributed Medium Access Control Protocol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hilde Benven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&amp;T Labs,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731-8B06-4AD3-B162-656F058BA2F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cheduling by ‘urgency class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4191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scheduling algorithm assigns the pending packet (in the access buffer) an ‘urgency class’ at each n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des access the channel in the order of decreasing urgency class of their access-buffer pac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meet delay requirements, packet fragmentation is assumed because of non-preemptive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67000" y="3581280"/>
            <a:ext cx="33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ority of packet in access buffer C &gt; B &gt;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4560" y="1454040"/>
            <a:ext cx="4915440" cy="1936800"/>
            <a:chOff x="2284560" y="1454040"/>
            <a:chExt cx="4915440" cy="1936800"/>
          </a:xfrm>
        </p:grpSpPr>
        <p:sp>
          <p:nvSpPr>
            <p:cNvPr id="51" name=""/>
            <p:cNvSpPr/>
            <p:nvPr/>
          </p:nvSpPr>
          <p:spPr>
            <a:xfrm>
              <a:off x="4019400" y="1720800"/>
              <a:ext cx="835200" cy="4460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0520" y="1827360"/>
              <a:ext cx="1658880" cy="261720"/>
            </a:xfrm>
            <a:custGeom>
              <a:avLst/>
              <a:gdLst/>
              <a:ahLst/>
              <a:rect l="l" t="t" r="r" b="b"/>
              <a:pathLst>
                <a:path w="1045" h="165">
                  <a:moveTo>
                    <a:pt x="784" y="0"/>
                  </a:moveTo>
                  <a:lnTo>
                    <a:pt x="784" y="40"/>
                  </a:lnTo>
                  <a:lnTo>
                    <a:pt x="0" y="40"/>
                  </a:lnTo>
                  <a:lnTo>
                    <a:pt x="0" y="124"/>
                  </a:lnTo>
                  <a:lnTo>
                    <a:pt x="784" y="124"/>
                  </a:lnTo>
                  <a:lnTo>
                    <a:pt x="784" y="165"/>
                  </a:lnTo>
                  <a:lnTo>
                    <a:pt x="1045" y="82"/>
                  </a:lnTo>
                  <a:lnTo>
                    <a:pt x="784" y="0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60520" y="2428920"/>
              <a:ext cx="1658880" cy="263520"/>
            </a:xfrm>
            <a:custGeom>
              <a:avLst/>
              <a:gdLst/>
              <a:ahLst/>
              <a:rect l="l" t="t" r="r" b="b"/>
              <a:pathLst>
                <a:path w="1045" h="166">
                  <a:moveTo>
                    <a:pt x="784" y="0"/>
                  </a:moveTo>
                  <a:lnTo>
                    <a:pt x="784" y="41"/>
                  </a:lnTo>
                  <a:lnTo>
                    <a:pt x="0" y="41"/>
                  </a:lnTo>
                  <a:lnTo>
                    <a:pt x="0" y="123"/>
                  </a:lnTo>
                  <a:lnTo>
                    <a:pt x="784" y="123"/>
                  </a:lnTo>
                  <a:lnTo>
                    <a:pt x="784" y="166"/>
                  </a:lnTo>
                  <a:lnTo>
                    <a:pt x="1045" y="83"/>
                  </a:lnTo>
                  <a:lnTo>
                    <a:pt x="784" y="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19400" y="2333520"/>
              <a:ext cx="835200" cy="4431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4560" y="1636560"/>
              <a:ext cx="11397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75640" y="1703520"/>
              <a:ext cx="115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cket Stream to Node 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84560" y="2260440"/>
              <a:ext cx="11397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66280" y="2319480"/>
              <a:ext cx="1155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cket Stream to Node B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43440" y="1554120"/>
              <a:ext cx="10573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15840" y="1454040"/>
              <a:ext cx="63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ccess Buff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43440" y="2160720"/>
              <a:ext cx="10573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87440" y="2897280"/>
              <a:ext cx="113220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78880" y="2944800"/>
              <a:ext cx="1160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cket Stream to Node 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0520" y="3049560"/>
              <a:ext cx="1658880" cy="265320"/>
            </a:xfrm>
            <a:custGeom>
              <a:avLst/>
              <a:gdLst/>
              <a:ahLst/>
              <a:rect l="l" t="t" r="r" b="b"/>
              <a:pathLst>
                <a:path w="1045" h="167">
                  <a:moveTo>
                    <a:pt x="784" y="0"/>
                  </a:moveTo>
                  <a:lnTo>
                    <a:pt x="784" y="42"/>
                  </a:lnTo>
                  <a:lnTo>
                    <a:pt x="0" y="42"/>
                  </a:lnTo>
                  <a:lnTo>
                    <a:pt x="0" y="125"/>
                  </a:lnTo>
                  <a:lnTo>
                    <a:pt x="784" y="125"/>
                  </a:lnTo>
                  <a:lnTo>
                    <a:pt x="784" y="167"/>
                  </a:lnTo>
                  <a:lnTo>
                    <a:pt x="1045" y="85"/>
                  </a:lnTo>
                  <a:lnTo>
                    <a:pt x="784" y="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19400" y="2944800"/>
              <a:ext cx="835200" cy="442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43440" y="2771640"/>
              <a:ext cx="10573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73720" y="2376360"/>
              <a:ext cx="612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81640" y="2028960"/>
              <a:ext cx="7160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51360" y="1943280"/>
              <a:ext cx="785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51360" y="3181320"/>
              <a:ext cx="784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5595840" y="2976480"/>
              <a:ext cx="74880" cy="207360"/>
              <a:chOff x="5595840" y="2976480"/>
              <a:chExt cx="74880" cy="20736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5632560" y="3044520"/>
                <a:ext cx="72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595840" y="2976480"/>
                <a:ext cx="74880" cy="7308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63" y="61"/>
                    </a:moveTo>
                    <a:lnTo>
                      <a:pt x="31" y="0"/>
                    </a:lnTo>
                    <a:lnTo>
                      <a:pt x="0" y="61"/>
                    </a:lnTo>
                    <a:lnTo>
                      <a:pt x="6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4851360" y="2505240"/>
              <a:ext cx="378000" cy="99720"/>
              <a:chOff x="4851360" y="2505240"/>
              <a:chExt cx="378000" cy="99720"/>
            </a:xfrm>
          </p:grpSpPr>
          <p:sp>
            <p:nvSpPr>
              <p:cNvPr id="75" name=""/>
              <p:cNvSpPr/>
              <p:nvPr/>
            </p:nvSpPr>
            <p:spPr>
              <a:xfrm>
                <a:off x="4851360" y="2552760"/>
                <a:ext cx="2872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132520" y="2505240"/>
                <a:ext cx="96840" cy="99720"/>
              </a:xfrm>
              <a:custGeom>
                <a:avLst/>
                <a:gdLst/>
                <a:ahLst/>
                <a:rect l="l" t="t" r="r" b="b"/>
                <a:pathLst>
                  <a:path w="61" h="63">
                    <a:moveTo>
                      <a:pt x="0" y="63"/>
                    </a:moveTo>
                    <a:lnTo>
                      <a:pt x="61" y="30"/>
                    </a:lnTo>
                    <a:lnTo>
                      <a:pt x="0" y="0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5983200" y="2409840"/>
              <a:ext cx="1206720" cy="262080"/>
            </a:xfrm>
            <a:custGeom>
              <a:avLst/>
              <a:gdLst/>
              <a:ahLst/>
              <a:rect l="l" t="t" r="r" b="b"/>
              <a:pathLst>
                <a:path w="760" h="165">
                  <a:moveTo>
                    <a:pt x="570" y="0"/>
                  </a:moveTo>
                  <a:lnTo>
                    <a:pt x="570" y="40"/>
                  </a:lnTo>
                  <a:lnTo>
                    <a:pt x="0" y="40"/>
                  </a:lnTo>
                  <a:lnTo>
                    <a:pt x="0" y="123"/>
                  </a:lnTo>
                  <a:lnTo>
                    <a:pt x="570" y="123"/>
                  </a:lnTo>
                  <a:lnTo>
                    <a:pt x="570" y="165"/>
                  </a:lnTo>
                  <a:lnTo>
                    <a:pt x="760" y="82"/>
                  </a:lnTo>
                  <a:lnTo>
                    <a:pt x="57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14960" y="2257560"/>
              <a:ext cx="790560" cy="609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39520" y="2409840"/>
              <a:ext cx="522000" cy="2437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tention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or acc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171840" y="2006640"/>
              <a:ext cx="102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NSMISSION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4017600" y="1808280"/>
              <a:ext cx="763560" cy="284040"/>
              <a:chOff x="4017600" y="1808280"/>
              <a:chExt cx="763560" cy="284040"/>
            </a:xfrm>
          </p:grpSpPr>
          <p:sp>
            <p:nvSpPr>
              <p:cNvPr id="82" name=""/>
              <p:cNvSpPr/>
              <p:nvPr/>
            </p:nvSpPr>
            <p:spPr>
              <a:xfrm flipH="1">
                <a:off x="4017600" y="2087640"/>
                <a:ext cx="763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4020840" y="2001960"/>
                <a:ext cx="747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4020840" y="1808280"/>
                <a:ext cx="747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4020840" y="1903320"/>
                <a:ext cx="747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4781520" y="1727280"/>
              <a:ext cx="74520" cy="447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81520" y="2333520"/>
              <a:ext cx="74520" cy="447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91240" y="2943360"/>
              <a:ext cx="74520" cy="447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5595840" y="1945440"/>
              <a:ext cx="74880" cy="207360"/>
              <a:chOff x="5595840" y="1945440"/>
              <a:chExt cx="74880" cy="207360"/>
            </a:xfrm>
          </p:grpSpPr>
          <p:sp>
            <p:nvSpPr>
              <p:cNvPr id="90" name=""/>
              <p:cNvSpPr/>
              <p:nvPr/>
            </p:nvSpPr>
            <p:spPr>
              <a:xfrm flipH="1">
                <a:off x="5633280" y="1945440"/>
                <a:ext cx="72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0800000">
                <a:off x="5595840" y="2079720"/>
                <a:ext cx="74880" cy="73080"/>
              </a:xfrm>
              <a:custGeom>
                <a:avLst/>
                <a:gdLst/>
                <a:ahLst/>
                <a:rect l="l" t="t" r="r" b="b"/>
                <a:pathLst>
                  <a:path w="63" h="61">
                    <a:moveTo>
                      <a:pt x="63" y="61"/>
                    </a:moveTo>
                    <a:lnTo>
                      <a:pt x="31" y="0"/>
                    </a:lnTo>
                    <a:lnTo>
                      <a:pt x="0" y="61"/>
                    </a:lnTo>
                    <a:lnTo>
                      <a:pt x="6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017600" y="2417760"/>
              <a:ext cx="763560" cy="284040"/>
              <a:chOff x="4017600" y="2417760"/>
              <a:chExt cx="763560" cy="284040"/>
            </a:xfrm>
          </p:grpSpPr>
          <p:sp>
            <p:nvSpPr>
              <p:cNvPr id="93" name=""/>
              <p:cNvSpPr/>
              <p:nvPr/>
            </p:nvSpPr>
            <p:spPr>
              <a:xfrm flipH="1">
                <a:off x="4017600" y="2697120"/>
                <a:ext cx="763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4020840" y="2611440"/>
                <a:ext cx="747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4020840" y="2417760"/>
                <a:ext cx="747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4020840" y="2512800"/>
                <a:ext cx="747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024080" y="3027240"/>
              <a:ext cx="763560" cy="284040"/>
              <a:chOff x="4024080" y="3027240"/>
              <a:chExt cx="763560" cy="284040"/>
            </a:xfrm>
          </p:grpSpPr>
          <p:sp>
            <p:nvSpPr>
              <p:cNvPr id="98" name=""/>
              <p:cNvSpPr/>
              <p:nvPr/>
            </p:nvSpPr>
            <p:spPr>
              <a:xfrm flipH="1">
                <a:off x="4024080" y="3306600"/>
                <a:ext cx="763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4027320" y="3220920"/>
                <a:ext cx="747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4027320" y="3027240"/>
                <a:ext cx="747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4027320" y="3122280"/>
                <a:ext cx="747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2" name=""/>
            <p:cNvCxnSpPr>
              <a:stCxn id="60" idx="2"/>
              <a:endCxn id="86" idx="0"/>
            </p:cNvCxnSpPr>
            <p:nvPr/>
          </p:nvCxnSpPr>
          <p:spPr>
            <a:xfrm flipH="1">
              <a:off x="4819320" y="1576080"/>
              <a:ext cx="15120" cy="15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716-F7F1-41E0-9A2A-0834C50AF19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990720" y="1561680"/>
            <a:ext cx="7315200" cy="2440800"/>
            <a:chOff x="990720" y="1561680"/>
            <a:chExt cx="7315200" cy="2440800"/>
          </a:xfrm>
        </p:grpSpPr>
        <p:grpSp>
          <p:nvGrpSpPr>
            <p:cNvPr id="104" name=""/>
            <p:cNvGrpSpPr/>
            <p:nvPr/>
          </p:nvGrpSpPr>
          <p:grpSpPr>
            <a:xfrm>
              <a:off x="1832040" y="1562040"/>
              <a:ext cx="2666880" cy="2133360"/>
              <a:chOff x="1832040" y="1562040"/>
              <a:chExt cx="2666880" cy="2133360"/>
            </a:xfrm>
          </p:grpSpPr>
          <p:sp>
            <p:nvSpPr>
              <p:cNvPr id="105" name=""/>
              <p:cNvSpPr/>
              <p:nvPr/>
            </p:nvSpPr>
            <p:spPr>
              <a:xfrm>
                <a:off x="3965760" y="1562040"/>
                <a:ext cx="533160" cy="213336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32240" y="1562040"/>
                <a:ext cx="533520" cy="213336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898720" y="1562040"/>
                <a:ext cx="533520" cy="213336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32040" y="1562040"/>
                <a:ext cx="533520" cy="213336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65560" y="1562040"/>
                <a:ext cx="533160" cy="213336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98920" y="1562040"/>
              <a:ext cx="533520" cy="21333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32440" y="1562040"/>
              <a:ext cx="533160" cy="21333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3429000" y="1558800"/>
              <a:ext cx="533520" cy="37339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3430800" y="-36720"/>
              <a:ext cx="533160" cy="373068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3429000" y="1028520"/>
              <a:ext cx="533520" cy="37339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3429000" y="495000"/>
              <a:ext cx="533520" cy="37339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828800" y="1562040"/>
              <a:ext cx="0" cy="21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5120" y="1866600"/>
              <a:ext cx="5331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nsmis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90920" y="2400120"/>
              <a:ext cx="685800" cy="22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nsmis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5320" y="2933640"/>
              <a:ext cx="144756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nsmis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1828800" y="2095200"/>
              <a:ext cx="3733920" cy="1600200"/>
              <a:chOff x="1828800" y="2095200"/>
              <a:chExt cx="3733920" cy="160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828800" y="2095200"/>
                <a:ext cx="37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828800" y="3695400"/>
                <a:ext cx="3733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28800" y="2628360"/>
                <a:ext cx="37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828800" y="3161880"/>
                <a:ext cx="37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429000" y="369540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28800" y="1866600"/>
              <a:ext cx="745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1828800" y="2400120"/>
              <a:ext cx="146160" cy="228600"/>
              <a:chOff x="1828800" y="2400120"/>
              <a:chExt cx="146160" cy="228600"/>
            </a:xfrm>
          </p:grpSpPr>
          <p:sp>
            <p:nvSpPr>
              <p:cNvPr id="128" name=""/>
              <p:cNvSpPr/>
              <p:nvPr/>
            </p:nvSpPr>
            <p:spPr>
              <a:xfrm>
                <a:off x="1828800" y="2400120"/>
                <a:ext cx="74520" cy="228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00080" y="2400120"/>
                <a:ext cx="7488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 flipV="1">
              <a:off x="2438280" y="262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828800" y="262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1981080" y="262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124000" y="2628360"/>
              <a:ext cx="162000" cy="228600"/>
              <a:chOff x="2124000" y="2628360"/>
              <a:chExt cx="162000" cy="22860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2124000" y="26283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2286000" y="26283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 flipV="1">
              <a:off x="2590920" y="26283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048120" y="3161880"/>
              <a:ext cx="457200" cy="228600"/>
              <a:chOff x="3048120" y="3161880"/>
              <a:chExt cx="457200" cy="22860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3048120" y="3161880"/>
                <a:ext cx="162000" cy="228600"/>
                <a:chOff x="3048120" y="3161880"/>
                <a:chExt cx="162000" cy="228600"/>
              </a:xfrm>
            </p:grpSpPr>
            <p:sp>
              <p:nvSpPr>
                <p:cNvPr id="139" name=""/>
                <p:cNvSpPr/>
                <p:nvPr/>
              </p:nvSpPr>
              <p:spPr>
                <a:xfrm flipV="1">
                  <a:off x="304812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321012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343680" y="3161880"/>
                <a:ext cx="161640" cy="228600"/>
                <a:chOff x="3343680" y="3161880"/>
                <a:chExt cx="161640" cy="228600"/>
              </a:xfrm>
            </p:grpSpPr>
            <p:sp>
              <p:nvSpPr>
                <p:cNvPr id="142" name=""/>
                <p:cNvSpPr/>
                <p:nvPr/>
              </p:nvSpPr>
              <p:spPr>
                <a:xfrm flipV="1">
                  <a:off x="334368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350532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 flipV="1">
              <a:off x="1828800" y="3161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1981080" y="3161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124000" y="3161880"/>
              <a:ext cx="162000" cy="228600"/>
              <a:chOff x="2124000" y="3161880"/>
              <a:chExt cx="162000" cy="22860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2124000" y="3161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286000" y="31618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2438280" y="3161880"/>
              <a:ext cx="457200" cy="228600"/>
              <a:chOff x="2438280" y="3161880"/>
              <a:chExt cx="457200" cy="2286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2438280" y="3161880"/>
                <a:ext cx="162000" cy="228600"/>
                <a:chOff x="2438280" y="3161880"/>
                <a:chExt cx="162000" cy="228600"/>
              </a:xfrm>
            </p:grpSpPr>
            <p:sp>
              <p:nvSpPr>
                <p:cNvPr id="151" name=""/>
                <p:cNvSpPr/>
                <p:nvPr/>
              </p:nvSpPr>
              <p:spPr>
                <a:xfrm flipV="1">
                  <a:off x="243828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60028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733840" y="3161880"/>
                <a:ext cx="161640" cy="228600"/>
                <a:chOff x="2733840" y="3161880"/>
                <a:chExt cx="161640" cy="228600"/>
              </a:xfrm>
            </p:grpSpPr>
            <p:sp>
              <p:nvSpPr>
                <p:cNvPr id="154" name=""/>
                <p:cNvSpPr/>
                <p:nvPr/>
              </p:nvSpPr>
              <p:spPr>
                <a:xfrm flipV="1">
                  <a:off x="273384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895480" y="31618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" name=""/>
            <p:cNvGrpSpPr/>
            <p:nvPr/>
          </p:nvGrpSpPr>
          <p:grpSpPr>
            <a:xfrm>
              <a:off x="1828800" y="2933640"/>
              <a:ext cx="227160" cy="228600"/>
              <a:chOff x="1828800" y="2933640"/>
              <a:chExt cx="227160" cy="228600"/>
            </a:xfrm>
          </p:grpSpPr>
          <p:sp>
            <p:nvSpPr>
              <p:cNvPr id="157" name=""/>
              <p:cNvSpPr/>
              <p:nvPr/>
            </p:nvSpPr>
            <p:spPr>
              <a:xfrm>
                <a:off x="1981440" y="2933640"/>
                <a:ext cx="7452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" name=""/>
              <p:cNvGrpSpPr/>
              <p:nvPr/>
            </p:nvGrpSpPr>
            <p:grpSpPr>
              <a:xfrm>
                <a:off x="1828800" y="2933640"/>
                <a:ext cx="146160" cy="228600"/>
                <a:chOff x="1828800" y="2933640"/>
                <a:chExt cx="146160" cy="2286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828800" y="2933640"/>
                  <a:ext cx="74520" cy="2286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900080" y="2933640"/>
                  <a:ext cx="74880" cy="22860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"/>
            <p:cNvGrpSpPr/>
            <p:nvPr/>
          </p:nvGrpSpPr>
          <p:grpSpPr>
            <a:xfrm>
              <a:off x="2438280" y="2400120"/>
              <a:ext cx="146160" cy="228600"/>
              <a:chOff x="2438280" y="2400120"/>
              <a:chExt cx="146160" cy="228600"/>
            </a:xfrm>
          </p:grpSpPr>
          <p:sp>
            <p:nvSpPr>
              <p:cNvPr id="162" name=""/>
              <p:cNvSpPr/>
              <p:nvPr/>
            </p:nvSpPr>
            <p:spPr>
              <a:xfrm>
                <a:off x="2438280" y="2400120"/>
                <a:ext cx="74520" cy="22860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09560" y="2400120"/>
                <a:ext cx="74880" cy="22860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990720" y="186660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 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90720" y="240012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90720" y="293364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o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438280" y="2933640"/>
              <a:ext cx="227160" cy="228600"/>
              <a:chOff x="2438280" y="2933640"/>
              <a:chExt cx="227160" cy="228600"/>
            </a:xfrm>
          </p:grpSpPr>
          <p:sp>
            <p:nvSpPr>
              <p:cNvPr id="168" name=""/>
              <p:cNvSpPr/>
              <p:nvPr/>
            </p:nvSpPr>
            <p:spPr>
              <a:xfrm>
                <a:off x="2590920" y="2933640"/>
                <a:ext cx="74520" cy="2286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2438280" y="2933640"/>
                <a:ext cx="146160" cy="228600"/>
                <a:chOff x="2438280" y="2933640"/>
                <a:chExt cx="146160" cy="22860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438280" y="2933640"/>
                  <a:ext cx="74520" cy="2286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509560" y="2933640"/>
                  <a:ext cx="74880" cy="22860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278160" y="2933640"/>
              <a:ext cx="227160" cy="228600"/>
              <a:chOff x="3278160" y="2933640"/>
              <a:chExt cx="227160" cy="228600"/>
            </a:xfrm>
          </p:grpSpPr>
          <p:sp>
            <p:nvSpPr>
              <p:cNvPr id="173" name=""/>
              <p:cNvSpPr/>
              <p:nvPr/>
            </p:nvSpPr>
            <p:spPr>
              <a:xfrm>
                <a:off x="3430800" y="2933640"/>
                <a:ext cx="74520" cy="22860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278160" y="2933640"/>
                <a:ext cx="146160" cy="228600"/>
                <a:chOff x="3278160" y="2933640"/>
                <a:chExt cx="146160" cy="2286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278160" y="2933640"/>
                  <a:ext cx="74520" cy="228600"/>
                </a:xfrm>
                <a:prstGeom prst="rect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349440" y="2933640"/>
                  <a:ext cx="74880" cy="228600"/>
                </a:xfrm>
                <a:prstGeom prst="rect">
                  <a:avLst/>
                </a:pr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6613560" y="2171520"/>
              <a:ext cx="1311120" cy="1068840"/>
              <a:chOff x="6613560" y="2171520"/>
              <a:chExt cx="1311120" cy="1068840"/>
            </a:xfrm>
          </p:grpSpPr>
          <p:sp>
            <p:nvSpPr>
              <p:cNvPr id="178" name=""/>
              <p:cNvSpPr/>
              <p:nvPr/>
            </p:nvSpPr>
            <p:spPr>
              <a:xfrm>
                <a:off x="7740720" y="236484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13560" y="255240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AT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613560" y="293328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AT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13560" y="2171520"/>
                <a:ext cx="685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UAT 1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7375680" y="2628360"/>
                <a:ext cx="145440" cy="228240"/>
                <a:chOff x="7375680" y="2628360"/>
                <a:chExt cx="145440" cy="2282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7375680" y="2628360"/>
                  <a:ext cx="74160" cy="228240"/>
                </a:xfrm>
                <a:prstGeom prst="rect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46600" y="2628360"/>
                  <a:ext cx="74520" cy="228240"/>
                </a:xfrm>
                <a:prstGeom prst="rect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7375680" y="3009600"/>
                <a:ext cx="226440" cy="228240"/>
                <a:chOff x="7375680" y="3009600"/>
                <a:chExt cx="226440" cy="228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7527960" y="3009600"/>
                  <a:ext cx="74160" cy="228240"/>
                </a:xfrm>
                <a:prstGeom prst="rect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7375680" y="3009600"/>
                  <a:ext cx="145440" cy="228240"/>
                  <a:chOff x="7375680" y="3009600"/>
                  <a:chExt cx="145440" cy="2282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7375680" y="3009600"/>
                    <a:ext cx="74160" cy="228240"/>
                  </a:xfrm>
                  <a:prstGeom prst="rect">
                    <a:avLst/>
                  </a:prstGeom>
                  <a:blipFill rotWithShape="0">
                    <a:blip r:embed="rId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7446600" y="3009600"/>
                    <a:ext cx="74520" cy="228240"/>
                  </a:xfrm>
                  <a:prstGeom prst="rect">
                    <a:avLst/>
                  </a:prstGeom>
                  <a:blipFill rotWithShape="0">
                    <a:blip r:embed="rId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0" name=""/>
              <p:cNvSpPr/>
              <p:nvPr/>
            </p:nvSpPr>
            <p:spPr>
              <a:xfrm>
                <a:off x="7375680" y="2247480"/>
                <a:ext cx="74520" cy="22824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 flipV="1">
              <a:off x="1905120" y="20948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2200" y="1790640"/>
              <a:ext cx="21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rgency Arbitra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72200" y="1790640"/>
              <a:ext cx="213372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artitioning of contention by urgency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46483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7040" y="4076640"/>
            <a:ext cx="864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urgency class is assigned a different arbitration time -- U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Arbitration Tim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= interval that the channel must be sensed idle by a node before decreasing its backoff count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ngth of UAT decreases with increasing urg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er urgency packets will not cause collisions to higher urgency packe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er urgency packets will dominate the channel in congestion as lower urgency packets would get less of a chance to decrease their backoff coun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615-B086-409F-BDA7-2E5BF39DFFD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ackoff window adju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ead of increasing backoff ranges, start with a backoff counter appropriate for the traffic intensity at h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ry upon failure with successively smaller backoff coun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cipline increases the persistence of aging packets and decreases conten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verall delay jitter is re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scipline is good for isochronous traff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congestion, this discipline would be preferable for real-time traffic because of tendency to reduce long del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light traffic, there is the risk that high starting backoff counters may postpone the transmission of the packet needless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estimates of current traffic intensity would lessen 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4454-541E-41D9-86B0-07F5EB8EEC2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ngestion-adaptive, traffic-specific back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select initial backoff, the nodes estimate traffic intensity from the number of failed transmission attempts, both their own and those of neighboring no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node remembers its own number of retrial attem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broadcasts [i.e., includes in the messages exchanged during reservation and/or in the packet headers] its number of retrial attemp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ternatively, initial backoff is  based on traffic intensity estimated by urgency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node remembers its own retrial attempts by urgency cla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broadcasts its number of retrial attempts by urgency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CC5-7379-4738-9DDE-5714DEBA843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llision resolution combined with collision avo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ckoff before a transmission attempt; backoff is used for collision avoid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n a good estimate of traffic intensity, the backoff counter can be set to disperse traffic bursts properly, thus reducing conten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postponing transmission of newly arrived packets at the outset, aged packets face less competition for the channel, with a reduction in resulting delay jitter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3E7-EAAB-434D-AB53-2A51D5BD7415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Exhausting retrial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aximum retrial number or delay is permitted, after which transmission is cancel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better discipline for packet transmission cancellation would rely directly on the delay experienced by the packet where the limit would vary by traffic type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layed packets have little value and limited packet loss is acceptable for real-time traffi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applications are tolerant of longer delays but intolerant of missing packe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CBB8-47F4-43AE-AF24-E2280350A14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ummary and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7840" y="161928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ered contention’ enables random multiple access control while supporting QoS management as follow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igns urgency class to access buffer packet by various QoS-driven scheduling algo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s different ‘arbitration times’ for different packet ‘urgency classes’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roadcasts the number of (class-specific) transmission attemp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imates (class-specific) current congestion lev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justs starting backoff counter to provide proper dispersion of traffic bursts and reduce conten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s with traffic-adjusted backoff counters and decreases them upon transmission failure to reduce contention and increase persistence for aging pack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ollision avoidance through backoff with similar benef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cels transmission retrials based on delay-related criteria that discriminate between traffic 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897E-27A4-497D-A602-8911E4179C6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6:04:09Z</dcterms:created>
  <dc:creator>Harry Worstell</dc:creator>
  <dc:description/>
  <dc:language>en-US</dc:language>
  <cp:lastModifiedBy>Mathilde Benveniste</cp:lastModifiedBy>
  <cp:lastPrinted>1998-02-10T13:28:06Z</cp:lastPrinted>
  <dcterms:modified xsi:type="dcterms:W3CDTF">2000-12-19T18:38:02Z</dcterms:modified>
  <cp:revision>10</cp:revision>
  <dc:subject/>
  <dc:title>No Slide Title</dc:title>
</cp:coreProperties>
</file>