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B7A5-E585-4554-B456-E22E179C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C5D-33D4-4ADA-94A1-7C0674E4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2DD-181D-4043-9024-754FFE81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FF23-6581-4074-810B-7D5481D6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CFC-9629-4309-BE5F-50D4008D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DA31-BE94-420C-8B58-0733B69C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476-E0BF-49BC-871F-3FBDE254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E22-0A4E-401E-8A4A-A545AB1F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F22-774C-4AE9-802C-A9785C64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A30-BF1C-4995-BF42-42D955C5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6CFB-6EF3-4F3C-88D3-45E3E19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332-3E5E-476A-AA9F-0BF96B75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04920" y="6095880"/>
          <a:ext cx="1311120" cy="3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6095880"/>
                    <a:ext cx="131112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7058160" y="6474960"/>
            <a:ext cx="15523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M. Kowalski, Sha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9797FA-70C5-47E3-9D8F-7FD591A5C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C Frame Formats for 802.11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John M. Kowal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arp Laboratories U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mas, Washingt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360) 817-752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owalskj@sharplabs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Proposed Coding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4419360"/>
            <a:ext cx="5486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=initialization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V= integrity check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 coding assu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1981080"/>
          <a:ext cx="7543800" cy="204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54380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Coding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codes, e.g., RS(204, 188) work well, but are do not have small least common multiples of 4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s that are multiples of 48 work well with MPEG-2,  DV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any fixed number on which the group agrees, e.g., RS(64,48)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ormat has benefits for aggregated MPDU’s  with TS packets: higher layers can selectively r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er code sizes for smaller PDU sizes can improve channel efficien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V applications, delayed ACK/unacknowledged service 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can be met at high data rates, (higher MDSL), where they would be used any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would prefer this ASAP (i.e., in the MAC), but we want to make sure any potential issues are add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off of Where Coding i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Issues with 802.11a 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Co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an outer code option with the 802.11e/802.11a PHY woul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ly expand the market for 802.11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existing infrastructure networks to perform more relia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 competition from other wireless home network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ate delay/jitter management for 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vide less than 1 frame (PSDU) error in 10 hours ( or P[error] &lt; 1.15X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imes New Roman"/>
              </a:rPr>
              <a:t>-9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for 1000 octet packets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inimal overhe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 compatible with OFDM  symbol siz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 consistent with 802.11/802.11a SIFS timing r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 friendly to known AV forma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 friendly to any aggregation proposal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off of Where Coding is Don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12193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04920" y="1219320"/>
          <a:ext cx="8477280" cy="48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19320"/>
                    <a:ext cx="847728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off of Where Coding is Don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33360" y="1739880"/>
          <a:ext cx="8477280" cy="33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739880"/>
                    <a:ext cx="84772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8839080" y="1752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47960" y="22971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440" y="5130720"/>
            <a:ext cx="711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P[PLCP Header Failure]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3.15 X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-4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t specified MDS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 6 Mbps.  At higher rates, (due to higher MDS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s falls of drasticall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off of Where Coding is Don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33360" y="1739880"/>
          <a:ext cx="8477280" cy="33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1739880"/>
                    <a:ext cx="84772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8839080" y="1752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ing Issues in 802.11A 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1a,  aMACProcessingDelay &lt;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to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control field and address field to decide whether to 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be done before PHY-RXEnd.ind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done in time to issue PHY-TXStart.request for ACK so that beginning of ACK preamble reaches transmit antenna within ±10% of SIFS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ing Issues in 802.11A 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: it may not be feasible to use a decoder that decodes within aMACProcessingDe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 we can use  delayed ACK/Unacknowledged fra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his be used in enhanced DC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8:41:50Z</dcterms:created>
  <dc:creator>John Kowalski</dc:creator>
  <dc:description/>
  <dc:language>en-US</dc:language>
  <cp:lastModifiedBy>Harry Worstell</cp:lastModifiedBy>
  <cp:lastPrinted>2000-11-03T23:58:34Z</cp:lastPrinted>
  <dcterms:modified xsi:type="dcterms:W3CDTF">2000-11-06T19:06:54Z</dcterms:modified>
  <cp:revision>13</cp:revision>
  <dc:subject/>
  <dc:title>Frame FEC Formats for 802.11a</dc:title>
</cp:coreProperties>
</file>