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107-99D3-4F81-8C76-7422C1F0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533-C1B6-4F25-9654-F9BEED47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A25-83DB-4FCA-B7E6-3E573A48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82D-5A29-45B9-88C1-301C42212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78F-770A-43FB-A93B-349AB68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AD7-5D42-412D-80C7-3EFFBB68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A4B-A28A-4183-BA1C-6362FD67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597-A5AC-4023-B495-99413C46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BEC-C2AD-4838-A1CD-3CC4D281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2F7-F8CF-442D-B9CD-97CDEDE8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C16-0241-48CD-8E02-40D589FA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6617-56E7-40CA-ACD8-8D9DA3A3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086240" y="6474960"/>
            <a:ext cx="1676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25400" y="6474960"/>
            <a:ext cx="56844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2C0D31-3638-48CF-8ECB-A9CAE97DD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0/3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nsideration on FEC 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error Performance of concatenation of Viterbi decoder and RS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asuo Ha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sushita Electric Industrial Co. Lt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C9B-48E5-422F-86D1-865AEC54A1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atenated Error Correction Sche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oncatenation FEC scheme used in Digital Broadcasting system such as in Satellite, Cable, terrestrial system for MPEG2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obust error correction feature is obtained by concatenation of Viterbi  and R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Viterbi decoder in 802.11a phy specification and FEC option provide this improvement in 802.11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DB7-5D65-4418-909E-0FFAA9638C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 of Viterbi de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decoder with a high error correction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decoder produces burst bit error when errors occur over its correction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 is very effective with concatenation of RS code and Viterbi de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208-A6C4-464A-8568-F64CB91898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676520"/>
          <a:ext cx="5627520" cy="406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5627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833040" y="838080"/>
            <a:ext cx="433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Bit error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58640" y="2133720"/>
            <a:ext cx="29451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cond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AWGN  No Phase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QAM R=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Word = 255 Byte   (RS(255,239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Payload = 4 Word  (1020 By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leav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RIX  255Byte×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asuo Harada, Matushita Electr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A9DB-361D-4EB0-B150-C30578B9BC5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4T03:33:23Z</dcterms:created>
  <dc:creator>Yasuo　Harada</dc:creator>
  <dc:description/>
  <dc:language>en-US</dc:language>
  <cp:lastModifiedBy>Harry Worstell</cp:lastModifiedBy>
  <dcterms:modified xsi:type="dcterms:W3CDTF">2000-11-06T20:24:17Z</dcterms:modified>
  <cp:revision>9</cp:revision>
  <dc:subject/>
  <dc:title>Consideration on FEC option Cancatenation of Viterbi decoder and RS code</dc:title>
</cp:coreProperties>
</file>