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A9E0-1CA4-4E74-9D75-456119278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169C-CC0D-418E-975B-96BB0E46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378B-BE80-4776-92B0-34435886B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93D8C-DA4D-438D-B13E-440163EF0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EBA8D-D305-4CE7-B63F-A746F1533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B90E4-66C6-42B3-B98B-43B98C729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9E5F3-1079-42D1-966B-FF755CB756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D0455-FF54-4144-BD88-F71AE31BEC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10CAA-BEE3-4372-9E5F-14E3CAAFC8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EDFCD-4EAF-412B-931D-B663151343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A0BB3-8232-4EEA-9654-B96640B404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69ABB-2996-47F2-97A5-B5CCC7E2B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0820-D577-4018-B0C6-B0017BF2BF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8C9EE-9DE3-4440-8625-20789C10B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0FEA0-9BC2-42E6-A516-BCEA932DE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C4E90-807A-4EF7-A1EF-AFB38529A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47B52-D206-4C54-805E-2437667265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224F9B-620C-467F-A7CA-C739E71FC3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281DD-2CFA-4F91-B164-E933FE799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FA09E-7926-459F-A30A-D2B5060E2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6038-C9A5-4357-ABD2-44CB55A66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B171-4706-4E63-81CB-FC0E93DB6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DD5CF-43DD-4B98-AA63-C53851112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F7A03-0C5A-4118-BB0D-952F23D30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B155-018C-4CD5-830B-113825882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DE9E-FC04-465F-9B77-D2F4F93F7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8F1EF-D66B-41FD-87AC-FADD3CBBE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564734-B0DA-4811-9D17-FE763A9B6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1720" cy="631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419048-FF0E-421F-AD6A-85354586B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18148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exas Instruments Proposal for IEEE 802.11g High-Rate Standard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Chris Heegard, PhD, 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Eric Rossin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Matthew Shoemake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 Sean Coffe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and Anuj Batra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30A1E-18DF-47D2-926E-097BD61E0D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ymbol Scrambler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9" name=""/>
          <p:cNvSpPr/>
          <p:nvPr/>
        </p:nvSpPr>
        <p:spPr>
          <a:xfrm>
            <a:off x="1908720" y="23432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QPS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"/>
          <p:cNvSpPr/>
          <p:nvPr/>
        </p:nvSpPr>
        <p:spPr>
          <a:xfrm>
            <a:off x="1970280" y="262260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/>
          <p:cNvSpPr/>
          <p:nvPr/>
        </p:nvSpPr>
        <p:spPr>
          <a:xfrm>
            <a:off x="1751400" y="290196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1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"/>
          <p:cNvSpPr/>
          <p:nvPr/>
        </p:nvSpPr>
        <p:spPr>
          <a:xfrm>
            <a:off x="2017080" y="318132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352320" y="2400480"/>
            <a:ext cx="1143000" cy="1143000"/>
            <a:chOff x="3352320" y="2400480"/>
            <a:chExt cx="1143000" cy="1143000"/>
          </a:xfrm>
        </p:grpSpPr>
        <p:sp>
          <p:nvSpPr>
            <p:cNvPr id="364" name=""/>
            <p:cNvSpPr/>
            <p:nvPr/>
          </p:nvSpPr>
          <p:spPr>
            <a:xfrm>
              <a:off x="3924360" y="240048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35232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800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797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00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797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752800" y="2400480"/>
            <a:ext cx="1143000" cy="1143000"/>
            <a:chOff x="5752800" y="2400480"/>
            <a:chExt cx="1143000" cy="1143000"/>
          </a:xfrm>
        </p:grpSpPr>
        <p:sp>
          <p:nvSpPr>
            <p:cNvPr id="371" name=""/>
            <p:cNvSpPr/>
            <p:nvPr/>
          </p:nvSpPr>
          <p:spPr>
            <a:xfrm>
              <a:off x="6324480" y="2400480"/>
              <a:ext cx="18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75280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801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02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01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02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5272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"/>
          <p:cNvSpPr/>
          <p:nvPr/>
        </p:nvSpPr>
        <p:spPr>
          <a:xfrm>
            <a:off x="624060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1828800"/>
            <a:ext cx="5613480" cy="218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809000" y="4514760"/>
            <a:ext cx="13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8PSK 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1805400" y="480060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2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2042640" y="507348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4000680"/>
            <a:ext cx="5613480" cy="218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4529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5672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3285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3285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529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5672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6930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6930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385272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624060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5640" y="4425840"/>
            <a:ext cx="1853280" cy="1598040"/>
            <a:chOff x="3095640" y="4425840"/>
            <a:chExt cx="1853280" cy="1598040"/>
          </a:xfrm>
        </p:grpSpPr>
        <p:grpSp>
          <p:nvGrpSpPr>
            <p:cNvPr id="395" name=""/>
            <p:cNvGrpSpPr/>
            <p:nvPr/>
          </p:nvGrpSpPr>
          <p:grpSpPr>
            <a:xfrm>
              <a:off x="3352320" y="4572000"/>
              <a:ext cx="1143000" cy="1143000"/>
              <a:chOff x="3352320" y="4572000"/>
              <a:chExt cx="1143000" cy="1143000"/>
            </a:xfrm>
          </p:grpSpPr>
          <p:sp>
            <p:nvSpPr>
              <p:cNvPr id="396" name=""/>
              <p:cNvSpPr/>
              <p:nvPr/>
            </p:nvSpPr>
            <p:spPr>
              <a:xfrm>
                <a:off x="3924360" y="4572000"/>
                <a:ext cx="14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352320" y="5143680"/>
                <a:ext cx="114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80040" y="46990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79760" y="469908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280040" y="549900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79760" y="549900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467240" y="466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10120" y="465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0320" y="5619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85960" y="5543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352680" y="4521240"/>
              <a:ext cx="1257480" cy="1257120"/>
              <a:chOff x="3352680" y="4521240"/>
              <a:chExt cx="1257480" cy="1257120"/>
            </a:xfrm>
          </p:grpSpPr>
          <p:sp>
            <p:nvSpPr>
              <p:cNvPr id="407" name=""/>
              <p:cNvSpPr/>
              <p:nvPr/>
            </p:nvSpPr>
            <p:spPr>
              <a:xfrm>
                <a:off x="3898800" y="452124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2680" y="510552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83080" y="507996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4360" y="565164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061160" y="44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95640" y="5175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7520" y="5810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50840" y="5060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6480" y="4572000"/>
            <a:ext cx="1143000" cy="1143000"/>
            <a:chOff x="5676480" y="4572000"/>
            <a:chExt cx="1143000" cy="1143000"/>
          </a:xfrm>
        </p:grpSpPr>
        <p:sp>
          <p:nvSpPr>
            <p:cNvPr id="416" name=""/>
            <p:cNvSpPr/>
            <p:nvPr/>
          </p:nvSpPr>
          <p:spPr>
            <a:xfrm>
              <a:off x="6248520" y="457200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676480" y="514368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0384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0392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0384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0392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759000" y="4667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534280" y="4654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5546880" y="56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6809760" y="55436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676840" y="4521240"/>
            <a:ext cx="1257480" cy="1257120"/>
            <a:chOff x="5676840" y="4521240"/>
            <a:chExt cx="1257480" cy="1257120"/>
          </a:xfrm>
        </p:grpSpPr>
        <p:sp>
          <p:nvSpPr>
            <p:cNvPr id="427" name=""/>
            <p:cNvSpPr/>
            <p:nvPr/>
          </p:nvSpPr>
          <p:spPr>
            <a:xfrm>
              <a:off x="6222960" y="452124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76840" y="5105520"/>
              <a:ext cx="1270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07240" y="50799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48520" y="5651640"/>
              <a:ext cx="12672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352560" y="44258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419800" y="51753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6004080" y="5810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6975000" y="5060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2157840" y="358128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2135880" y="5638680"/>
            <a:ext cx="106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B3F9-2171-435A-9D05-8160886F5D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“s” Sequenc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505320" y="3048120"/>
          <a:ext cx="4878360" cy="29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48783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ength 256 sequence generated from a length 16 sequ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[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c1,…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] = [0011001110001011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iodically extended for &gt;25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3880-59FC-47DB-A6B5-5AC4CF80CF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AWGN Perform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1640" y="1531800"/>
          <a:ext cx="5938920" cy="47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31800"/>
                    <a:ext cx="59389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4760F-D4A9-4674-8BC1-CF45374BBA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0020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95324-8F1E-4346-86C8-215B0A7904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9552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E4C1A-EA9A-40DD-8324-EBDB6D21E9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ertification Issues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BCC-22 should be certified under existing ru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6234E-25C9-4647-BF7D-DFC682D8CC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2 Principle Aspects to Certifica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miss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he nature of the transmitt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is the power level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cept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Robustness at the receiv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pends on the character of the transmitted signal and the sophistication of the recei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asured with respect to a referenc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mparison of Shannon Limi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rference Rej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W Jamming Margi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arrow Band Gaussia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BC6C1-2214-4B8B-BBE8-020BB17CB0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Transmitted Sign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117440" y="1523880"/>
            <a:ext cx="2921040" cy="2338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4876920" y="4037040"/>
            <a:ext cx="3047760" cy="244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30160" y="1752480"/>
            <a:ext cx="111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Barker 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"/>
          <p:cNvSpPr/>
          <p:nvPr/>
        </p:nvSpPr>
        <p:spPr>
          <a:xfrm>
            <a:off x="4795200" y="1752480"/>
            <a:ext cx="9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CCK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1" name=""/>
          <p:cNvSpPr/>
          <p:nvPr/>
        </p:nvSpPr>
        <p:spPr>
          <a:xfrm>
            <a:off x="89496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485748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8E1B-3743-46A3-8B80-24186B911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Definition of Spread Spectrum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 Don’t Know How to Define It, But I Know It When I See It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ignores the long history to the science of digital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orse, Nyquist, Shannon, Weiner, Hamming, Elias,…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though one does need to make logical definitions, similar difficulties exist with other important communications parame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gnal-to-Noise rat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wer Spectrum, etc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asonable Definitions Exist (examples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the definition important?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means to an end --&gt; robust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0448-0F95-4C79-9F2D-5BEBFA10F4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wards an Information Theory of Spread- Spectrum Systems” 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e Division Multiple Access Communications (Eds. S. G. Glisic and P. A. Leppanen) , 1995, James L. Mass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ed 2 notions of Bandwidt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ier” or “Nyquest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pectrum Occupanc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nnon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ignal Space Dimens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preading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 system is “spread spectrum”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is lar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definition is mathematically precise and intuitiv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definition argues that high rate (bits/sec/Hz) systems cannot have significant spread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19920" y="3809880"/>
          <a:ext cx="228600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09880"/>
                    <a:ext cx="2286000" cy="77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H="1">
            <a:off x="7924680" y="34290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"/>
          <p:cNvSpPr/>
          <p:nvPr/>
        </p:nvSpPr>
        <p:spPr>
          <a:xfrm>
            <a:off x="7524000" y="3164040"/>
            <a:ext cx="112248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A Theore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BAAD5-C7C5-40D0-B0B3-CFA7622466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d utilization of the 2.4 GHz ISM band for wireless Etherne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/Alantro 22 Mbps solu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ow it work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y it is g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ertification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Jamming Require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Baseband Processo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A1E3-196F-45ED-8AB7-9BBCDF02D0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 Applied to Wireless Etherne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40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1905-EA88-4900-9037-A4EC397A1D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ther Notions of Signal “Spreading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reak data stream into small pie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onto independent dimens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ise occasionally causes symbol e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=&gt; data err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948240" y="3429000"/>
            <a:ext cx="6595560" cy="1602720"/>
            <a:chOff x="948240" y="3429000"/>
            <a:chExt cx="6595560" cy="1602720"/>
          </a:xfrm>
        </p:grpSpPr>
        <p:sp>
          <p:nvSpPr>
            <p:cNvPr id="477" name=""/>
            <p:cNvSpPr/>
            <p:nvPr/>
          </p:nvSpPr>
          <p:spPr>
            <a:xfrm>
              <a:off x="2438280" y="36576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19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00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1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2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43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4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5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6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89240" y="3581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7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95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76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9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57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90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2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00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3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62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48240" y="4572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575C-FEF3-4162-A75B-9D43EF115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In FEC Systems, Information is Spread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ve each bit of data affect many symbol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rage out the noise with the deco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esson of Shann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are willing to work (compute) then more throughput is possi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76840" y="3200400"/>
            <a:ext cx="6595560" cy="1602720"/>
            <a:chOff x="1176840" y="3200400"/>
            <a:chExt cx="6595560" cy="1602720"/>
          </a:xfrm>
        </p:grpSpPr>
        <p:sp>
          <p:nvSpPr>
            <p:cNvPr id="508" name=""/>
            <p:cNvSpPr/>
            <p:nvPr/>
          </p:nvSpPr>
          <p:spPr>
            <a:xfrm>
              <a:off x="2666880" y="34290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47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9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9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90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52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33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17840" y="33526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24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04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38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9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67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7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81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62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10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3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0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76840" y="4343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57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8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19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00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1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2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657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276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038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419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800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181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562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43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D2033-1C99-4F09-9810-5A37220E67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11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657600" cy="40910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28 Q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2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734E-76DB-42EB-9173-1C0D6F2185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22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40 8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3.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D4B1-B36B-4EF3-8725-21A16160C9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respect to a reference, an uncod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CK-11, PBCC-11 --&gt; Q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 --&gt; 8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defined as the difference between the SNR (Es/ No) required to achieve a threshold BER or PER with the reference scheme and the SNR (Es/ No) required to achieve the same threshold BER or PER when the signal is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roc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f the signal includes error control coding and de-spreading of the sign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petition or Rate reduction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the energy gain achieved from the reduction of data rate relative to the referenc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12BD4-1C48-4AFA-AA1E-7AAADDC16C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measured on an Eb/ No scale rather than an Es/ No scale. This prevents the apparent increase in performance that has been gained as a tradeoff between Es/ No and rat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t is the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ss gai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rom a repetition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Bandwidth expansion factor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ith ideal pulse shaping, the TI system which operates at 11 Msps, would occupy 11 MHz of bandwidth. However, the signal is spread to a bandwidth of ~20 MHz. This yields a waveform spreading gain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~10 log( 20/ 11)= 2.6 dB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87EA-6739-475C-A4E3-5FE656CC64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. G. Comparis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cessing Gain = Coding Gain + Rate/Spreading G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 Waveform/Sprea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24386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762120" y="1905120"/>
            <a:ext cx="7530840" cy="2006640"/>
            <a:chOff x="762120" y="1905120"/>
            <a:chExt cx="7530840" cy="200664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762120" y="1905120"/>
              <a:ext cx="75308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7467480" y="2514960"/>
              <a:ext cx="762120" cy="1371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45C0-7908-4F12-8CFB-BEDFFB0F6C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CW Jamming Margin Tes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will pass the existing test in all mod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luding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test is useful for eliminating poorly designed syste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ows some degree of robustn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measures of robustness: (e.g., narrow band Gaussia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PBCC-22 mode is as robust as the CCK-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y reasonable test that CCK-11 passes will be passed by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D6F2-CBB1-4E91-9ACF-8F95C8B157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he ACX101 Baseband Processor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B7438-8616-4EB7-963B-BF1D22037F4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uble the Data Rate” Wireless Ethern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943ED-3E44-4A0B-85F4-365D7BF4BF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ACX 101 Baseband Processo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8001000" cy="44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BB65-02BA-4A5B-846A-7941D5567D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antro/TI has built an extension to the existing IEEE 802.11b standard that is fully backward compa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olution will pass the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CC rul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pectrum is the same as the existing stand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ACX101, with PBCC-22, is as robust as existing CCK-11 produc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ill deliver twice the data rate 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n the same environ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22 Mbps achieves better performance throug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ophisticated signal and FEC desig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vanced digital communications signal processing algorith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 solution is the leading contender for the new IEEE 802.11g wireless Ethernet standar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BF78-3B13-4DD4-865C-780EF14AE9E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895480" y="2057400"/>
            <a:ext cx="5888520" cy="4038480"/>
            <a:chOff x="2895480" y="2057400"/>
            <a:chExt cx="5888520" cy="4038480"/>
          </a:xfrm>
        </p:grpSpPr>
        <p:sp>
          <p:nvSpPr>
            <p:cNvPr id="112" name=""/>
            <p:cNvSpPr/>
            <p:nvPr/>
          </p:nvSpPr>
          <p:spPr>
            <a:xfrm>
              <a:off x="5577480" y="5775480"/>
              <a:ext cx="26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oise, Multipath Distortio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4064040" y="372420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Data Rate, Mbp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8560" y="2340000"/>
              <a:ext cx="308628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3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1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0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67480" y="2340000"/>
              <a:ext cx="180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94840" y="557856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8560" y="493092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4840" y="493092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08560" y="428292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4840" y="428292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8560" y="363528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4840" y="363528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560" y="298764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94840" y="298764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94840" y="234000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94840" y="2340000"/>
              <a:ext cx="144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13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13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931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31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540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0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8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67480" y="55404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23400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7724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856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5668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0200" y="550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856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5668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020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856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5668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4240" y="421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35668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24240" y="356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856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5668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24240" y="291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856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35668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24240" y="227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8560" y="2340000"/>
              <a:ext cx="3086280" cy="3238560"/>
            </a:xfrm>
            <a:custGeom>
              <a:avLst/>
              <a:gdLst/>
              <a:ahLst/>
              <a:rect l="l" t="t" r="r" b="b"/>
              <a:pathLst>
                <a:path w="1944" h="2040">
                  <a:moveTo>
                    <a:pt x="0" y="2040"/>
                  </a:moveTo>
                  <a:lnTo>
                    <a:pt x="1944" y="2040"/>
                  </a:lnTo>
                  <a:lnTo>
                    <a:pt x="19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4156200"/>
              <a:ext cx="317520" cy="142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60840" y="2733840"/>
              <a:ext cx="304920" cy="28447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4867200"/>
              <a:ext cx="317520" cy="71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3800" y="5324400"/>
              <a:ext cx="31752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8200" y="4156200"/>
              <a:ext cx="304560" cy="1422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4867200"/>
              <a:ext cx="304920" cy="711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5200" y="2352600"/>
              <a:ext cx="990720" cy="38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ffany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2057400"/>
              <a:ext cx="13716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ffany"/>
                </a:rPr>
                <a:t>T 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791320" y="2733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3120" y="26049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87400" y="40593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11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4181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48080" y="4714920"/>
              <a:ext cx="8359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5.5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120" y="4867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5040" y="5248440"/>
              <a:ext cx="7081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8720" y="5324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5705640"/>
              <a:ext cx="1828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9600" y="563868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</a:rPr>
                <a:t>IEEE 802.11b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43400" y="5105160"/>
              <a:ext cx="1600200" cy="68580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5181480"/>
              <a:ext cx="220968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43400" y="5181480"/>
              <a:ext cx="25146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43400" y="5181480"/>
              <a:ext cx="32004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43400" y="5409720"/>
              <a:ext cx="3429000" cy="3812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486400"/>
              <a:ext cx="1447920" cy="609480"/>
            </a:xfrm>
            <a:prstGeom prst="ellipse">
              <a:avLst/>
            </a:prstGeom>
            <a:noFill/>
            <a:ln w="28440">
              <a:solidFill>
                <a:srgbClr val="008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I Offers 2x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Double the Data Rate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dditive White Gaussian Noi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FEC has a “3db” coding gain advanta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ultipath Distor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joint equalizer/decoder” can process much more distor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CCK” solution takes advantage of the receiv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5717-1F2D-4273-BE0E-EAFB1C941E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Why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trum is rare and valu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 order to be efficient it demands the most aggressive practical technical 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story: as progress is made, more throughput is achiev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ample: Telephone modem technolog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xed 3 kHz channel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itial progress: 300 -&gt; 1,200 -&gt; 2,400 -&gt; 4,800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gress was stalled until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rellis coding, a form of FEC based on convolutional coding,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daptive signal processing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spired new wave:  9,600 -&gt; 14,400 -&gt; 28,800 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lantro/TI technology provides the next wave in wireless Ethernet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1828-1B93-47B2-96B2-5578C51BB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How to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553080" y="1905120"/>
            <a:ext cx="2146320" cy="1245960"/>
            <a:chOff x="6553080" y="1905120"/>
            <a:chExt cx="2146320" cy="1245960"/>
          </a:xfrm>
        </p:grpSpPr>
        <p:sp>
          <p:nvSpPr>
            <p:cNvPr id="202" name=""/>
            <p:cNvSpPr/>
            <p:nvPr/>
          </p:nvSpPr>
          <p:spPr>
            <a:xfrm>
              <a:off x="6553080" y="1905120"/>
              <a:ext cx="213372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7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1344" y="77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0" y="776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6040" y="191772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66040" y="314964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0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000" y="20257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92760" y="2070000"/>
              <a:ext cx="508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0840" y="2178000"/>
              <a:ext cx="121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= 11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92760" y="2222640"/>
              <a:ext cx="508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8000" y="233028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8760" y="23367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88000" y="249552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08760" y="254016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6920" y="2502000"/>
              <a:ext cx="144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2720" y="26478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CCK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8760" y="269244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46920" y="265428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32640" y="28004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760" y="280656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2640" y="29527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2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760" y="2997360"/>
              <a:ext cx="763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6920" y="2959200"/>
              <a:ext cx="144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320" y="1755720"/>
            <a:ext cx="5456520" cy="4722120"/>
            <a:chOff x="706320" y="1755720"/>
            <a:chExt cx="5456520" cy="4722120"/>
          </a:xfrm>
        </p:grpSpPr>
        <p:sp>
          <p:nvSpPr>
            <p:cNvPr id="234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0" y="2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2488" y="2144"/>
                  </a:lnTo>
                  <a:lnTo>
                    <a:pt x="0" y="2144"/>
                  </a:lnTo>
                  <a:lnTo>
                    <a:pt x="0" y="2144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0" y="2144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540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46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492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3516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316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0364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3640" y="533088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54080" y="475920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3640" y="475920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54080" y="4200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3640" y="4200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4080" y="36291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291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54080" y="3057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3057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4080" y="24987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24987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92744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2488" y="2144"/>
                  </a:lnTo>
                  <a:lnTo>
                    <a:pt x="2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540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540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6120" y="5388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46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46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8192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7492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492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21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3516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3516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27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8316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316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34340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110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0364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364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32360" y="5388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4080" y="5330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65480" y="533088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5360" y="5273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4080" y="47592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65480" y="475920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5360" y="470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4080" y="4200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65480" y="4200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680" y="41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36291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965480" y="36291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8680" y="357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4080" y="3057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65480" y="3057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680" y="3000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4080" y="24987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65480" y="24987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8680" y="244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4080" y="19274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965480" y="192744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8680" y="1870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003640" y="1927440"/>
              <a:ext cx="180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0" y="1616"/>
                  </a:lnTo>
                  <a:lnTo>
                    <a:pt x="24" y="1600"/>
                  </a:lnTo>
                  <a:lnTo>
                    <a:pt x="24" y="1600"/>
                  </a:lnTo>
                  <a:lnTo>
                    <a:pt x="40" y="1592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68" y="24"/>
                  </a:lnTo>
                  <a:lnTo>
                    <a:pt x="1992" y="0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24" y="1600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4080" y="4556160"/>
              <a:ext cx="3949560" cy="431640"/>
            </a:xfrm>
            <a:custGeom>
              <a:avLst/>
              <a:gdLst/>
              <a:ahLst/>
              <a:rect l="l" t="t" r="r" b="b"/>
              <a:pathLst>
                <a:path w="2488" h="272">
                  <a:moveTo>
                    <a:pt x="0" y="272"/>
                  </a:moveTo>
                  <a:lnTo>
                    <a:pt x="24" y="272"/>
                  </a:lnTo>
                  <a:lnTo>
                    <a:pt x="40" y="272"/>
                  </a:lnTo>
                  <a:lnTo>
                    <a:pt x="64" y="272"/>
                  </a:lnTo>
                  <a:lnTo>
                    <a:pt x="80" y="264"/>
                  </a:lnTo>
                  <a:lnTo>
                    <a:pt x="104" y="264"/>
                  </a:lnTo>
                  <a:lnTo>
                    <a:pt x="128" y="264"/>
                  </a:lnTo>
                  <a:lnTo>
                    <a:pt x="144" y="256"/>
                  </a:lnTo>
                  <a:lnTo>
                    <a:pt x="168" y="256"/>
                  </a:lnTo>
                  <a:lnTo>
                    <a:pt x="184" y="256"/>
                  </a:lnTo>
                  <a:lnTo>
                    <a:pt x="208" y="256"/>
                  </a:lnTo>
                  <a:lnTo>
                    <a:pt x="232" y="248"/>
                  </a:lnTo>
                  <a:lnTo>
                    <a:pt x="248" y="248"/>
                  </a:lnTo>
                  <a:lnTo>
                    <a:pt x="272" y="248"/>
                  </a:lnTo>
                  <a:lnTo>
                    <a:pt x="288" y="248"/>
                  </a:lnTo>
                  <a:lnTo>
                    <a:pt x="312" y="240"/>
                  </a:lnTo>
                  <a:lnTo>
                    <a:pt x="328" y="240"/>
                  </a:lnTo>
                  <a:lnTo>
                    <a:pt x="352" y="240"/>
                  </a:lnTo>
                  <a:lnTo>
                    <a:pt x="376" y="240"/>
                  </a:lnTo>
                  <a:lnTo>
                    <a:pt x="392" y="232"/>
                  </a:lnTo>
                  <a:lnTo>
                    <a:pt x="416" y="232"/>
                  </a:lnTo>
                  <a:lnTo>
                    <a:pt x="432" y="232"/>
                  </a:lnTo>
                  <a:lnTo>
                    <a:pt x="456" y="224"/>
                  </a:lnTo>
                  <a:lnTo>
                    <a:pt x="480" y="224"/>
                  </a:lnTo>
                  <a:lnTo>
                    <a:pt x="496" y="224"/>
                  </a:lnTo>
                  <a:lnTo>
                    <a:pt x="520" y="224"/>
                  </a:lnTo>
                  <a:lnTo>
                    <a:pt x="536" y="216"/>
                  </a:lnTo>
                  <a:lnTo>
                    <a:pt x="560" y="216"/>
                  </a:lnTo>
                  <a:lnTo>
                    <a:pt x="584" y="216"/>
                  </a:lnTo>
                  <a:lnTo>
                    <a:pt x="600" y="216"/>
                  </a:lnTo>
                  <a:lnTo>
                    <a:pt x="624" y="208"/>
                  </a:lnTo>
                  <a:lnTo>
                    <a:pt x="640" y="208"/>
                  </a:lnTo>
                  <a:lnTo>
                    <a:pt x="664" y="208"/>
                  </a:lnTo>
                  <a:lnTo>
                    <a:pt x="688" y="200"/>
                  </a:lnTo>
                  <a:lnTo>
                    <a:pt x="704" y="200"/>
                  </a:lnTo>
                  <a:lnTo>
                    <a:pt x="728" y="200"/>
                  </a:lnTo>
                  <a:lnTo>
                    <a:pt x="744" y="200"/>
                  </a:lnTo>
                  <a:lnTo>
                    <a:pt x="768" y="192"/>
                  </a:lnTo>
                  <a:lnTo>
                    <a:pt x="784" y="192"/>
                  </a:lnTo>
                  <a:lnTo>
                    <a:pt x="808" y="192"/>
                  </a:lnTo>
                  <a:lnTo>
                    <a:pt x="832" y="184"/>
                  </a:lnTo>
                  <a:lnTo>
                    <a:pt x="848" y="184"/>
                  </a:lnTo>
                  <a:lnTo>
                    <a:pt x="872" y="184"/>
                  </a:lnTo>
                  <a:lnTo>
                    <a:pt x="888" y="184"/>
                  </a:lnTo>
                  <a:lnTo>
                    <a:pt x="912" y="176"/>
                  </a:lnTo>
                  <a:lnTo>
                    <a:pt x="936" y="176"/>
                  </a:lnTo>
                  <a:lnTo>
                    <a:pt x="952" y="176"/>
                  </a:lnTo>
                  <a:lnTo>
                    <a:pt x="976" y="168"/>
                  </a:lnTo>
                  <a:lnTo>
                    <a:pt x="992" y="168"/>
                  </a:lnTo>
                  <a:lnTo>
                    <a:pt x="1016" y="168"/>
                  </a:lnTo>
                  <a:lnTo>
                    <a:pt x="1040" y="168"/>
                  </a:lnTo>
                  <a:lnTo>
                    <a:pt x="1056" y="160"/>
                  </a:lnTo>
                  <a:lnTo>
                    <a:pt x="1080" y="160"/>
                  </a:lnTo>
                  <a:lnTo>
                    <a:pt x="1096" y="160"/>
                  </a:lnTo>
                  <a:lnTo>
                    <a:pt x="1120" y="152"/>
                  </a:lnTo>
                  <a:lnTo>
                    <a:pt x="1144" y="152"/>
                  </a:lnTo>
                  <a:lnTo>
                    <a:pt x="1160" y="152"/>
                  </a:lnTo>
                  <a:lnTo>
                    <a:pt x="1184" y="152"/>
                  </a:lnTo>
                  <a:lnTo>
                    <a:pt x="1200" y="144"/>
                  </a:lnTo>
                  <a:lnTo>
                    <a:pt x="1224" y="144"/>
                  </a:lnTo>
                  <a:lnTo>
                    <a:pt x="1248" y="144"/>
                  </a:lnTo>
                  <a:lnTo>
                    <a:pt x="1264" y="136"/>
                  </a:lnTo>
                  <a:lnTo>
                    <a:pt x="1288" y="136"/>
                  </a:lnTo>
                  <a:lnTo>
                    <a:pt x="1304" y="136"/>
                  </a:lnTo>
                  <a:lnTo>
                    <a:pt x="1328" y="136"/>
                  </a:lnTo>
                  <a:lnTo>
                    <a:pt x="1344" y="128"/>
                  </a:lnTo>
                  <a:lnTo>
                    <a:pt x="1368" y="128"/>
                  </a:lnTo>
                  <a:lnTo>
                    <a:pt x="1392" y="128"/>
                  </a:lnTo>
                  <a:lnTo>
                    <a:pt x="1408" y="120"/>
                  </a:lnTo>
                  <a:lnTo>
                    <a:pt x="1432" y="120"/>
                  </a:lnTo>
                  <a:lnTo>
                    <a:pt x="1448" y="120"/>
                  </a:lnTo>
                  <a:lnTo>
                    <a:pt x="1472" y="120"/>
                  </a:lnTo>
                  <a:lnTo>
                    <a:pt x="1496" y="112"/>
                  </a:lnTo>
                  <a:lnTo>
                    <a:pt x="1512" y="112"/>
                  </a:lnTo>
                  <a:lnTo>
                    <a:pt x="1536" y="112"/>
                  </a:lnTo>
                  <a:lnTo>
                    <a:pt x="1552" y="104"/>
                  </a:lnTo>
                  <a:lnTo>
                    <a:pt x="1576" y="104"/>
                  </a:lnTo>
                  <a:lnTo>
                    <a:pt x="1600" y="104"/>
                  </a:lnTo>
                  <a:lnTo>
                    <a:pt x="1616" y="104"/>
                  </a:lnTo>
                  <a:lnTo>
                    <a:pt x="1640" y="96"/>
                  </a:lnTo>
                  <a:lnTo>
                    <a:pt x="1656" y="96"/>
                  </a:lnTo>
                  <a:lnTo>
                    <a:pt x="1680" y="96"/>
                  </a:lnTo>
                  <a:lnTo>
                    <a:pt x="1704" y="88"/>
                  </a:lnTo>
                  <a:lnTo>
                    <a:pt x="1720" y="88"/>
                  </a:lnTo>
                  <a:lnTo>
                    <a:pt x="1744" y="88"/>
                  </a:lnTo>
                  <a:lnTo>
                    <a:pt x="1760" y="88"/>
                  </a:lnTo>
                  <a:lnTo>
                    <a:pt x="1784" y="80"/>
                  </a:lnTo>
                  <a:lnTo>
                    <a:pt x="1800" y="80"/>
                  </a:lnTo>
                  <a:lnTo>
                    <a:pt x="1824" y="80"/>
                  </a:lnTo>
                  <a:lnTo>
                    <a:pt x="1848" y="72"/>
                  </a:lnTo>
                  <a:lnTo>
                    <a:pt x="1864" y="72"/>
                  </a:lnTo>
                  <a:lnTo>
                    <a:pt x="1888" y="72"/>
                  </a:lnTo>
                  <a:lnTo>
                    <a:pt x="1904" y="72"/>
                  </a:lnTo>
                  <a:lnTo>
                    <a:pt x="1928" y="64"/>
                  </a:lnTo>
                  <a:lnTo>
                    <a:pt x="1952" y="64"/>
                  </a:lnTo>
                  <a:lnTo>
                    <a:pt x="1968" y="64"/>
                  </a:lnTo>
                  <a:lnTo>
                    <a:pt x="1992" y="56"/>
                  </a:lnTo>
                  <a:lnTo>
                    <a:pt x="2008" y="56"/>
                  </a:lnTo>
                  <a:lnTo>
                    <a:pt x="2032" y="56"/>
                  </a:lnTo>
                  <a:lnTo>
                    <a:pt x="2056" y="48"/>
                  </a:lnTo>
                  <a:lnTo>
                    <a:pt x="2072" y="48"/>
                  </a:lnTo>
                  <a:lnTo>
                    <a:pt x="2096" y="48"/>
                  </a:lnTo>
                  <a:lnTo>
                    <a:pt x="2112" y="48"/>
                  </a:lnTo>
                  <a:lnTo>
                    <a:pt x="2136" y="40"/>
                  </a:lnTo>
                  <a:lnTo>
                    <a:pt x="2160" y="40"/>
                  </a:lnTo>
                  <a:lnTo>
                    <a:pt x="2176" y="40"/>
                  </a:lnTo>
                  <a:lnTo>
                    <a:pt x="2200" y="32"/>
                  </a:lnTo>
                  <a:lnTo>
                    <a:pt x="2216" y="32"/>
                  </a:lnTo>
                  <a:lnTo>
                    <a:pt x="2240" y="32"/>
                  </a:lnTo>
                  <a:lnTo>
                    <a:pt x="2256" y="32"/>
                  </a:lnTo>
                  <a:lnTo>
                    <a:pt x="2280" y="24"/>
                  </a:lnTo>
                  <a:lnTo>
                    <a:pt x="2304" y="24"/>
                  </a:lnTo>
                  <a:lnTo>
                    <a:pt x="2320" y="24"/>
                  </a:lnTo>
                  <a:lnTo>
                    <a:pt x="2344" y="16"/>
                  </a:lnTo>
                  <a:lnTo>
                    <a:pt x="2360" y="16"/>
                  </a:lnTo>
                  <a:lnTo>
                    <a:pt x="2384" y="16"/>
                  </a:lnTo>
                  <a:lnTo>
                    <a:pt x="2408" y="8"/>
                  </a:lnTo>
                  <a:lnTo>
                    <a:pt x="2424" y="8"/>
                  </a:lnTo>
                  <a:lnTo>
                    <a:pt x="2448" y="8"/>
                  </a:lnTo>
                  <a:lnTo>
                    <a:pt x="2464" y="8"/>
                  </a:lnTo>
                  <a:lnTo>
                    <a:pt x="248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1720" y="517860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2440" y="510228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0600" y="5064120"/>
              <a:ext cx="144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504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0468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0480" y="408636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8640" y="40482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8308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48272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7800" y="404820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46440" y="2828880"/>
              <a:ext cx="76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84600" y="2790720"/>
              <a:ext cx="180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5940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5904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3400" y="175572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versus SNR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10080" y="55404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 (dB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377280" y="347760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(Mbps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596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5940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238560" y="5889600"/>
              <a:ext cx="1282680" cy="88920"/>
              <a:chOff x="3238560" y="5889600"/>
              <a:chExt cx="1282680" cy="88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0800" y="5889600"/>
                <a:ext cx="190440" cy="88920"/>
              </a:xfrm>
              <a:custGeom>
                <a:avLst/>
                <a:gdLst/>
                <a:ahLst/>
                <a:rect l="l" t="t" r="r" b="b"/>
                <a:pathLst>
                  <a:path w="120" h="56">
                    <a:moveTo>
                      <a:pt x="120" y="32"/>
                    </a:moveTo>
                    <a:lnTo>
                      <a:pt x="0" y="5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38560" y="5889600"/>
                <a:ext cx="17784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0" y="32"/>
                    </a:moveTo>
                    <a:lnTo>
                      <a:pt x="112" y="0"/>
                    </a:lnTo>
                    <a:lnTo>
                      <a:pt x="112" y="32"/>
                    </a:lnTo>
                    <a:lnTo>
                      <a:pt x="112" y="5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416400" y="5940360"/>
                <a:ext cx="9144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405240" y="60609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7400" y="6264360"/>
              <a:ext cx="102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obustnes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75040" y="2803680"/>
              <a:ext cx="80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5040" y="4060800"/>
              <a:ext cx="80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372280" y="2803680"/>
              <a:ext cx="88560" cy="1257120"/>
              <a:chOff x="5372280" y="2803680"/>
              <a:chExt cx="88560" cy="1257120"/>
            </a:xfrm>
          </p:grpSpPr>
          <p:sp>
            <p:nvSpPr>
              <p:cNvPr id="338" name=""/>
              <p:cNvSpPr/>
              <p:nvPr/>
            </p:nvSpPr>
            <p:spPr>
              <a:xfrm>
                <a:off x="5372280" y="280368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0"/>
                    </a:moveTo>
                    <a:lnTo>
                      <a:pt x="56" y="112"/>
                    </a:lnTo>
                    <a:lnTo>
                      <a:pt x="24" y="112"/>
                    </a:lnTo>
                    <a:lnTo>
                      <a:pt x="0" y="1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72280" y="388296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1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6" y="0"/>
                    </a:lnTo>
                    <a:lnTo>
                      <a:pt x="24" y="1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10080" y="2981520"/>
                <a:ext cx="1800" cy="90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386320" y="31845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34640" y="33814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5240" y="35845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8840" y="2346480"/>
              <a:ext cx="1108800" cy="337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ER =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Garam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C5E2-0D6B-4C13-ACAF-1D7BAF5E1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acket Binary Convolutional Coding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bines Binary Convolutional Coding with Codeword Scrambl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11 (and 5.5)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1, n = 2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4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PSK (BPSK)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9/2 = 6.5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22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2, n=3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56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PSK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704/98 = 8.6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0264-95BF-432E-A54D-EB5FED99DA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 Compon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89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7B6C-230D-42A6-B2D0-2D1BCF8F06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BCC Encode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11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3581280"/>
            <a:ext cx="74678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552456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00400" y="3619440"/>
            <a:ext cx="453384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533520" y="5334120"/>
          <a:ext cx="222228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334120"/>
                    <a:ext cx="2222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57200" y="3276720"/>
          <a:ext cx="3492360" cy="24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3492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37D99-DB27-4B81-9731-BA1D574867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20:27:00Z</dcterms:created>
  <dc:creator>Bozo T. Clown</dc:creator>
  <dc:description/>
  <dc:language>en-US</dc:language>
  <cp:lastModifiedBy>batra</cp:lastModifiedBy>
  <dcterms:modified xsi:type="dcterms:W3CDTF">2000-12-04T16:21:00Z</dcterms:modified>
  <cp:revision>53</cp:revision>
  <dc:subject/>
  <dc:title>High Performance Wireless Local Area Networks in the 2.4GHz ISM Band</dc:title>
</cp:coreProperties>
</file>