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19EE-EBD9-4230-934A-74AEDE473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9F0B-1ED5-42C1-8666-41AD991B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D470-8A77-4F66-8FB9-2140D0352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DCB7-1E00-4406-AD9F-6EBEDD714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B8A9-B2F5-4344-A8AD-7B0C90888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42D9C-72EA-4F03-B0F0-20E091E59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412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412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42ED-453B-4FC7-BAFB-79036E007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9AC7C-42B1-46E4-8E23-33E04C73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24D82-4E89-4F6A-9E05-6B9CE47E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239DA-0407-4659-AB46-D47376C9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FAA5F-3954-4D13-8DD2-21AFFB201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7EFE8-393F-4518-9128-E5CAEE07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467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26CA0-1A55-49A1-B350-ADFE0AEB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61A47-7996-49A8-8FE5-D2EC5F79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021C8-2D10-4D3D-9BD6-1AA28F574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52B56A-53B4-45F3-B48E-1F3BDC79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C8BFC-D7D8-4FF1-B710-B70FF7FD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677A6-9218-49C9-8DE1-6B73F17B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11782-426A-4906-A2AE-2F7AE5A7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6412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6412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DB4572-B1B9-4F69-9F2C-E8041060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2440-CE4C-4BE8-A039-C22CC5E1FE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F9C85-CEEA-4103-BF2B-FE6B6038F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D0344-815C-4D13-B322-BB9218EF6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467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6732D-F92F-4035-A8FA-0CFFA20E3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A6A2-A5A5-4BC5-92BA-C25241A8AD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E404-2961-4E6A-8BA0-32A9477AD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B64B-DB4B-484B-8CEF-6681A9E27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"/>
          <p:cNvSpPr/>
          <p:nvPr/>
        </p:nvSpPr>
        <p:spPr>
          <a:xfrm>
            <a:off x="493920" y="366840"/>
            <a:ext cx="1058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"/>
          <p:cNvSpPr/>
          <p:nvPr/>
        </p:nvSpPr>
        <p:spPr>
          <a:xfrm>
            <a:off x="5813640" y="396000"/>
            <a:ext cx="273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doc.: IEEE 802.11-00/384r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8143920" y="6474960"/>
            <a:ext cx="46656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3CE965-939D-425D-B727-A2786FF38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21360" y="64753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7011720" cy="6313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609480"/>
            <a:ext cx="9144000" cy="914400"/>
            <a:chOff x="0" y="609480"/>
            <a:chExt cx="9144000" cy="9144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7543800" y="1052280"/>
              <a:ext cx="14479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0" y="609480"/>
              <a:ext cx="9144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8143920" y="6474960"/>
            <a:ext cx="46656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4344480" y="6474960"/>
            <a:ext cx="53028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401B27-8C0E-4F44-A505-46E9F71CB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64753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5"/>
          </p:nvPr>
        </p:nvSpPr>
        <p:spPr>
          <a:xfrm>
            <a:off x="609480" y="366480"/>
            <a:ext cx="82728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13640" y="396000"/>
            <a:ext cx="273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doc.: IEEE 802.11-00/384r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5181480"/>
            <a:ext cx="6248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xas Instruments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41 Stony Circle, Suite 13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anta Rosa California  9540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707) 521-3060, heegard@ti.c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Texas Instruments Proposal for IEEE 802.11g High-Rate Standard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Chris Heegard, PhD, 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Eric Rossin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Matthew Shoemake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, Sean Coffey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and Anuj Batra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38EAB-C107-4428-B753-A12B0919871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Symbol Scrambler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56" name=""/>
          <p:cNvSpPr/>
          <p:nvPr/>
        </p:nvSpPr>
        <p:spPr>
          <a:xfrm>
            <a:off x="1908720" y="2343240"/>
            <a:ext cx="72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QPSK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"/>
          <p:cNvSpPr/>
          <p:nvPr/>
        </p:nvSpPr>
        <p:spPr>
          <a:xfrm>
            <a:off x="1970280" y="2622600"/>
            <a:ext cx="67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"/>
          <p:cNvSpPr/>
          <p:nvPr/>
        </p:nvSpPr>
        <p:spPr>
          <a:xfrm>
            <a:off x="1751400" y="2901960"/>
            <a:ext cx="116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1 bit p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2017080" y="3181320"/>
            <a:ext cx="96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ymbol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352320" y="2400480"/>
            <a:ext cx="1143000" cy="1143000"/>
            <a:chOff x="3352320" y="2400480"/>
            <a:chExt cx="1143000" cy="1143000"/>
          </a:xfrm>
        </p:grpSpPr>
        <p:sp>
          <p:nvSpPr>
            <p:cNvPr id="361" name=""/>
            <p:cNvSpPr/>
            <p:nvPr/>
          </p:nvSpPr>
          <p:spPr>
            <a:xfrm>
              <a:off x="3924360" y="2400480"/>
              <a:ext cx="1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52320" y="297180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80040" y="252720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79760" y="25272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80040" y="33274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79760" y="33274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5752800" y="2400480"/>
            <a:ext cx="1143000" cy="1143000"/>
            <a:chOff x="5752800" y="2400480"/>
            <a:chExt cx="1143000" cy="1143000"/>
          </a:xfrm>
        </p:grpSpPr>
        <p:sp>
          <p:nvSpPr>
            <p:cNvPr id="368" name=""/>
            <p:cNvSpPr/>
            <p:nvPr/>
          </p:nvSpPr>
          <p:spPr>
            <a:xfrm>
              <a:off x="6324480" y="2400480"/>
              <a:ext cx="18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752800" y="297180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80160" y="25272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80240" y="252720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80160" y="33274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80240" y="33274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852720" y="20509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/>
          <p:nvPr/>
        </p:nvSpPr>
        <p:spPr>
          <a:xfrm>
            <a:off x="6240600" y="20509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1828800"/>
            <a:ext cx="5613480" cy="218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/>
          <p:nvPr/>
        </p:nvSpPr>
        <p:spPr>
          <a:xfrm>
            <a:off x="1809000" y="4514760"/>
            <a:ext cx="13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8PSK Mod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"/>
          <p:cNvSpPr/>
          <p:nvPr/>
        </p:nvSpPr>
        <p:spPr>
          <a:xfrm>
            <a:off x="1805400" y="4800600"/>
            <a:ext cx="116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2 bit p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2042640" y="5073480"/>
            <a:ext cx="96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ymbol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1752480" y="4000680"/>
            <a:ext cx="5613480" cy="218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/>
          <p:nvPr/>
        </p:nvSpPr>
        <p:spPr>
          <a:xfrm>
            <a:off x="452988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567288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328500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328500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"/>
          <p:cNvSpPr/>
          <p:nvPr/>
        </p:nvSpPr>
        <p:spPr>
          <a:xfrm>
            <a:off x="452988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"/>
          <p:cNvSpPr/>
          <p:nvPr/>
        </p:nvSpPr>
        <p:spPr>
          <a:xfrm>
            <a:off x="567288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"/>
          <p:cNvSpPr/>
          <p:nvPr/>
        </p:nvSpPr>
        <p:spPr>
          <a:xfrm>
            <a:off x="693000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693000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3852720" y="41083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"/>
          <p:cNvSpPr/>
          <p:nvPr/>
        </p:nvSpPr>
        <p:spPr>
          <a:xfrm>
            <a:off x="6240600" y="41083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095640" y="4425840"/>
            <a:ext cx="1853280" cy="1598040"/>
            <a:chOff x="3095640" y="4425840"/>
            <a:chExt cx="1853280" cy="1598040"/>
          </a:xfrm>
        </p:grpSpPr>
        <p:grpSp>
          <p:nvGrpSpPr>
            <p:cNvPr id="392" name=""/>
            <p:cNvGrpSpPr/>
            <p:nvPr/>
          </p:nvGrpSpPr>
          <p:grpSpPr>
            <a:xfrm>
              <a:off x="3352320" y="4572000"/>
              <a:ext cx="1143000" cy="1143000"/>
              <a:chOff x="3352320" y="4572000"/>
              <a:chExt cx="1143000" cy="1143000"/>
            </a:xfrm>
          </p:grpSpPr>
          <p:sp>
            <p:nvSpPr>
              <p:cNvPr id="393" name=""/>
              <p:cNvSpPr/>
              <p:nvPr/>
            </p:nvSpPr>
            <p:spPr>
              <a:xfrm>
                <a:off x="3924360" y="4572000"/>
                <a:ext cx="144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3352320" y="5143680"/>
                <a:ext cx="1143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80040" y="469908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79760" y="469908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80040" y="549900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479760" y="549900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4467240" y="4667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10120" y="465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190320" y="5619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85960" y="55436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3352680" y="4521240"/>
              <a:ext cx="1257480" cy="1257120"/>
              <a:chOff x="3352680" y="4521240"/>
              <a:chExt cx="1257480" cy="1257120"/>
            </a:xfrm>
          </p:grpSpPr>
          <p:sp>
            <p:nvSpPr>
              <p:cNvPr id="404" name=""/>
              <p:cNvSpPr/>
              <p:nvPr/>
            </p:nvSpPr>
            <p:spPr>
              <a:xfrm>
                <a:off x="3898800" y="452124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352680" y="5105520"/>
                <a:ext cx="127080" cy="12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483080" y="507996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924360" y="5651640"/>
                <a:ext cx="127080" cy="12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408" name=""/>
            <p:cNvSpPr/>
            <p:nvPr/>
          </p:nvSpPr>
          <p:spPr>
            <a:xfrm>
              <a:off x="4061160" y="44258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95640" y="5175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7520" y="5810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50840" y="5060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676480" y="4572000"/>
            <a:ext cx="1143000" cy="1143000"/>
            <a:chOff x="5676480" y="4572000"/>
            <a:chExt cx="1143000" cy="1143000"/>
          </a:xfrm>
        </p:grpSpPr>
        <p:sp>
          <p:nvSpPr>
            <p:cNvPr id="413" name=""/>
            <p:cNvSpPr/>
            <p:nvPr/>
          </p:nvSpPr>
          <p:spPr>
            <a:xfrm>
              <a:off x="6248520" y="4572000"/>
              <a:ext cx="1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676480" y="514368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603840" y="46990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03920" y="46990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03840" y="54990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03920" y="54990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759000" y="46674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0" name=""/>
          <p:cNvSpPr/>
          <p:nvPr/>
        </p:nvSpPr>
        <p:spPr>
          <a:xfrm>
            <a:off x="5534280" y="46544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1" name=""/>
          <p:cNvSpPr/>
          <p:nvPr/>
        </p:nvSpPr>
        <p:spPr>
          <a:xfrm>
            <a:off x="5546880" y="5619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2" name=""/>
          <p:cNvSpPr/>
          <p:nvPr/>
        </p:nvSpPr>
        <p:spPr>
          <a:xfrm>
            <a:off x="6809760" y="55436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676840" y="4521240"/>
            <a:ext cx="1257480" cy="1257120"/>
            <a:chOff x="5676840" y="4521240"/>
            <a:chExt cx="1257480" cy="1257120"/>
          </a:xfrm>
        </p:grpSpPr>
        <p:sp>
          <p:nvSpPr>
            <p:cNvPr id="424" name=""/>
            <p:cNvSpPr/>
            <p:nvPr/>
          </p:nvSpPr>
          <p:spPr>
            <a:xfrm>
              <a:off x="6222960" y="452124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76840" y="5105520"/>
              <a:ext cx="12708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07240" y="50799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48520" y="5651640"/>
              <a:ext cx="12672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6352560" y="44258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9" name=""/>
          <p:cNvSpPr/>
          <p:nvPr/>
        </p:nvSpPr>
        <p:spPr>
          <a:xfrm>
            <a:off x="5419800" y="517536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0" name=""/>
          <p:cNvSpPr/>
          <p:nvPr/>
        </p:nvSpPr>
        <p:spPr>
          <a:xfrm>
            <a:off x="6004080" y="58104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"/>
          <p:cNvSpPr/>
          <p:nvPr/>
        </p:nvSpPr>
        <p:spPr>
          <a:xfrm>
            <a:off x="6975000" y="5060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2157840" y="358128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"/>
          <p:cNvSpPr/>
          <p:nvPr/>
        </p:nvSpPr>
        <p:spPr>
          <a:xfrm>
            <a:off x="2135880" y="5638680"/>
            <a:ext cx="106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92AEE-28DC-41CC-9F4B-8370DD602C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“s” Sequence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505320" y="3048120"/>
          <a:ext cx="4878360" cy="299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048120"/>
                    <a:ext cx="4878360" cy="29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length 256 sequence generated from a length 16 seque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[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c1,…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] = [0011001110001011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eriodically extended for &gt;25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9394-B285-4CAF-8A21-AA0C7294FB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AWGN Performa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1601640" y="1531800"/>
          <a:ext cx="5938920" cy="47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531800"/>
                    <a:ext cx="59389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E178C-28D7-4F28-A8F6-038882D661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roughpu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00200" y="1584360"/>
          <a:ext cx="5951520" cy="481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84360"/>
                    <a:ext cx="59515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4DCA-20E7-4D57-99F1-35DA768F43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roughput (cont.)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595520" y="1600200"/>
          <a:ext cx="5951520" cy="481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600200"/>
                    <a:ext cx="59515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9DEC-8F6F-4005-8328-83D3A76ACC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ertification Issues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BCC-22 should be certified under existing rul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5991F-6D3F-4708-8C2C-0EF953B827B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2 Principle Aspects to Certificati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ansmission: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he nature of the transmitted signa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at is the power level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ower Spectru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ception: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Robustness at the receive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pends on the character of the transmitted signal and the sophistication of the receiv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easured with respect to a referenc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omparison of Shannon Limit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terference Rejec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W Jamming Margi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arrow Band Gaussia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AE5F1-2DF7-427A-BC94-9C68B966A3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Transmitted Sign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117440" y="1523880"/>
            <a:ext cx="2921040" cy="23385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047760" cy="24400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047760" cy="244008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4876920" y="4037040"/>
            <a:ext cx="3047760" cy="24400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30160" y="1752480"/>
            <a:ext cx="1118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Barker 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7" name=""/>
          <p:cNvSpPr/>
          <p:nvPr/>
        </p:nvSpPr>
        <p:spPr>
          <a:xfrm>
            <a:off x="4795200" y="1752480"/>
            <a:ext cx="9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CCK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"/>
          <p:cNvSpPr/>
          <p:nvPr/>
        </p:nvSpPr>
        <p:spPr>
          <a:xfrm>
            <a:off x="894960" y="4267080"/>
            <a:ext cx="1064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PBCC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9" name=""/>
          <p:cNvSpPr/>
          <p:nvPr/>
        </p:nvSpPr>
        <p:spPr>
          <a:xfrm>
            <a:off x="4857480" y="4267080"/>
            <a:ext cx="1064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PBCC 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E9EB-4F3F-47DF-9875-24578DB7A6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Definition of Spread Spectrum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 Don’t Know How to Define It, But I Know It When I See It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s ignores the long history to the science of digital communica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17000" indent="-20340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orse, Nyquist, Shannon, Weiner, Hamming, Elias,…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lthough one does need to make logical definitions, similar difficulties exist with other important communications parameter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gnal-to-Noise rati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ower Spectrum, etc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asonable Definitions Exist (examples to follow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the definition important?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means to an end --&gt; robust communica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B6D20-9B6D-4345-83E5-4D799838D5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Massey’s Definiti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wards an Information Theory of Spread- Spectrum Systems” ,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de Division Multiple Access Communications (Eds. S. G. Glisic and P. A. Leppanen) , 1995, James L. Massey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fined 2 notions of Bandwidt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ier” or “Nyquest” 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elates to Spectrum Occupancy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annon” 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elates to Signal Space Dimens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preading Rati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 system is “spread spectrum” 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is larg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definition is mathematically precise and intuitiv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s definition argues that high rate (bits/sec/Hz) systems cannot have significant spreadi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464" name=""/>
          <p:cNvGraphicFramePr/>
          <p:nvPr/>
        </p:nvGraphicFramePr>
        <p:xfrm>
          <a:off x="6019920" y="3809880"/>
          <a:ext cx="228600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809880"/>
                    <a:ext cx="2286000" cy="7700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6" name=""/>
          <p:cNvSpPr/>
          <p:nvPr/>
        </p:nvSpPr>
        <p:spPr>
          <a:xfrm flipH="1">
            <a:off x="7924680" y="3429000"/>
            <a:ext cx="1526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"/>
          <p:cNvSpPr/>
          <p:nvPr/>
        </p:nvSpPr>
        <p:spPr>
          <a:xfrm>
            <a:off x="7524000" y="3164040"/>
            <a:ext cx="1122480" cy="307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aramond"/>
              </a:rPr>
              <a:t>A Theore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F69A2-4165-4149-8133-9DBF820FA7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mproved utilization of the 2.4 GHz ISM band for wireless Etherne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I/Alantro 22 Mbps solu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ow it work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y it is goo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ertification Issu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Jamming Requirem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CX101 Baseband Processo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ED2C0-5357-468D-B937-F8070F5D03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Massey’s Definition Applied to Wireless Etherne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140360" cy="266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FE41-2D19-41C1-8A9B-7258811898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Other Notions of Signal “Spreading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coded Modulati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reak data stream into small piec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p onto independent dimension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oise occasionally causes symbol err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=&gt; data err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948240" y="3429000"/>
            <a:ext cx="6595560" cy="1602720"/>
            <a:chOff x="948240" y="3429000"/>
            <a:chExt cx="6595560" cy="1602720"/>
          </a:xfrm>
        </p:grpSpPr>
        <p:sp>
          <p:nvSpPr>
            <p:cNvPr id="473" name=""/>
            <p:cNvSpPr/>
            <p:nvPr/>
          </p:nvSpPr>
          <p:spPr>
            <a:xfrm>
              <a:off x="2438280" y="3657600"/>
              <a:ext cx="5105520" cy="380880"/>
            </a:xfrm>
            <a:prstGeom prst="rect">
              <a:avLst/>
            </a:prstGeom>
            <a:solidFill>
              <a:srgbClr val="6ef5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19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00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1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62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43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24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105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486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67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89240" y="3581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ata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47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95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29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76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0988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657600" y="46483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90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038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72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19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5288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00600" y="46483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33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715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62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48240" y="45720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ymbols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0D35-2C50-4017-8070-874AC6B253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In FEC Systems, Information is Spread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ded Modulati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ave each bit of data affect many symbol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verage out the noise with the decod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esson of Shann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f you are willing to work (compute) then more throughput is possib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176840" y="3200400"/>
            <a:ext cx="6595560" cy="1602720"/>
            <a:chOff x="1176840" y="3200400"/>
            <a:chExt cx="6595560" cy="1602720"/>
          </a:xfrm>
        </p:grpSpPr>
        <p:sp>
          <p:nvSpPr>
            <p:cNvPr id="504" name=""/>
            <p:cNvSpPr/>
            <p:nvPr/>
          </p:nvSpPr>
          <p:spPr>
            <a:xfrm>
              <a:off x="2666880" y="3429000"/>
              <a:ext cx="5105520" cy="380880"/>
            </a:xfrm>
            <a:prstGeom prst="rect">
              <a:avLst/>
            </a:prstGeom>
            <a:solidFill>
              <a:srgbClr val="6ef5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47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29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09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90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72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952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33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15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5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17840" y="33526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ata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76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24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657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4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3848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6200" y="44197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67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800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647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18148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29200" y="44197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62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10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90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76840" y="43434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ymbols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76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76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5760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3848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19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0060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8148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62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3657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3276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403848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4419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4800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518148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5562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5943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A511-6406-465A-B7AA-0352C847A5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-11 Pathmemory Requirem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657600" cy="40910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perform within 0.5 dB of optimal requires the decoder to observe received symbols in a window that is &gt; 28 QPSK symbols lo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gt; 2.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@ 11Msp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7273-8690-455F-8219-09AC0BA73D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-22 Pathmemory Requirem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perform within 0.5 dB of optimal requires the decoder to observe received symbols in a window that is &gt; 40 8PSK symbols lo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gt; 3.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@ 11Msp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7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F8A11-DF94-49D4-BB8E-D64C8F054A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rocessing Gai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s respect to a reference, an uncoded signa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CK-11, PBCC-11 --&gt; QPS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22 --&gt; 8PS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defined as the difference between the SNR (Es/ No) required to achieve a threshold BER or PER with the reference scheme and the SNR (Es/ No) required to achieve the same threshold BER or PER when the signal is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process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f the signal includes error control coding and de-spreading of the sign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Repetition or Rate reduction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the energy gain achieved from the reduction of data rate relative to the referenc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4377-35B6-4610-8087-399C238A71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rocessing Gain (cont.)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Cod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measured on an Eb/ No scale rather than an Es/ No scale. This prevents the apparent increase in performance that has been gained as a tradeoff between Es/ No and rat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t is the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ss gain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rom a repetition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Bandwidth expansion factor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ith ideal pulse shaping, the TI system which operates at 11 Msps, would occupy 11 MHz of bandwidth. However, the signal is spread to a bandwidth of ~20 MHz. This yields a waveform spreading gain of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~10 log( 20/ 11)= 2.6 dB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DF908-DC4C-45A3-9E2E-98877AC4F5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. G. Comparis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ocessing Gain = Coding Gain + Rate/Spreading Ga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+ Waveform/Spread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5638680" y="4876920"/>
            <a:ext cx="2438640" cy="1481040"/>
          </a:xfrm>
          <a:prstGeom prst="rect">
            <a:avLst/>
          </a:prstGeom>
          <a:ln w="0">
            <a:noFill/>
          </a:ln>
        </p:spPr>
      </p:pic>
      <p:grpSp>
        <p:nvGrpSpPr>
          <p:cNvPr id="561" name=""/>
          <p:cNvGrpSpPr/>
          <p:nvPr/>
        </p:nvGrpSpPr>
        <p:grpSpPr>
          <a:xfrm>
            <a:off x="762120" y="1905120"/>
            <a:ext cx="7530840" cy="2006640"/>
            <a:chOff x="762120" y="1905120"/>
            <a:chExt cx="7530840" cy="200664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762120" y="1905120"/>
              <a:ext cx="75308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7467480" y="2514960"/>
              <a:ext cx="762120" cy="13716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29406-AA88-4EF0-8907-FB9FEDEB08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CW Jamming Margin Tes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CX101 will pass the existing test in all mod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cluding PBCC-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test is useful for eliminating poorly designed system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ows some degree of robustnes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ther measures of robustness: (e.g., narrow band Gaussia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PBCC-22 mode is as robust as the CCK-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ny reasonable test that CCK-11 passes will be passed by PBCC-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227E3-3C8E-4774-8BC0-82B12EEF51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The ACX101 Baseband Processor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CB43A-15F0-4090-8D3A-C2A18358953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uble the Data Rate” Wireless Etherne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7B38D-3C42-4C25-A075-ECEA661F3E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ACX 101 Baseband Processor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685800" y="1982880"/>
            <a:ext cx="8001000" cy="44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664D-E82B-4CE8-BE2A-6A07BD74AB8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lantro/TI has built an extension to the existing IEEE 802.11b standard that is fully backward compa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olution will pass the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exist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CC rul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spectrum is the same as the existing standar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ACX101, with PBCC-22, is as robust as existing CCK-11 produc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Will deliver twice the data rate </a:t>
            </a: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n the same environ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22 Mbps achieves better performance throug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ophisticated signal and FEC desig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dvanced digital communications signal processing algorithm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I solution is the leading contender for the new IEEE 802.11g wireless Ethernet standar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7DA5-5793-4F38-8CA3-85E0E25ECB9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2895480" y="2057400"/>
            <a:ext cx="5888520" cy="4038480"/>
            <a:chOff x="2895480" y="2057400"/>
            <a:chExt cx="5888520" cy="4038480"/>
          </a:xfrm>
        </p:grpSpPr>
        <p:sp>
          <p:nvSpPr>
            <p:cNvPr id="109" name=""/>
            <p:cNvSpPr/>
            <p:nvPr/>
          </p:nvSpPr>
          <p:spPr>
            <a:xfrm>
              <a:off x="5577480" y="5775480"/>
              <a:ext cx="262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Noise, Multipath Distortion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4064040" y="3724200"/>
              <a:ext cx="156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Data Rate, Mbp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08560" y="2340000"/>
              <a:ext cx="308628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1348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310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4048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67480" y="2340000"/>
              <a:ext cx="180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724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94840" y="557856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08560" y="493092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394840" y="493092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08560" y="428292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94840" y="428292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08560" y="363528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94840" y="363528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08560" y="298764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94840" y="298764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94840" y="234000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8394840" y="2340000"/>
              <a:ext cx="144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61348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1348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9310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310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54048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4048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580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467480" y="554040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67480" y="234000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7724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724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08560" y="55785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356680" y="55785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00200" y="5508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8560" y="49309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356680" y="49309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00200" y="486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08560" y="428292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356680" y="428292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24240" y="4213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8560" y="36352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356680" y="36352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4240" y="3565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08560" y="298764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356680" y="298764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24240" y="2917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08560" y="234000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356680" y="234000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24240" y="2270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08560" y="2340000"/>
              <a:ext cx="3086280" cy="3238560"/>
            </a:xfrm>
            <a:custGeom>
              <a:avLst/>
              <a:gdLst/>
              <a:ahLst/>
              <a:rect l="l" t="t" r="r" b="b"/>
              <a:pathLst>
                <a:path w="1944" h="2040">
                  <a:moveTo>
                    <a:pt x="0" y="2040"/>
                  </a:moveTo>
                  <a:lnTo>
                    <a:pt x="1944" y="2040"/>
                  </a:lnTo>
                  <a:lnTo>
                    <a:pt x="19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15000" y="4156200"/>
              <a:ext cx="317520" cy="142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60840" y="2733840"/>
              <a:ext cx="304920" cy="28447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9400" y="4867200"/>
              <a:ext cx="317520" cy="711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43800" y="5324400"/>
              <a:ext cx="31752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88200" y="4156200"/>
              <a:ext cx="304560" cy="142236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315200" y="4867200"/>
              <a:ext cx="304920" cy="71136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15200" y="2352600"/>
              <a:ext cx="990720" cy="38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ffany"/>
                </a:rPr>
                <a:t>Other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53080" y="2057400"/>
              <a:ext cx="13716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ffany"/>
                </a:rPr>
                <a:t>T I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791320" y="2733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3120" y="2604960"/>
              <a:ext cx="79488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22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87400" y="4059360"/>
              <a:ext cx="79488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11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05720" y="41814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48080" y="4714920"/>
              <a:ext cx="83592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5.5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0120" y="48672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15040" y="5248440"/>
              <a:ext cx="70812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2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48720" y="5324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43600" y="5705640"/>
              <a:ext cx="1828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19600" y="563868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</a:rPr>
                <a:t>IEEE 802.11b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343400" y="5105160"/>
              <a:ext cx="1600200" cy="68580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343400" y="5181480"/>
              <a:ext cx="220968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343400" y="5181480"/>
              <a:ext cx="251460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343400" y="5181480"/>
              <a:ext cx="320040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5409720"/>
              <a:ext cx="3429000" cy="3812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95480" y="5486400"/>
              <a:ext cx="1447920" cy="609480"/>
            </a:xfrm>
            <a:prstGeom prst="ellipse">
              <a:avLst/>
            </a:prstGeom>
            <a:noFill/>
            <a:ln w="28440">
              <a:solidFill>
                <a:srgbClr val="008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I Offers 2x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“Double the Data Rate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dditive White Gaussian Nois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FEC has a “3db” coding gain advantag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ultipath Distor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“joint equalizer/decoder” can process much more distort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“CCK” solution takes advantage of the receiver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BAE7D-C066-4BAB-B8EF-F19736884A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Why Increase Performance?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ectrum is rare and valua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 order to be efficient it demands the most aggressive practical technical solu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story: as progress is made, more throughput is achiev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xample: Telephone modem technolog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xed 3 kHz channel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itial progress: 300 -&gt; 1,200 -&gt; 2,400 -&gt; 4,800 bits/second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gress was stalled until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 algn="just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rellis coding, a form of FEC based on convolutional coding, was develop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 algn="just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daptive signal processing was develop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spired new wave:  9,600 -&gt; 14,400 -&gt; 28,800  bits/second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lantro/TI technology provides the next wave in wireless Ethernet performa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6D20-3640-4D48-A4F0-34E06A78E8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How to Increase Performance?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553080" y="1905120"/>
            <a:ext cx="2146320" cy="1245960"/>
            <a:chOff x="6553080" y="1905120"/>
            <a:chExt cx="2146320" cy="1245960"/>
          </a:xfrm>
        </p:grpSpPr>
        <p:sp>
          <p:nvSpPr>
            <p:cNvPr id="199" name=""/>
            <p:cNvSpPr/>
            <p:nvPr/>
          </p:nvSpPr>
          <p:spPr>
            <a:xfrm>
              <a:off x="6553080" y="1905120"/>
              <a:ext cx="213372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0" y="7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0"/>
                  </a:lnTo>
                  <a:lnTo>
                    <a:pt x="1344" y="776"/>
                  </a:lnTo>
                  <a:lnTo>
                    <a:pt x="1344" y="776"/>
                  </a:lnTo>
                  <a:lnTo>
                    <a:pt x="0" y="776"/>
                  </a:lnTo>
                  <a:lnTo>
                    <a:pt x="0" y="776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776"/>
                  </a:lnTo>
                  <a:lnTo>
                    <a:pt x="0" y="776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66040" y="1917720"/>
              <a:ext cx="213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1344" y="776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566040" y="1917720"/>
              <a:ext cx="1440" cy="12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66040" y="3149640"/>
              <a:ext cx="213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0" y="0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1344" y="776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66040" y="1917720"/>
              <a:ext cx="1440" cy="12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8000" y="2025720"/>
              <a:ext cx="65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Shannon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92760" y="2070000"/>
              <a:ext cx="5083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0840" y="2178000"/>
              <a:ext cx="121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Shannon 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 = 11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92760" y="2222640"/>
              <a:ext cx="5083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8000" y="2330280"/>
              <a:ext cx="62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Barker 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08760" y="233676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88000" y="2495520"/>
              <a:ext cx="62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Barker 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08760" y="2540160"/>
              <a:ext cx="763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46920" y="2502000"/>
              <a:ext cx="1440" cy="75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21360" y="2514600"/>
              <a:ext cx="51120" cy="50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921360" y="2514600"/>
              <a:ext cx="51120" cy="50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42720" y="264780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CCK 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08760" y="2692440"/>
              <a:ext cx="76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46920" y="265428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21360" y="2666880"/>
              <a:ext cx="5112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921360" y="2666880"/>
              <a:ext cx="5112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32640" y="28004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PBCC 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08760" y="2806560"/>
              <a:ext cx="88920" cy="88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2640" y="29527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PBCC 2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8760" y="2997360"/>
              <a:ext cx="763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46920" y="2959200"/>
              <a:ext cx="144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21360" y="2971800"/>
              <a:ext cx="5112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921360" y="2971800"/>
              <a:ext cx="5112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706320" y="1755720"/>
            <a:ext cx="5456520" cy="4722120"/>
            <a:chOff x="706320" y="1755720"/>
            <a:chExt cx="5456520" cy="4722120"/>
          </a:xfrm>
        </p:grpSpPr>
        <p:sp>
          <p:nvSpPr>
            <p:cNvPr id="231" name=""/>
            <p:cNvSpPr/>
            <p:nvPr/>
          </p:nvSpPr>
          <p:spPr>
            <a:xfrm>
              <a:off x="1054080" y="1927440"/>
              <a:ext cx="3949560" cy="3403440"/>
            </a:xfrm>
            <a:custGeom>
              <a:avLst/>
              <a:gdLst/>
              <a:ahLst/>
              <a:rect l="l" t="t" r="r" b="b"/>
              <a:pathLst>
                <a:path w="2488" h="2144">
                  <a:moveTo>
                    <a:pt x="0" y="2144"/>
                  </a:moveTo>
                  <a:lnTo>
                    <a:pt x="0" y="2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88" y="0"/>
                  </a:lnTo>
                  <a:lnTo>
                    <a:pt x="2488" y="0"/>
                  </a:lnTo>
                  <a:lnTo>
                    <a:pt x="2488" y="2144"/>
                  </a:lnTo>
                  <a:lnTo>
                    <a:pt x="2488" y="2144"/>
                  </a:lnTo>
                  <a:lnTo>
                    <a:pt x="0" y="2144"/>
                  </a:lnTo>
                  <a:lnTo>
                    <a:pt x="0" y="2144"/>
                  </a:lnTo>
                  <a:lnTo>
                    <a:pt x="0" y="0"/>
                  </a:lnTo>
                  <a:lnTo>
                    <a:pt x="2488" y="0"/>
                  </a:lnTo>
                  <a:lnTo>
                    <a:pt x="2488" y="2144"/>
                  </a:lnTo>
                  <a:lnTo>
                    <a:pt x="0" y="2144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5408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1468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7492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35160" y="1927440"/>
              <a:ext cx="180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8316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4340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03640" y="1927440"/>
              <a:ext cx="180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03640" y="533088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54080" y="475920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03640" y="475920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54080" y="420048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03640" y="420048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54080" y="362916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3640" y="362916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54080" y="305748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03640" y="305748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54080" y="249876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003640" y="249876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03640" y="192744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54080" y="1927440"/>
              <a:ext cx="3949560" cy="3403440"/>
            </a:xfrm>
            <a:custGeom>
              <a:avLst/>
              <a:gdLst/>
              <a:ahLst/>
              <a:rect l="l" t="t" r="r" b="b"/>
              <a:pathLst>
                <a:path w="2488" h="2144">
                  <a:moveTo>
                    <a:pt x="0" y="2144"/>
                  </a:moveTo>
                  <a:lnTo>
                    <a:pt x="2488" y="2144"/>
                  </a:lnTo>
                  <a:lnTo>
                    <a:pt x="248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05408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5408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96120" y="53881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71468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1468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8192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37492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7492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4216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3035160" y="529272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35160" y="192744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0276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68316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8316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5040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34340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4340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1100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003640" y="529272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03640" y="192744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32360" y="5388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54080" y="533088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965480" y="533088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45360" y="5273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4080" y="475920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965480" y="475920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45360" y="470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54080" y="42004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965480" y="420048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680" y="41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4080" y="36291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965480" y="36291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8680" y="3571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54080" y="30574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965480" y="305748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8680" y="3000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54080" y="24987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965480" y="24987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68680" y="244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54080" y="192744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965480" y="192744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8680" y="1870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5003640" y="1927440"/>
              <a:ext cx="180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54080" y="1889280"/>
              <a:ext cx="3162240" cy="2565360"/>
            </a:xfrm>
            <a:custGeom>
              <a:avLst/>
              <a:gdLst/>
              <a:ahLst/>
              <a:rect l="l" t="t" r="r" b="b"/>
              <a:pathLst>
                <a:path w="1992" h="1616">
                  <a:moveTo>
                    <a:pt x="0" y="1616"/>
                  </a:moveTo>
                  <a:lnTo>
                    <a:pt x="0" y="1616"/>
                  </a:lnTo>
                  <a:lnTo>
                    <a:pt x="24" y="1600"/>
                  </a:lnTo>
                  <a:lnTo>
                    <a:pt x="24" y="1600"/>
                  </a:lnTo>
                  <a:lnTo>
                    <a:pt x="40" y="1592"/>
                  </a:lnTo>
                  <a:lnTo>
                    <a:pt x="40" y="1592"/>
                  </a:lnTo>
                  <a:lnTo>
                    <a:pt x="64" y="1584"/>
                  </a:lnTo>
                  <a:lnTo>
                    <a:pt x="64" y="1584"/>
                  </a:lnTo>
                  <a:lnTo>
                    <a:pt x="80" y="1568"/>
                  </a:lnTo>
                  <a:lnTo>
                    <a:pt x="80" y="1568"/>
                  </a:lnTo>
                  <a:lnTo>
                    <a:pt x="104" y="1560"/>
                  </a:lnTo>
                  <a:lnTo>
                    <a:pt x="104" y="1560"/>
                  </a:lnTo>
                  <a:lnTo>
                    <a:pt x="128" y="1552"/>
                  </a:lnTo>
                  <a:lnTo>
                    <a:pt x="128" y="1552"/>
                  </a:lnTo>
                  <a:lnTo>
                    <a:pt x="144" y="1536"/>
                  </a:lnTo>
                  <a:lnTo>
                    <a:pt x="144" y="1536"/>
                  </a:lnTo>
                  <a:lnTo>
                    <a:pt x="168" y="1528"/>
                  </a:lnTo>
                  <a:lnTo>
                    <a:pt x="168" y="1528"/>
                  </a:lnTo>
                  <a:lnTo>
                    <a:pt x="184" y="1520"/>
                  </a:lnTo>
                  <a:lnTo>
                    <a:pt x="184" y="1520"/>
                  </a:lnTo>
                  <a:lnTo>
                    <a:pt x="208" y="1504"/>
                  </a:lnTo>
                  <a:lnTo>
                    <a:pt x="208" y="1504"/>
                  </a:lnTo>
                  <a:lnTo>
                    <a:pt x="232" y="1496"/>
                  </a:lnTo>
                  <a:lnTo>
                    <a:pt x="232" y="1496"/>
                  </a:lnTo>
                  <a:lnTo>
                    <a:pt x="248" y="1480"/>
                  </a:lnTo>
                  <a:lnTo>
                    <a:pt x="248" y="1480"/>
                  </a:lnTo>
                  <a:lnTo>
                    <a:pt x="272" y="1472"/>
                  </a:lnTo>
                  <a:lnTo>
                    <a:pt x="272" y="1472"/>
                  </a:lnTo>
                  <a:lnTo>
                    <a:pt x="288" y="1456"/>
                  </a:lnTo>
                  <a:lnTo>
                    <a:pt x="288" y="1456"/>
                  </a:lnTo>
                  <a:lnTo>
                    <a:pt x="312" y="1448"/>
                  </a:lnTo>
                  <a:lnTo>
                    <a:pt x="312" y="1448"/>
                  </a:lnTo>
                  <a:lnTo>
                    <a:pt x="328" y="1432"/>
                  </a:lnTo>
                  <a:lnTo>
                    <a:pt x="328" y="1432"/>
                  </a:lnTo>
                  <a:lnTo>
                    <a:pt x="352" y="1424"/>
                  </a:lnTo>
                  <a:lnTo>
                    <a:pt x="352" y="1424"/>
                  </a:lnTo>
                  <a:lnTo>
                    <a:pt x="376" y="1408"/>
                  </a:lnTo>
                  <a:lnTo>
                    <a:pt x="376" y="1408"/>
                  </a:lnTo>
                  <a:lnTo>
                    <a:pt x="392" y="1392"/>
                  </a:lnTo>
                  <a:lnTo>
                    <a:pt x="392" y="1392"/>
                  </a:lnTo>
                  <a:lnTo>
                    <a:pt x="416" y="1384"/>
                  </a:lnTo>
                  <a:lnTo>
                    <a:pt x="416" y="1384"/>
                  </a:lnTo>
                  <a:lnTo>
                    <a:pt x="432" y="1368"/>
                  </a:lnTo>
                  <a:lnTo>
                    <a:pt x="432" y="1368"/>
                  </a:lnTo>
                  <a:lnTo>
                    <a:pt x="456" y="1352"/>
                  </a:lnTo>
                  <a:lnTo>
                    <a:pt x="456" y="1352"/>
                  </a:lnTo>
                  <a:lnTo>
                    <a:pt x="480" y="1344"/>
                  </a:lnTo>
                  <a:lnTo>
                    <a:pt x="480" y="1344"/>
                  </a:lnTo>
                  <a:lnTo>
                    <a:pt x="496" y="1328"/>
                  </a:lnTo>
                  <a:lnTo>
                    <a:pt x="496" y="1328"/>
                  </a:lnTo>
                  <a:lnTo>
                    <a:pt x="520" y="1312"/>
                  </a:lnTo>
                  <a:lnTo>
                    <a:pt x="520" y="1312"/>
                  </a:lnTo>
                  <a:lnTo>
                    <a:pt x="536" y="1304"/>
                  </a:lnTo>
                  <a:lnTo>
                    <a:pt x="536" y="1304"/>
                  </a:lnTo>
                  <a:lnTo>
                    <a:pt x="560" y="1288"/>
                  </a:lnTo>
                  <a:lnTo>
                    <a:pt x="560" y="1288"/>
                  </a:lnTo>
                  <a:lnTo>
                    <a:pt x="584" y="1272"/>
                  </a:lnTo>
                  <a:lnTo>
                    <a:pt x="584" y="1272"/>
                  </a:lnTo>
                  <a:lnTo>
                    <a:pt x="600" y="1256"/>
                  </a:lnTo>
                  <a:lnTo>
                    <a:pt x="600" y="1256"/>
                  </a:lnTo>
                  <a:lnTo>
                    <a:pt x="624" y="1240"/>
                  </a:lnTo>
                  <a:lnTo>
                    <a:pt x="624" y="1240"/>
                  </a:lnTo>
                  <a:lnTo>
                    <a:pt x="640" y="1232"/>
                  </a:lnTo>
                  <a:lnTo>
                    <a:pt x="640" y="1232"/>
                  </a:lnTo>
                  <a:lnTo>
                    <a:pt x="664" y="1216"/>
                  </a:lnTo>
                  <a:lnTo>
                    <a:pt x="664" y="1216"/>
                  </a:lnTo>
                  <a:lnTo>
                    <a:pt x="688" y="1200"/>
                  </a:lnTo>
                  <a:lnTo>
                    <a:pt x="688" y="1200"/>
                  </a:lnTo>
                  <a:lnTo>
                    <a:pt x="704" y="1184"/>
                  </a:lnTo>
                  <a:lnTo>
                    <a:pt x="704" y="1184"/>
                  </a:lnTo>
                  <a:lnTo>
                    <a:pt x="728" y="1168"/>
                  </a:lnTo>
                  <a:lnTo>
                    <a:pt x="728" y="1168"/>
                  </a:lnTo>
                  <a:lnTo>
                    <a:pt x="744" y="1152"/>
                  </a:lnTo>
                  <a:lnTo>
                    <a:pt x="744" y="1152"/>
                  </a:lnTo>
                  <a:lnTo>
                    <a:pt x="768" y="1136"/>
                  </a:lnTo>
                  <a:lnTo>
                    <a:pt x="768" y="1136"/>
                  </a:lnTo>
                  <a:lnTo>
                    <a:pt x="784" y="1120"/>
                  </a:lnTo>
                  <a:lnTo>
                    <a:pt x="784" y="1120"/>
                  </a:lnTo>
                  <a:lnTo>
                    <a:pt x="808" y="1104"/>
                  </a:lnTo>
                  <a:lnTo>
                    <a:pt x="808" y="1104"/>
                  </a:lnTo>
                  <a:lnTo>
                    <a:pt x="832" y="1088"/>
                  </a:lnTo>
                  <a:lnTo>
                    <a:pt x="832" y="1088"/>
                  </a:lnTo>
                  <a:lnTo>
                    <a:pt x="848" y="1072"/>
                  </a:lnTo>
                  <a:lnTo>
                    <a:pt x="848" y="1072"/>
                  </a:lnTo>
                  <a:lnTo>
                    <a:pt x="872" y="1056"/>
                  </a:lnTo>
                  <a:lnTo>
                    <a:pt x="872" y="1056"/>
                  </a:lnTo>
                  <a:lnTo>
                    <a:pt x="888" y="1040"/>
                  </a:lnTo>
                  <a:lnTo>
                    <a:pt x="888" y="1040"/>
                  </a:lnTo>
                  <a:lnTo>
                    <a:pt x="912" y="1024"/>
                  </a:lnTo>
                  <a:lnTo>
                    <a:pt x="912" y="1024"/>
                  </a:lnTo>
                  <a:lnTo>
                    <a:pt x="936" y="1008"/>
                  </a:lnTo>
                  <a:lnTo>
                    <a:pt x="936" y="1008"/>
                  </a:lnTo>
                  <a:lnTo>
                    <a:pt x="952" y="992"/>
                  </a:lnTo>
                  <a:lnTo>
                    <a:pt x="952" y="992"/>
                  </a:lnTo>
                  <a:lnTo>
                    <a:pt x="976" y="976"/>
                  </a:lnTo>
                  <a:lnTo>
                    <a:pt x="976" y="976"/>
                  </a:lnTo>
                  <a:lnTo>
                    <a:pt x="992" y="960"/>
                  </a:lnTo>
                  <a:lnTo>
                    <a:pt x="992" y="960"/>
                  </a:lnTo>
                  <a:lnTo>
                    <a:pt x="1016" y="944"/>
                  </a:lnTo>
                  <a:lnTo>
                    <a:pt x="1016" y="944"/>
                  </a:lnTo>
                  <a:lnTo>
                    <a:pt x="1040" y="920"/>
                  </a:lnTo>
                  <a:lnTo>
                    <a:pt x="1040" y="920"/>
                  </a:lnTo>
                  <a:lnTo>
                    <a:pt x="1056" y="904"/>
                  </a:lnTo>
                  <a:lnTo>
                    <a:pt x="1056" y="904"/>
                  </a:lnTo>
                  <a:lnTo>
                    <a:pt x="1080" y="888"/>
                  </a:lnTo>
                  <a:lnTo>
                    <a:pt x="1080" y="888"/>
                  </a:lnTo>
                  <a:lnTo>
                    <a:pt x="1096" y="872"/>
                  </a:lnTo>
                  <a:lnTo>
                    <a:pt x="1096" y="872"/>
                  </a:lnTo>
                  <a:lnTo>
                    <a:pt x="1120" y="856"/>
                  </a:lnTo>
                  <a:lnTo>
                    <a:pt x="1120" y="856"/>
                  </a:lnTo>
                  <a:lnTo>
                    <a:pt x="1144" y="832"/>
                  </a:lnTo>
                  <a:lnTo>
                    <a:pt x="1144" y="832"/>
                  </a:lnTo>
                  <a:lnTo>
                    <a:pt x="1160" y="816"/>
                  </a:lnTo>
                  <a:lnTo>
                    <a:pt x="1160" y="816"/>
                  </a:lnTo>
                  <a:lnTo>
                    <a:pt x="1184" y="800"/>
                  </a:lnTo>
                  <a:lnTo>
                    <a:pt x="1184" y="800"/>
                  </a:lnTo>
                  <a:lnTo>
                    <a:pt x="1200" y="784"/>
                  </a:lnTo>
                  <a:lnTo>
                    <a:pt x="1200" y="784"/>
                  </a:lnTo>
                  <a:lnTo>
                    <a:pt x="1224" y="760"/>
                  </a:lnTo>
                  <a:lnTo>
                    <a:pt x="1224" y="760"/>
                  </a:lnTo>
                  <a:lnTo>
                    <a:pt x="1248" y="744"/>
                  </a:lnTo>
                  <a:lnTo>
                    <a:pt x="1248" y="744"/>
                  </a:lnTo>
                  <a:lnTo>
                    <a:pt x="1264" y="728"/>
                  </a:lnTo>
                  <a:lnTo>
                    <a:pt x="1264" y="728"/>
                  </a:lnTo>
                  <a:lnTo>
                    <a:pt x="1288" y="704"/>
                  </a:lnTo>
                  <a:lnTo>
                    <a:pt x="1288" y="704"/>
                  </a:lnTo>
                  <a:lnTo>
                    <a:pt x="1304" y="688"/>
                  </a:lnTo>
                  <a:lnTo>
                    <a:pt x="1304" y="688"/>
                  </a:lnTo>
                  <a:lnTo>
                    <a:pt x="1328" y="664"/>
                  </a:lnTo>
                  <a:lnTo>
                    <a:pt x="1328" y="664"/>
                  </a:lnTo>
                  <a:lnTo>
                    <a:pt x="1344" y="648"/>
                  </a:lnTo>
                  <a:lnTo>
                    <a:pt x="1344" y="648"/>
                  </a:lnTo>
                  <a:lnTo>
                    <a:pt x="1368" y="632"/>
                  </a:lnTo>
                  <a:lnTo>
                    <a:pt x="1368" y="632"/>
                  </a:lnTo>
                  <a:lnTo>
                    <a:pt x="1392" y="608"/>
                  </a:lnTo>
                  <a:lnTo>
                    <a:pt x="1392" y="608"/>
                  </a:lnTo>
                  <a:lnTo>
                    <a:pt x="1408" y="592"/>
                  </a:lnTo>
                  <a:lnTo>
                    <a:pt x="1408" y="592"/>
                  </a:lnTo>
                  <a:lnTo>
                    <a:pt x="1432" y="568"/>
                  </a:lnTo>
                  <a:lnTo>
                    <a:pt x="1432" y="568"/>
                  </a:lnTo>
                  <a:lnTo>
                    <a:pt x="1448" y="552"/>
                  </a:lnTo>
                  <a:lnTo>
                    <a:pt x="1448" y="552"/>
                  </a:lnTo>
                  <a:lnTo>
                    <a:pt x="1472" y="528"/>
                  </a:lnTo>
                  <a:lnTo>
                    <a:pt x="1472" y="528"/>
                  </a:lnTo>
                  <a:lnTo>
                    <a:pt x="1496" y="512"/>
                  </a:lnTo>
                  <a:lnTo>
                    <a:pt x="1496" y="512"/>
                  </a:lnTo>
                  <a:lnTo>
                    <a:pt x="1512" y="488"/>
                  </a:lnTo>
                  <a:lnTo>
                    <a:pt x="1512" y="488"/>
                  </a:lnTo>
                  <a:lnTo>
                    <a:pt x="1536" y="472"/>
                  </a:lnTo>
                  <a:lnTo>
                    <a:pt x="1536" y="472"/>
                  </a:lnTo>
                  <a:lnTo>
                    <a:pt x="1552" y="448"/>
                  </a:lnTo>
                  <a:lnTo>
                    <a:pt x="1552" y="448"/>
                  </a:lnTo>
                  <a:lnTo>
                    <a:pt x="1576" y="432"/>
                  </a:lnTo>
                  <a:lnTo>
                    <a:pt x="1576" y="432"/>
                  </a:lnTo>
                  <a:lnTo>
                    <a:pt x="1600" y="408"/>
                  </a:lnTo>
                  <a:lnTo>
                    <a:pt x="1600" y="408"/>
                  </a:lnTo>
                  <a:lnTo>
                    <a:pt x="1616" y="392"/>
                  </a:lnTo>
                  <a:lnTo>
                    <a:pt x="1616" y="392"/>
                  </a:lnTo>
                  <a:lnTo>
                    <a:pt x="1640" y="368"/>
                  </a:lnTo>
                  <a:lnTo>
                    <a:pt x="1640" y="368"/>
                  </a:lnTo>
                  <a:lnTo>
                    <a:pt x="1656" y="344"/>
                  </a:lnTo>
                  <a:lnTo>
                    <a:pt x="1656" y="344"/>
                  </a:lnTo>
                  <a:lnTo>
                    <a:pt x="1680" y="328"/>
                  </a:lnTo>
                  <a:lnTo>
                    <a:pt x="1680" y="328"/>
                  </a:lnTo>
                  <a:lnTo>
                    <a:pt x="1704" y="304"/>
                  </a:lnTo>
                  <a:lnTo>
                    <a:pt x="1704" y="304"/>
                  </a:lnTo>
                  <a:lnTo>
                    <a:pt x="1720" y="280"/>
                  </a:lnTo>
                  <a:lnTo>
                    <a:pt x="1720" y="280"/>
                  </a:lnTo>
                  <a:lnTo>
                    <a:pt x="1744" y="264"/>
                  </a:lnTo>
                  <a:lnTo>
                    <a:pt x="1744" y="264"/>
                  </a:lnTo>
                  <a:lnTo>
                    <a:pt x="1760" y="240"/>
                  </a:lnTo>
                  <a:lnTo>
                    <a:pt x="1760" y="240"/>
                  </a:lnTo>
                  <a:lnTo>
                    <a:pt x="1784" y="224"/>
                  </a:lnTo>
                  <a:lnTo>
                    <a:pt x="1784" y="224"/>
                  </a:lnTo>
                  <a:lnTo>
                    <a:pt x="1800" y="200"/>
                  </a:lnTo>
                  <a:lnTo>
                    <a:pt x="1800" y="200"/>
                  </a:lnTo>
                  <a:lnTo>
                    <a:pt x="1824" y="176"/>
                  </a:lnTo>
                  <a:lnTo>
                    <a:pt x="1824" y="176"/>
                  </a:lnTo>
                  <a:lnTo>
                    <a:pt x="1848" y="152"/>
                  </a:lnTo>
                  <a:lnTo>
                    <a:pt x="1848" y="152"/>
                  </a:lnTo>
                  <a:lnTo>
                    <a:pt x="1864" y="136"/>
                  </a:lnTo>
                  <a:lnTo>
                    <a:pt x="1864" y="136"/>
                  </a:lnTo>
                  <a:lnTo>
                    <a:pt x="1888" y="112"/>
                  </a:lnTo>
                  <a:lnTo>
                    <a:pt x="1888" y="112"/>
                  </a:lnTo>
                  <a:lnTo>
                    <a:pt x="1904" y="88"/>
                  </a:lnTo>
                  <a:lnTo>
                    <a:pt x="1904" y="88"/>
                  </a:lnTo>
                  <a:lnTo>
                    <a:pt x="1928" y="64"/>
                  </a:lnTo>
                  <a:lnTo>
                    <a:pt x="1928" y="64"/>
                  </a:lnTo>
                  <a:lnTo>
                    <a:pt x="1952" y="48"/>
                  </a:lnTo>
                  <a:lnTo>
                    <a:pt x="1952" y="48"/>
                  </a:lnTo>
                  <a:lnTo>
                    <a:pt x="1968" y="24"/>
                  </a:lnTo>
                  <a:lnTo>
                    <a:pt x="1968" y="24"/>
                  </a:lnTo>
                  <a:lnTo>
                    <a:pt x="1992" y="0"/>
                  </a:lnTo>
                  <a:lnTo>
                    <a:pt x="19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54080" y="1889280"/>
              <a:ext cx="3162240" cy="2565360"/>
            </a:xfrm>
            <a:custGeom>
              <a:avLst/>
              <a:gdLst/>
              <a:ahLst/>
              <a:rect l="l" t="t" r="r" b="b"/>
              <a:pathLst>
                <a:path w="1992" h="1616">
                  <a:moveTo>
                    <a:pt x="0" y="1616"/>
                  </a:moveTo>
                  <a:lnTo>
                    <a:pt x="24" y="1600"/>
                  </a:lnTo>
                  <a:lnTo>
                    <a:pt x="40" y="1592"/>
                  </a:lnTo>
                  <a:lnTo>
                    <a:pt x="64" y="1584"/>
                  </a:lnTo>
                  <a:lnTo>
                    <a:pt x="80" y="1568"/>
                  </a:lnTo>
                  <a:lnTo>
                    <a:pt x="104" y="1560"/>
                  </a:lnTo>
                  <a:lnTo>
                    <a:pt x="128" y="1552"/>
                  </a:lnTo>
                  <a:lnTo>
                    <a:pt x="144" y="1536"/>
                  </a:lnTo>
                  <a:lnTo>
                    <a:pt x="168" y="1528"/>
                  </a:lnTo>
                  <a:lnTo>
                    <a:pt x="184" y="1520"/>
                  </a:lnTo>
                  <a:lnTo>
                    <a:pt x="208" y="1504"/>
                  </a:lnTo>
                  <a:lnTo>
                    <a:pt x="232" y="1496"/>
                  </a:lnTo>
                  <a:lnTo>
                    <a:pt x="248" y="1480"/>
                  </a:lnTo>
                  <a:lnTo>
                    <a:pt x="272" y="1472"/>
                  </a:lnTo>
                  <a:lnTo>
                    <a:pt x="288" y="1456"/>
                  </a:lnTo>
                  <a:lnTo>
                    <a:pt x="312" y="1448"/>
                  </a:lnTo>
                  <a:lnTo>
                    <a:pt x="328" y="1432"/>
                  </a:lnTo>
                  <a:lnTo>
                    <a:pt x="352" y="1424"/>
                  </a:lnTo>
                  <a:lnTo>
                    <a:pt x="376" y="1408"/>
                  </a:lnTo>
                  <a:lnTo>
                    <a:pt x="392" y="1392"/>
                  </a:lnTo>
                  <a:lnTo>
                    <a:pt x="416" y="1384"/>
                  </a:lnTo>
                  <a:lnTo>
                    <a:pt x="432" y="1368"/>
                  </a:lnTo>
                  <a:lnTo>
                    <a:pt x="456" y="1352"/>
                  </a:lnTo>
                  <a:lnTo>
                    <a:pt x="480" y="1344"/>
                  </a:lnTo>
                  <a:lnTo>
                    <a:pt x="496" y="1328"/>
                  </a:lnTo>
                  <a:lnTo>
                    <a:pt x="520" y="1312"/>
                  </a:lnTo>
                  <a:lnTo>
                    <a:pt x="536" y="1304"/>
                  </a:lnTo>
                  <a:lnTo>
                    <a:pt x="560" y="1288"/>
                  </a:lnTo>
                  <a:lnTo>
                    <a:pt x="584" y="1272"/>
                  </a:lnTo>
                  <a:lnTo>
                    <a:pt x="600" y="1256"/>
                  </a:lnTo>
                  <a:lnTo>
                    <a:pt x="624" y="1240"/>
                  </a:lnTo>
                  <a:lnTo>
                    <a:pt x="640" y="1232"/>
                  </a:lnTo>
                  <a:lnTo>
                    <a:pt x="664" y="1216"/>
                  </a:lnTo>
                  <a:lnTo>
                    <a:pt x="688" y="1200"/>
                  </a:lnTo>
                  <a:lnTo>
                    <a:pt x="704" y="1184"/>
                  </a:lnTo>
                  <a:lnTo>
                    <a:pt x="728" y="1168"/>
                  </a:lnTo>
                  <a:lnTo>
                    <a:pt x="744" y="1152"/>
                  </a:lnTo>
                  <a:lnTo>
                    <a:pt x="768" y="1136"/>
                  </a:lnTo>
                  <a:lnTo>
                    <a:pt x="784" y="1120"/>
                  </a:lnTo>
                  <a:lnTo>
                    <a:pt x="808" y="1104"/>
                  </a:lnTo>
                  <a:lnTo>
                    <a:pt x="832" y="1088"/>
                  </a:lnTo>
                  <a:lnTo>
                    <a:pt x="848" y="1072"/>
                  </a:lnTo>
                  <a:lnTo>
                    <a:pt x="872" y="1056"/>
                  </a:lnTo>
                  <a:lnTo>
                    <a:pt x="888" y="1040"/>
                  </a:lnTo>
                  <a:lnTo>
                    <a:pt x="912" y="1024"/>
                  </a:lnTo>
                  <a:lnTo>
                    <a:pt x="936" y="1008"/>
                  </a:lnTo>
                  <a:lnTo>
                    <a:pt x="952" y="992"/>
                  </a:lnTo>
                  <a:lnTo>
                    <a:pt x="976" y="976"/>
                  </a:lnTo>
                  <a:lnTo>
                    <a:pt x="992" y="960"/>
                  </a:lnTo>
                  <a:lnTo>
                    <a:pt x="1016" y="944"/>
                  </a:lnTo>
                  <a:lnTo>
                    <a:pt x="1040" y="920"/>
                  </a:lnTo>
                  <a:lnTo>
                    <a:pt x="1056" y="904"/>
                  </a:lnTo>
                  <a:lnTo>
                    <a:pt x="1080" y="888"/>
                  </a:lnTo>
                  <a:lnTo>
                    <a:pt x="1096" y="872"/>
                  </a:lnTo>
                  <a:lnTo>
                    <a:pt x="1120" y="856"/>
                  </a:lnTo>
                  <a:lnTo>
                    <a:pt x="1144" y="832"/>
                  </a:lnTo>
                  <a:lnTo>
                    <a:pt x="1160" y="816"/>
                  </a:lnTo>
                  <a:lnTo>
                    <a:pt x="1184" y="800"/>
                  </a:lnTo>
                  <a:lnTo>
                    <a:pt x="1200" y="784"/>
                  </a:lnTo>
                  <a:lnTo>
                    <a:pt x="1224" y="760"/>
                  </a:lnTo>
                  <a:lnTo>
                    <a:pt x="1248" y="744"/>
                  </a:lnTo>
                  <a:lnTo>
                    <a:pt x="1264" y="728"/>
                  </a:lnTo>
                  <a:lnTo>
                    <a:pt x="1288" y="704"/>
                  </a:lnTo>
                  <a:lnTo>
                    <a:pt x="1304" y="688"/>
                  </a:lnTo>
                  <a:lnTo>
                    <a:pt x="1328" y="664"/>
                  </a:lnTo>
                  <a:lnTo>
                    <a:pt x="1344" y="648"/>
                  </a:lnTo>
                  <a:lnTo>
                    <a:pt x="1368" y="632"/>
                  </a:lnTo>
                  <a:lnTo>
                    <a:pt x="1392" y="608"/>
                  </a:lnTo>
                  <a:lnTo>
                    <a:pt x="1408" y="592"/>
                  </a:lnTo>
                  <a:lnTo>
                    <a:pt x="1432" y="568"/>
                  </a:lnTo>
                  <a:lnTo>
                    <a:pt x="1448" y="552"/>
                  </a:lnTo>
                  <a:lnTo>
                    <a:pt x="1472" y="528"/>
                  </a:lnTo>
                  <a:lnTo>
                    <a:pt x="1496" y="512"/>
                  </a:lnTo>
                  <a:lnTo>
                    <a:pt x="1512" y="488"/>
                  </a:lnTo>
                  <a:lnTo>
                    <a:pt x="1536" y="472"/>
                  </a:lnTo>
                  <a:lnTo>
                    <a:pt x="1552" y="448"/>
                  </a:lnTo>
                  <a:lnTo>
                    <a:pt x="1576" y="432"/>
                  </a:lnTo>
                  <a:lnTo>
                    <a:pt x="1600" y="408"/>
                  </a:lnTo>
                  <a:lnTo>
                    <a:pt x="1616" y="392"/>
                  </a:lnTo>
                  <a:lnTo>
                    <a:pt x="1640" y="368"/>
                  </a:lnTo>
                  <a:lnTo>
                    <a:pt x="1656" y="344"/>
                  </a:lnTo>
                  <a:lnTo>
                    <a:pt x="1680" y="328"/>
                  </a:lnTo>
                  <a:lnTo>
                    <a:pt x="1704" y="304"/>
                  </a:lnTo>
                  <a:lnTo>
                    <a:pt x="1720" y="280"/>
                  </a:lnTo>
                  <a:lnTo>
                    <a:pt x="1744" y="264"/>
                  </a:lnTo>
                  <a:lnTo>
                    <a:pt x="1760" y="240"/>
                  </a:lnTo>
                  <a:lnTo>
                    <a:pt x="1784" y="224"/>
                  </a:lnTo>
                  <a:lnTo>
                    <a:pt x="1800" y="200"/>
                  </a:lnTo>
                  <a:lnTo>
                    <a:pt x="1824" y="176"/>
                  </a:lnTo>
                  <a:lnTo>
                    <a:pt x="1848" y="152"/>
                  </a:lnTo>
                  <a:lnTo>
                    <a:pt x="1864" y="136"/>
                  </a:lnTo>
                  <a:lnTo>
                    <a:pt x="1888" y="112"/>
                  </a:lnTo>
                  <a:lnTo>
                    <a:pt x="1904" y="88"/>
                  </a:lnTo>
                  <a:lnTo>
                    <a:pt x="1928" y="64"/>
                  </a:lnTo>
                  <a:lnTo>
                    <a:pt x="1952" y="48"/>
                  </a:lnTo>
                  <a:lnTo>
                    <a:pt x="1968" y="24"/>
                  </a:lnTo>
                  <a:lnTo>
                    <a:pt x="19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54080" y="4556160"/>
              <a:ext cx="3949560" cy="431640"/>
            </a:xfrm>
            <a:custGeom>
              <a:avLst/>
              <a:gdLst/>
              <a:ahLst/>
              <a:rect l="l" t="t" r="r" b="b"/>
              <a:pathLst>
                <a:path w="2488" h="272">
                  <a:moveTo>
                    <a:pt x="0" y="272"/>
                  </a:moveTo>
                  <a:lnTo>
                    <a:pt x="24" y="272"/>
                  </a:lnTo>
                  <a:lnTo>
                    <a:pt x="40" y="272"/>
                  </a:lnTo>
                  <a:lnTo>
                    <a:pt x="64" y="272"/>
                  </a:lnTo>
                  <a:lnTo>
                    <a:pt x="80" y="264"/>
                  </a:lnTo>
                  <a:lnTo>
                    <a:pt x="104" y="264"/>
                  </a:lnTo>
                  <a:lnTo>
                    <a:pt x="128" y="264"/>
                  </a:lnTo>
                  <a:lnTo>
                    <a:pt x="144" y="256"/>
                  </a:lnTo>
                  <a:lnTo>
                    <a:pt x="168" y="256"/>
                  </a:lnTo>
                  <a:lnTo>
                    <a:pt x="184" y="256"/>
                  </a:lnTo>
                  <a:lnTo>
                    <a:pt x="208" y="256"/>
                  </a:lnTo>
                  <a:lnTo>
                    <a:pt x="232" y="248"/>
                  </a:lnTo>
                  <a:lnTo>
                    <a:pt x="248" y="248"/>
                  </a:lnTo>
                  <a:lnTo>
                    <a:pt x="272" y="248"/>
                  </a:lnTo>
                  <a:lnTo>
                    <a:pt x="288" y="248"/>
                  </a:lnTo>
                  <a:lnTo>
                    <a:pt x="312" y="240"/>
                  </a:lnTo>
                  <a:lnTo>
                    <a:pt x="328" y="240"/>
                  </a:lnTo>
                  <a:lnTo>
                    <a:pt x="352" y="240"/>
                  </a:lnTo>
                  <a:lnTo>
                    <a:pt x="376" y="240"/>
                  </a:lnTo>
                  <a:lnTo>
                    <a:pt x="392" y="232"/>
                  </a:lnTo>
                  <a:lnTo>
                    <a:pt x="416" y="232"/>
                  </a:lnTo>
                  <a:lnTo>
                    <a:pt x="432" y="232"/>
                  </a:lnTo>
                  <a:lnTo>
                    <a:pt x="456" y="224"/>
                  </a:lnTo>
                  <a:lnTo>
                    <a:pt x="480" y="224"/>
                  </a:lnTo>
                  <a:lnTo>
                    <a:pt x="496" y="224"/>
                  </a:lnTo>
                  <a:lnTo>
                    <a:pt x="520" y="224"/>
                  </a:lnTo>
                  <a:lnTo>
                    <a:pt x="536" y="216"/>
                  </a:lnTo>
                  <a:lnTo>
                    <a:pt x="560" y="216"/>
                  </a:lnTo>
                  <a:lnTo>
                    <a:pt x="584" y="216"/>
                  </a:lnTo>
                  <a:lnTo>
                    <a:pt x="600" y="216"/>
                  </a:lnTo>
                  <a:lnTo>
                    <a:pt x="624" y="208"/>
                  </a:lnTo>
                  <a:lnTo>
                    <a:pt x="640" y="208"/>
                  </a:lnTo>
                  <a:lnTo>
                    <a:pt x="664" y="208"/>
                  </a:lnTo>
                  <a:lnTo>
                    <a:pt x="688" y="200"/>
                  </a:lnTo>
                  <a:lnTo>
                    <a:pt x="704" y="200"/>
                  </a:lnTo>
                  <a:lnTo>
                    <a:pt x="728" y="200"/>
                  </a:lnTo>
                  <a:lnTo>
                    <a:pt x="744" y="200"/>
                  </a:lnTo>
                  <a:lnTo>
                    <a:pt x="768" y="192"/>
                  </a:lnTo>
                  <a:lnTo>
                    <a:pt x="784" y="192"/>
                  </a:lnTo>
                  <a:lnTo>
                    <a:pt x="808" y="192"/>
                  </a:lnTo>
                  <a:lnTo>
                    <a:pt x="832" y="184"/>
                  </a:lnTo>
                  <a:lnTo>
                    <a:pt x="848" y="184"/>
                  </a:lnTo>
                  <a:lnTo>
                    <a:pt x="872" y="184"/>
                  </a:lnTo>
                  <a:lnTo>
                    <a:pt x="888" y="184"/>
                  </a:lnTo>
                  <a:lnTo>
                    <a:pt x="912" y="176"/>
                  </a:lnTo>
                  <a:lnTo>
                    <a:pt x="936" y="176"/>
                  </a:lnTo>
                  <a:lnTo>
                    <a:pt x="952" y="176"/>
                  </a:lnTo>
                  <a:lnTo>
                    <a:pt x="976" y="168"/>
                  </a:lnTo>
                  <a:lnTo>
                    <a:pt x="992" y="168"/>
                  </a:lnTo>
                  <a:lnTo>
                    <a:pt x="1016" y="168"/>
                  </a:lnTo>
                  <a:lnTo>
                    <a:pt x="1040" y="168"/>
                  </a:lnTo>
                  <a:lnTo>
                    <a:pt x="1056" y="160"/>
                  </a:lnTo>
                  <a:lnTo>
                    <a:pt x="1080" y="160"/>
                  </a:lnTo>
                  <a:lnTo>
                    <a:pt x="1096" y="160"/>
                  </a:lnTo>
                  <a:lnTo>
                    <a:pt x="1120" y="152"/>
                  </a:lnTo>
                  <a:lnTo>
                    <a:pt x="1144" y="152"/>
                  </a:lnTo>
                  <a:lnTo>
                    <a:pt x="1160" y="152"/>
                  </a:lnTo>
                  <a:lnTo>
                    <a:pt x="1184" y="152"/>
                  </a:lnTo>
                  <a:lnTo>
                    <a:pt x="1200" y="144"/>
                  </a:lnTo>
                  <a:lnTo>
                    <a:pt x="1224" y="144"/>
                  </a:lnTo>
                  <a:lnTo>
                    <a:pt x="1248" y="144"/>
                  </a:lnTo>
                  <a:lnTo>
                    <a:pt x="1264" y="136"/>
                  </a:lnTo>
                  <a:lnTo>
                    <a:pt x="1288" y="136"/>
                  </a:lnTo>
                  <a:lnTo>
                    <a:pt x="1304" y="136"/>
                  </a:lnTo>
                  <a:lnTo>
                    <a:pt x="1328" y="136"/>
                  </a:lnTo>
                  <a:lnTo>
                    <a:pt x="1344" y="128"/>
                  </a:lnTo>
                  <a:lnTo>
                    <a:pt x="1368" y="128"/>
                  </a:lnTo>
                  <a:lnTo>
                    <a:pt x="1392" y="128"/>
                  </a:lnTo>
                  <a:lnTo>
                    <a:pt x="1408" y="120"/>
                  </a:lnTo>
                  <a:lnTo>
                    <a:pt x="1432" y="120"/>
                  </a:lnTo>
                  <a:lnTo>
                    <a:pt x="1448" y="120"/>
                  </a:lnTo>
                  <a:lnTo>
                    <a:pt x="1472" y="120"/>
                  </a:lnTo>
                  <a:lnTo>
                    <a:pt x="1496" y="112"/>
                  </a:lnTo>
                  <a:lnTo>
                    <a:pt x="1512" y="112"/>
                  </a:lnTo>
                  <a:lnTo>
                    <a:pt x="1536" y="112"/>
                  </a:lnTo>
                  <a:lnTo>
                    <a:pt x="1552" y="104"/>
                  </a:lnTo>
                  <a:lnTo>
                    <a:pt x="1576" y="104"/>
                  </a:lnTo>
                  <a:lnTo>
                    <a:pt x="1600" y="104"/>
                  </a:lnTo>
                  <a:lnTo>
                    <a:pt x="1616" y="104"/>
                  </a:lnTo>
                  <a:lnTo>
                    <a:pt x="1640" y="96"/>
                  </a:lnTo>
                  <a:lnTo>
                    <a:pt x="1656" y="96"/>
                  </a:lnTo>
                  <a:lnTo>
                    <a:pt x="1680" y="96"/>
                  </a:lnTo>
                  <a:lnTo>
                    <a:pt x="1704" y="88"/>
                  </a:lnTo>
                  <a:lnTo>
                    <a:pt x="1720" y="88"/>
                  </a:lnTo>
                  <a:lnTo>
                    <a:pt x="1744" y="88"/>
                  </a:lnTo>
                  <a:lnTo>
                    <a:pt x="1760" y="88"/>
                  </a:lnTo>
                  <a:lnTo>
                    <a:pt x="1784" y="80"/>
                  </a:lnTo>
                  <a:lnTo>
                    <a:pt x="1800" y="80"/>
                  </a:lnTo>
                  <a:lnTo>
                    <a:pt x="1824" y="80"/>
                  </a:lnTo>
                  <a:lnTo>
                    <a:pt x="1848" y="72"/>
                  </a:lnTo>
                  <a:lnTo>
                    <a:pt x="1864" y="72"/>
                  </a:lnTo>
                  <a:lnTo>
                    <a:pt x="1888" y="72"/>
                  </a:lnTo>
                  <a:lnTo>
                    <a:pt x="1904" y="72"/>
                  </a:lnTo>
                  <a:lnTo>
                    <a:pt x="1928" y="64"/>
                  </a:lnTo>
                  <a:lnTo>
                    <a:pt x="1952" y="64"/>
                  </a:lnTo>
                  <a:lnTo>
                    <a:pt x="1968" y="64"/>
                  </a:lnTo>
                  <a:lnTo>
                    <a:pt x="1992" y="56"/>
                  </a:lnTo>
                  <a:lnTo>
                    <a:pt x="2008" y="56"/>
                  </a:lnTo>
                  <a:lnTo>
                    <a:pt x="2032" y="56"/>
                  </a:lnTo>
                  <a:lnTo>
                    <a:pt x="2056" y="48"/>
                  </a:lnTo>
                  <a:lnTo>
                    <a:pt x="2072" y="48"/>
                  </a:lnTo>
                  <a:lnTo>
                    <a:pt x="2096" y="48"/>
                  </a:lnTo>
                  <a:lnTo>
                    <a:pt x="2112" y="48"/>
                  </a:lnTo>
                  <a:lnTo>
                    <a:pt x="2136" y="40"/>
                  </a:lnTo>
                  <a:lnTo>
                    <a:pt x="2160" y="40"/>
                  </a:lnTo>
                  <a:lnTo>
                    <a:pt x="2176" y="40"/>
                  </a:lnTo>
                  <a:lnTo>
                    <a:pt x="2200" y="32"/>
                  </a:lnTo>
                  <a:lnTo>
                    <a:pt x="2216" y="32"/>
                  </a:lnTo>
                  <a:lnTo>
                    <a:pt x="2240" y="32"/>
                  </a:lnTo>
                  <a:lnTo>
                    <a:pt x="2256" y="32"/>
                  </a:lnTo>
                  <a:lnTo>
                    <a:pt x="2280" y="24"/>
                  </a:lnTo>
                  <a:lnTo>
                    <a:pt x="2304" y="24"/>
                  </a:lnTo>
                  <a:lnTo>
                    <a:pt x="2320" y="24"/>
                  </a:lnTo>
                  <a:lnTo>
                    <a:pt x="2344" y="16"/>
                  </a:lnTo>
                  <a:lnTo>
                    <a:pt x="2360" y="16"/>
                  </a:lnTo>
                  <a:lnTo>
                    <a:pt x="2384" y="16"/>
                  </a:lnTo>
                  <a:lnTo>
                    <a:pt x="2408" y="8"/>
                  </a:lnTo>
                  <a:lnTo>
                    <a:pt x="2424" y="8"/>
                  </a:lnTo>
                  <a:lnTo>
                    <a:pt x="2448" y="8"/>
                  </a:lnTo>
                  <a:lnTo>
                    <a:pt x="2464" y="8"/>
                  </a:lnTo>
                  <a:lnTo>
                    <a:pt x="248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01720" y="517860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92440" y="5102280"/>
              <a:ext cx="763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30600" y="5064120"/>
              <a:ext cx="1440" cy="76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05040" y="5076720"/>
              <a:ext cx="50760" cy="51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704680" y="5076720"/>
              <a:ext cx="50760" cy="51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70480" y="408636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08640" y="404820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83080" y="4060800"/>
              <a:ext cx="507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482720" y="4060800"/>
              <a:ext cx="507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87800" y="4048200"/>
              <a:ext cx="88920" cy="88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46440" y="2828880"/>
              <a:ext cx="763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84600" y="2790720"/>
              <a:ext cx="180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559400" y="2803680"/>
              <a:ext cx="5076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559040" y="2803680"/>
              <a:ext cx="5076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543400" y="1755720"/>
              <a:ext cx="118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e versus SNR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10080" y="55404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/No (dB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6200000">
              <a:off x="377280" y="347760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e (Mbps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25960" y="4454640"/>
              <a:ext cx="144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59400" y="4454640"/>
              <a:ext cx="144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238560" y="5889600"/>
              <a:ext cx="1282680" cy="88920"/>
              <a:chOff x="3238560" y="5889600"/>
              <a:chExt cx="1282680" cy="88920"/>
            </a:xfrm>
          </p:grpSpPr>
          <p:sp>
            <p:nvSpPr>
              <p:cNvPr id="327" name=""/>
              <p:cNvSpPr/>
              <p:nvPr/>
            </p:nvSpPr>
            <p:spPr>
              <a:xfrm>
                <a:off x="4330800" y="5889600"/>
                <a:ext cx="190440" cy="88920"/>
              </a:xfrm>
              <a:custGeom>
                <a:avLst/>
                <a:gdLst/>
                <a:ahLst/>
                <a:rect l="l" t="t" r="r" b="b"/>
                <a:pathLst>
                  <a:path w="120" h="56">
                    <a:moveTo>
                      <a:pt x="120" y="32"/>
                    </a:moveTo>
                    <a:lnTo>
                      <a:pt x="0" y="5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12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238560" y="5889600"/>
                <a:ext cx="177840" cy="8892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0" y="32"/>
                    </a:moveTo>
                    <a:lnTo>
                      <a:pt x="112" y="0"/>
                    </a:lnTo>
                    <a:lnTo>
                      <a:pt x="112" y="32"/>
                    </a:lnTo>
                    <a:lnTo>
                      <a:pt x="112" y="56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3416400" y="5940360"/>
                <a:ext cx="9144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3405240" y="606096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Increas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17400" y="6264360"/>
              <a:ext cx="102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Robustnes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75040" y="2803680"/>
              <a:ext cx="800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75040" y="4060800"/>
              <a:ext cx="800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372280" y="2803680"/>
              <a:ext cx="88560" cy="1257120"/>
              <a:chOff x="5372280" y="2803680"/>
              <a:chExt cx="88560" cy="1257120"/>
            </a:xfrm>
          </p:grpSpPr>
          <p:sp>
            <p:nvSpPr>
              <p:cNvPr id="335" name=""/>
              <p:cNvSpPr/>
              <p:nvPr/>
            </p:nvSpPr>
            <p:spPr>
              <a:xfrm>
                <a:off x="5372280" y="2803680"/>
                <a:ext cx="88560" cy="17784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24" y="0"/>
                    </a:moveTo>
                    <a:lnTo>
                      <a:pt x="56" y="112"/>
                    </a:lnTo>
                    <a:lnTo>
                      <a:pt x="24" y="112"/>
                    </a:lnTo>
                    <a:lnTo>
                      <a:pt x="0" y="1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72280" y="3882960"/>
                <a:ext cx="88560" cy="17784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24" y="1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56" y="0"/>
                    </a:lnTo>
                    <a:lnTo>
                      <a:pt x="24" y="1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10080" y="2981520"/>
                <a:ext cx="1800" cy="90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5386320" y="318456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Increas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34640" y="3381480"/>
              <a:ext cx="42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65240" y="358452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Rat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18840" y="2346480"/>
              <a:ext cx="1108800" cy="337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PER = 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Garamond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C7002-7F30-4EC1-92CF-DC165DB467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acket Binary Convolutional Coding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mbines Binary Convolutional Coding with Codeword Scrambl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 11 (and 5.5) Mb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te k=1, n = 2 enco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64 st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PSK (BPSK) modul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free^2/Es = 9/2 = 6.5 d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 22 Mb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te k=2, n=3 enco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56 st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8PSK modul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free^2/Es = 704/98 = 8.6 d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65DE-59F9-467E-8182-21747E66A3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 Compon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29892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E12C-EE1F-4BD7-9532-739972E62D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BCC Encoder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11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22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8" name=""/>
          <p:cNvSpPr/>
          <p:nvPr/>
        </p:nvSpPr>
        <p:spPr>
          <a:xfrm>
            <a:off x="1066680" y="3581280"/>
            <a:ext cx="74678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552456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533520" y="5334120"/>
          <a:ext cx="2222280" cy="46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5334120"/>
                    <a:ext cx="2222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457200" y="3276720"/>
          <a:ext cx="3492360" cy="241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276720"/>
                    <a:ext cx="3492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3124080" y="3657600"/>
            <a:ext cx="4534200" cy="278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B439-EFAC-4394-AB9C-EA691F024F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20:27:00Z</dcterms:created>
  <dc:creator>Bozo T. Clown</dc:creator>
  <dc:description/>
  <dc:language>en-US</dc:language>
  <cp:lastModifiedBy>batra</cp:lastModifiedBy>
  <cp:lastPrinted>2000-12-01T18:34:34Z</cp:lastPrinted>
  <dcterms:modified xsi:type="dcterms:W3CDTF">2000-12-01T19:38:20Z</dcterms:modified>
  <cp:revision>57</cp:revision>
  <dc:subject/>
  <dc:title>High Performance Wireless Local Area Networks in the 2.4GHz ISM Band</dc:title>
</cp:coreProperties>
</file>