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3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56926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84040" y="701280"/>
            <a:ext cx="462420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5408280" y="898668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252960" y="8986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8D1610-348E-4C72-B20C-B1E153764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160" y="89866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8985240"/>
            <a:ext cx="553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2320" y="297000"/>
            <a:ext cx="568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252960" y="8986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E1E4B52-8F50-4FB2-AF5F-3E721AB3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08280" y="898668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6926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D1B4-6678-4D48-ABDF-F36386F7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95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595B9-6DF1-42E9-BE0F-1A583D0E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0E71-F70D-4554-9447-605A806E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46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9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978C-B812-4F1E-BAC3-5B963EED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AA88-99A6-4FCE-9D99-79288030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7414-0169-4E55-B450-5E374E5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24031-5807-4CE9-ABA8-7C34C3BA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A32B-E113-4E19-A39A-448C4E4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97776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10BE-D6D6-4BEB-922E-23B76B68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04F3-F565-496B-ADE6-348F9B2A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9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2095-3E1A-46DA-8ABF-C03372A8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46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95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C10B-F68A-48B3-B0FA-6235912A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546120"/>
            <a:ext cx="9144000" cy="914400"/>
            <a:chOff x="0" y="546120"/>
            <a:chExt cx="914400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543800" y="98892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54612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29F89A-3A7A-4994-BC49-54EDADD59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09480" y="33228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067080" y="33264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5461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uj Batra PhD, Chris Heegard PhD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ic Rossin PhD, and Matthew B. Shoemake Ph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1625400"/>
            <a:ext cx="7772400" cy="18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gested Options to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xas Instruments Proposal fo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g High-Rate Stand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14656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9884-B881-4622-8C5A-3EB372C2BD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11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throughput110" descr=""/>
          <p:cNvPicPr/>
          <p:nvPr/>
        </p:nvPicPr>
        <p:blipFill>
          <a:blip r:embed="rId1"/>
          <a:stretch/>
        </p:blipFill>
        <p:spPr>
          <a:xfrm>
            <a:off x="1905120" y="1835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62F66-603D-4805-AA8A-AF1219FAAB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16.5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throuhgput165" descr=""/>
          <p:cNvPicPr/>
          <p:nvPr/>
        </p:nvPicPr>
        <p:blipFill>
          <a:blip r:embed="rId1"/>
          <a:stretch/>
        </p:blipFill>
        <p:spPr>
          <a:xfrm>
            <a:off x="1905120" y="183528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9F33-FA80-455D-A7A9-EA962AC6BA2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22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hroughput220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658C-EF4D-46A2-ACCC-C22AD5E3576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33.0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hroughput330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F1C0-2BFD-473C-BCEF-D36016E075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a new preamble and header, whi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reases overhead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network throughput for short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5 Mbps: 120%+ over Long P/H ,40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0 Mbps: 150%+ over Long P/H, 60%+ over Short P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5 Mbps: 165%+ over Long P/H, 65%+ over Short P/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.0 Mbps: 180%+ over Long P/H , 70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.0 Mbps: 200%+ over Long P/H , 75%+ over Short P/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8BC60-BE25-4DA5-8C68-F4B20F1FE4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398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asing the Data Rate to 33Mbps in Wireless Ethernet via Clock Switc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8A59F-C06D-4D1B-A01A-1F586E18E4A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xisting IEEE 802.11b standard, and the TI proposed 22 Mbps extension to the standard, is based upon an 11 Msps symbol rate and a bandwidth occupancy of 20 MHz.  In terms of modern digital communications techniques such as pulse shaping and adaptive equalization, a more aggressive symbol rate in the same bandwidth is practical.  However, in order to deal with inter-operability with existing networks, the structure of the preamble, including the symbol rate of the preamble, must not change.  A viable method to address these issues is to transmit an 11Msps preamble followed by a higher symbol rate encoded data rate.  Means and issues involving the switch in the clock are addressed in this presentation.  The suggested increase in rate by 50% to 16.5 Msps yields a data rate of 33 Mb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9483-6743-40E1-9F1E-97BCC5D85B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lse Sha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809880" y="2133720"/>
            <a:ext cx="4665960" cy="37414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295280" y="2514600"/>
            <a:ext cx="2163960" cy="70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2830320" cy="73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FAAD-6741-483A-AE3C-60DF7D594CC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00200" y="1434960"/>
            <a:ext cx="5931000" cy="5042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ye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A0D86-1782-4461-8E7E-A994DF88B3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ck Switc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925720" cy="17348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2590920" y="2895480"/>
            <a:ext cx="3733560" cy="1108080"/>
            <a:chOff x="2590920" y="2895480"/>
            <a:chExt cx="3733560" cy="110808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2590920" y="2895480"/>
              <a:ext cx="3733560" cy="489240"/>
            </a:xfrm>
            <a:prstGeom prst="rect">
              <a:avLst/>
            </a:prstGeom>
            <a:ln w="3240">
              <a:solidFill>
                <a:srgbClr val="ccccff"/>
              </a:solidFill>
              <a:miter/>
            </a:ln>
          </p:spPr>
        </p:pic>
        <p:pic>
          <p:nvPicPr>
            <p:cNvPr id="202" name="" descr=""/>
            <p:cNvPicPr/>
            <p:nvPr/>
          </p:nvPicPr>
          <p:blipFill>
            <a:blip r:embed="rId3"/>
            <a:stretch/>
          </p:blipFill>
          <p:spPr>
            <a:xfrm>
              <a:off x="3124080" y="3581280"/>
              <a:ext cx="2411640" cy="422280"/>
            </a:xfrm>
            <a:prstGeom prst="rect">
              <a:avLst/>
            </a:prstGeom>
            <a:ln w="3240">
              <a:solidFill>
                <a:srgbClr val="ccccff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7F63-2582-495A-B735-CD424A4D316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reasing Throughput with a High Performance Prea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C4DFB-F4D4-4345-9569-7452B01C0D9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523880" y="1739880"/>
            <a:ext cx="6185160" cy="5041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8506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(0//0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A4033-BFC7-45F4-AF76-BC1BB21FD34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(2//3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81040" y="1739880"/>
            <a:ext cx="6185160" cy="50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56EB-BFE7-4E0F-8FEF-A22EBF2F8FF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8251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ck Switching from 11MHz to 16.5 MHz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(4//6) Guard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81040" y="1752480"/>
            <a:ext cx="6185160" cy="504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BBC82-1575-4BDF-AFC0-15AB938D761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tructure without Clock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6883560" cy="81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2AB9-5144-46D5-B210-61DF7F3BC8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Structur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Structure with Clock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397480" cy="39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2F77-9909-45A8-8D66-41E8692F01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 with 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322280" y="1600200"/>
            <a:ext cx="65026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231DD-D273-4765-ABB0-2F2E7BD2416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36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oughput without 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0268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ADED6-DE74-4486-BEA4-856BE173A82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Preamble and Header (P/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463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LCP PPDU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76280" y="2666880"/>
            <a:ext cx="6167520" cy="879480"/>
            <a:chOff x="1376280" y="2666880"/>
            <a:chExt cx="6167520" cy="879480"/>
          </a:xfrm>
        </p:grpSpPr>
        <p:grpSp>
          <p:nvGrpSpPr>
            <p:cNvPr id="65" name=""/>
            <p:cNvGrpSpPr/>
            <p:nvPr/>
          </p:nvGrpSpPr>
          <p:grpSpPr>
            <a:xfrm>
              <a:off x="1376280" y="2666880"/>
              <a:ext cx="6167520" cy="533160"/>
              <a:chOff x="1376280" y="2666880"/>
              <a:chExt cx="6167520" cy="53316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376280" y="2666880"/>
                <a:ext cx="2057400" cy="533160"/>
                <a:chOff x="1376280" y="2666880"/>
                <a:chExt cx="2057400" cy="533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37628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95960" y="2706120"/>
                  <a:ext cx="1418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LCP PREAM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44 BITS @ 1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423960" y="2666880"/>
                <a:ext cx="2057400" cy="533160"/>
                <a:chOff x="3423960" y="2666880"/>
                <a:chExt cx="2057400" cy="53316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42396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781440" y="2706120"/>
                  <a:ext cx="1342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LCP HEA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8 BITS @ 1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486400" y="2666880"/>
                <a:ext cx="2057400" cy="533160"/>
                <a:chOff x="5486400" y="2666880"/>
                <a:chExt cx="2057400" cy="53316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486400" y="26668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229440" y="2795400"/>
                  <a:ext cx="570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" name=""/>
            <p:cNvGrpSpPr/>
            <p:nvPr/>
          </p:nvGrpSpPr>
          <p:grpSpPr>
            <a:xfrm>
              <a:off x="1409760" y="3269880"/>
              <a:ext cx="4063320" cy="276480"/>
              <a:chOff x="1409760" y="3269880"/>
              <a:chExt cx="4063320" cy="276480"/>
            </a:xfrm>
          </p:grpSpPr>
          <p:sp>
            <p:nvSpPr>
              <p:cNvPr id="76" name=""/>
              <p:cNvSpPr/>
              <p:nvPr/>
            </p:nvSpPr>
            <p:spPr>
              <a:xfrm>
                <a:off x="3070440" y="3269880"/>
                <a:ext cx="595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2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720960" y="3408120"/>
                <a:ext cx="1752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1409760" y="3406320"/>
                <a:ext cx="159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685800" y="378468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PLCP PPDU Form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361880" y="4470480"/>
            <a:ext cx="6185160" cy="879480"/>
            <a:chOff x="1361880" y="4470480"/>
            <a:chExt cx="6185160" cy="879480"/>
          </a:xfrm>
        </p:grpSpPr>
        <p:grpSp>
          <p:nvGrpSpPr>
            <p:cNvPr id="81" name=""/>
            <p:cNvGrpSpPr/>
            <p:nvPr/>
          </p:nvGrpSpPr>
          <p:grpSpPr>
            <a:xfrm>
              <a:off x="1376640" y="4470480"/>
              <a:ext cx="6170400" cy="533160"/>
              <a:chOff x="1376640" y="4470480"/>
              <a:chExt cx="6170400" cy="533160"/>
            </a:xfrm>
          </p:grpSpPr>
          <p:sp>
            <p:nvSpPr>
              <p:cNvPr id="82" name=""/>
              <p:cNvSpPr/>
              <p:nvPr/>
            </p:nvSpPr>
            <p:spPr>
              <a:xfrm>
                <a:off x="1376640" y="4470480"/>
                <a:ext cx="2057400" cy="53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37840" y="4508640"/>
                <a:ext cx="19364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HORT PLCP PREAM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2 BITS @ 1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3434040" y="4470480"/>
                <a:ext cx="2057400" cy="533160"/>
                <a:chOff x="3434040" y="4470480"/>
                <a:chExt cx="2057400" cy="533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434040" y="44704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594240" y="4508640"/>
                  <a:ext cx="17398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SHORT PLCP HEA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48 BITS @ 2Mbp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5489640" y="4470480"/>
                <a:ext cx="2057400" cy="533160"/>
                <a:chOff x="5489640" y="4470480"/>
                <a:chExt cx="2057400" cy="533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489640" y="4470480"/>
                  <a:ext cx="205740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232680" y="4599000"/>
                  <a:ext cx="570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" name=""/>
            <p:cNvGrpSpPr/>
            <p:nvPr/>
          </p:nvGrpSpPr>
          <p:grpSpPr>
            <a:xfrm>
              <a:off x="1361880" y="5073480"/>
              <a:ext cx="4064400" cy="276480"/>
              <a:chOff x="1361880" y="5073480"/>
              <a:chExt cx="4064400" cy="276480"/>
            </a:xfrm>
          </p:grpSpPr>
          <p:sp>
            <p:nvSpPr>
              <p:cNvPr id="91" name=""/>
              <p:cNvSpPr/>
              <p:nvPr/>
            </p:nvSpPr>
            <p:spPr>
              <a:xfrm>
                <a:off x="3048840" y="5073480"/>
                <a:ext cx="51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6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673440" y="5211720"/>
                <a:ext cx="175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1361880" y="521028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"/>
          <p:cNvSpPr/>
          <p:nvPr/>
        </p:nvSpPr>
        <p:spPr>
          <a:xfrm>
            <a:off x="685800" y="557532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e preamble and header contain no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6A75D-6287-4E38-82F1-F247834A63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Overhead for Long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425600" y="1789200"/>
            <a:ext cx="6335640" cy="4331880"/>
            <a:chOff x="1425600" y="1789200"/>
            <a:chExt cx="6335640" cy="4331880"/>
          </a:xfrm>
        </p:grpSpPr>
        <p:graphicFrame>
          <p:nvGraphicFramePr>
            <p:cNvPr id="97" name=""/>
            <p:cNvGraphicFramePr/>
            <p:nvPr/>
          </p:nvGraphicFramePr>
          <p:xfrm>
            <a:off x="1663560" y="1789200"/>
            <a:ext cx="6097680" cy="4068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3560" y="1789200"/>
                      <a:ext cx="6097680" cy="40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385800" y="575280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DU size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701640" y="33919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cent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5A379-B301-4CAB-B0F1-4C413C273B3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cent Overhead for Short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425600" y="1751040"/>
            <a:ext cx="6335640" cy="4332240"/>
            <a:chOff x="1425600" y="1751040"/>
            <a:chExt cx="6335640" cy="4332240"/>
          </a:xfrm>
        </p:grpSpPr>
        <p:graphicFrame>
          <p:nvGraphicFramePr>
            <p:cNvPr id="103" name=""/>
            <p:cNvGraphicFramePr/>
            <p:nvPr/>
          </p:nvGraphicFramePr>
          <p:xfrm>
            <a:off x="1663560" y="1751040"/>
            <a:ext cx="6097680" cy="40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63560" y="1751040"/>
                      <a:ext cx="6097680" cy="40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3385800" y="571500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SDU size (byt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701640" y="3354120"/>
              <a:ext cx="181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ercent 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160F-9C13-45F7-B2A5-AA213D24A2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vation for a Shorter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hort PSDUs, preamble and header spans a large portion of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P/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s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able resources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reduce overhea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ng a new preambl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the data rate for the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C2F3-9DAE-4D4D-AB0D-289F8B486D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High Performance P/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Synchronization Sequenc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ne that alternates between (1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nd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ws for easy detection of packet, timing, carrier frequency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clocks to be lo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me Synchronization Sequence: composed of PN sequ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 location within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Estimation Sequence: deterministic sequer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first 168 symbols of a length 255 PN 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9400" y="1776240"/>
            <a:ext cx="7645320" cy="1211760"/>
            <a:chOff x="779400" y="1776240"/>
            <a:chExt cx="7645320" cy="1211760"/>
          </a:xfrm>
        </p:grpSpPr>
        <p:grpSp>
          <p:nvGrpSpPr>
            <p:cNvPr id="112" name=""/>
            <p:cNvGrpSpPr/>
            <p:nvPr/>
          </p:nvGrpSpPr>
          <p:grpSpPr>
            <a:xfrm>
              <a:off x="799920" y="2711520"/>
              <a:ext cx="6070680" cy="276480"/>
              <a:chOff x="799920" y="2711520"/>
              <a:chExt cx="6070680" cy="27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553560" y="2711520"/>
                <a:ext cx="709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8.55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30800" y="2848320"/>
                <a:ext cx="253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99920" y="2848320"/>
                <a:ext cx="2717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779400" y="2108160"/>
              <a:ext cx="1579680" cy="533520"/>
              <a:chOff x="779400" y="2108160"/>
              <a:chExt cx="1579680" cy="533520"/>
            </a:xfrm>
          </p:grpSpPr>
          <p:sp>
            <p:nvSpPr>
              <p:cNvPr id="117" name=""/>
              <p:cNvSpPr/>
              <p:nvPr/>
            </p:nvSpPr>
            <p:spPr>
              <a:xfrm>
                <a:off x="80496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79400" y="2146320"/>
                <a:ext cx="157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MING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96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03640" y="2108160"/>
              <a:ext cx="1579680" cy="533520"/>
              <a:chOff x="2303640" y="2108160"/>
              <a:chExt cx="1579680" cy="533520"/>
            </a:xfrm>
          </p:grpSpPr>
          <p:sp>
            <p:nvSpPr>
              <p:cNvPr id="120" name=""/>
              <p:cNvSpPr/>
              <p:nvPr/>
            </p:nvSpPr>
            <p:spPr>
              <a:xfrm>
                <a:off x="2328840" y="2108160"/>
                <a:ext cx="152352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03640" y="2146320"/>
                <a:ext cx="157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RAME SYN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64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776760" y="2108160"/>
              <a:ext cx="1656000" cy="533520"/>
              <a:chOff x="3776760" y="2108160"/>
              <a:chExt cx="1656000" cy="533520"/>
            </a:xfrm>
          </p:grpSpPr>
          <p:sp>
            <p:nvSpPr>
              <p:cNvPr id="123" name=""/>
              <p:cNvSpPr/>
              <p:nvPr/>
            </p:nvSpPr>
            <p:spPr>
              <a:xfrm>
                <a:off x="3852720" y="2108160"/>
                <a:ext cx="152424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76760" y="2146320"/>
                <a:ext cx="1656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ANNEL E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68 symbols @ 11Ms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5376960" y="2108160"/>
              <a:ext cx="1523880" cy="533520"/>
              <a:chOff x="5376960" y="2108160"/>
              <a:chExt cx="1523880" cy="533520"/>
            </a:xfrm>
          </p:grpSpPr>
          <p:sp>
            <p:nvSpPr>
              <p:cNvPr id="126" name=""/>
              <p:cNvSpPr/>
              <p:nvPr/>
            </p:nvSpPr>
            <p:spPr>
              <a:xfrm>
                <a:off x="537696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10440" y="2146320"/>
                <a:ext cx="1456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EA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8 BITS @ 5.5Mbp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900840" y="2108160"/>
              <a:ext cx="1523880" cy="533520"/>
              <a:chOff x="6900840" y="2108160"/>
              <a:chExt cx="1523880" cy="533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900840" y="2108160"/>
                <a:ext cx="1523880" cy="5335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77120" y="2236680"/>
                <a:ext cx="570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S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800280" y="1776240"/>
              <a:ext cx="4546440" cy="276480"/>
              <a:chOff x="800280" y="1776240"/>
              <a:chExt cx="4546440" cy="276480"/>
            </a:xfrm>
          </p:grpSpPr>
          <p:sp>
            <p:nvSpPr>
              <p:cNvPr id="132" name=""/>
              <p:cNvSpPr/>
              <p:nvPr/>
            </p:nvSpPr>
            <p:spPr>
              <a:xfrm>
                <a:off x="2576160" y="1776240"/>
                <a:ext cx="994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EAM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632040" y="19130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00280" y="1913040"/>
                <a:ext cx="165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F0A48-F2DF-4513-87CD-57C25461CF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: Network 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450864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d a back-off time of zero to demonstrate the effect that the preamble size has on  network 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d increase in throughput for new P/H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/H and Short P/H for various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880920" y="2322360"/>
            <a:ext cx="7380000" cy="536040"/>
            <a:chOff x="880920" y="2322360"/>
            <a:chExt cx="7380000" cy="536040"/>
          </a:xfrm>
        </p:grpSpPr>
        <p:grpSp>
          <p:nvGrpSpPr>
            <p:cNvPr id="138" name=""/>
            <p:cNvGrpSpPr/>
            <p:nvPr/>
          </p:nvGrpSpPr>
          <p:grpSpPr>
            <a:xfrm>
              <a:off x="880920" y="2323800"/>
              <a:ext cx="1598400" cy="533520"/>
              <a:chOff x="880920" y="2323800"/>
              <a:chExt cx="1598400" cy="53352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880920" y="2323800"/>
                <a:ext cx="799920" cy="533520"/>
                <a:chOff x="880920" y="2323800"/>
                <a:chExt cx="799920" cy="533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8092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013040" y="24062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679400" y="2323800"/>
                <a:ext cx="799920" cy="533520"/>
                <a:chOff x="1679400" y="2323800"/>
                <a:chExt cx="799920" cy="5335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67940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697760" y="2406240"/>
                  <a:ext cx="76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3351240" y="2322360"/>
              <a:ext cx="1598040" cy="536040"/>
              <a:chOff x="3351240" y="2322360"/>
              <a:chExt cx="1598040" cy="53604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3351240" y="2322360"/>
                <a:ext cx="799920" cy="533160"/>
                <a:chOff x="3351240" y="2322360"/>
                <a:chExt cx="799920" cy="533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51240" y="2322360"/>
                  <a:ext cx="79992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483360" y="24044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149360" y="2325240"/>
                <a:ext cx="799920" cy="533160"/>
                <a:chOff x="4149360" y="2325240"/>
                <a:chExt cx="799920" cy="5331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49360" y="2325240"/>
                  <a:ext cx="799920" cy="5331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8120" y="2407320"/>
                  <a:ext cx="662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C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2494080" y="2590560"/>
              <a:ext cx="85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56120" y="2590560"/>
              <a:ext cx="8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3920" y="2590560"/>
              <a:ext cx="85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6662520" y="2323800"/>
              <a:ext cx="1598400" cy="533520"/>
              <a:chOff x="6662520" y="2323800"/>
              <a:chExt cx="1598400" cy="533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6662520" y="2323800"/>
                <a:ext cx="799920" cy="533520"/>
                <a:chOff x="6662520" y="2323800"/>
                <a:chExt cx="799920" cy="5335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66252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794640" y="2406240"/>
                  <a:ext cx="535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/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7461000" y="2323800"/>
                <a:ext cx="799920" cy="533520"/>
                <a:chOff x="7461000" y="2323800"/>
                <a:chExt cx="799920" cy="5335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7461000" y="2323800"/>
                  <a:ext cx="799920" cy="5335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479360" y="2406240"/>
                  <a:ext cx="7628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SDU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2" name=""/>
          <p:cNvSpPr/>
          <p:nvPr/>
        </p:nvSpPr>
        <p:spPr>
          <a:xfrm>
            <a:off x="6657840" y="173988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76240" y="173844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85960" y="1881360"/>
            <a:ext cx="5765760" cy="276480"/>
            <a:chOff x="885960" y="1881360"/>
            <a:chExt cx="5765760" cy="276480"/>
          </a:xfrm>
        </p:grpSpPr>
        <p:sp>
          <p:nvSpPr>
            <p:cNvPr id="165" name=""/>
            <p:cNvSpPr/>
            <p:nvPr/>
          </p:nvSpPr>
          <p:spPr>
            <a:xfrm>
              <a:off x="3619800" y="1881360"/>
              <a:ext cx="81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43560" y="2019240"/>
              <a:ext cx="210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85960" y="2019240"/>
              <a:ext cx="26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602800" y="22604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53680" y="22734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00320" y="23097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92360" y="3405240"/>
            <a:ext cx="5425560" cy="729000"/>
            <a:chOff x="1692360" y="3405240"/>
            <a:chExt cx="5425560" cy="729000"/>
          </a:xfrm>
        </p:grpSpPr>
        <p:sp>
          <p:nvSpPr>
            <p:cNvPr id="172" name=""/>
            <p:cNvSpPr/>
            <p:nvPr/>
          </p:nvSpPr>
          <p:spPr>
            <a:xfrm>
              <a:off x="1692360" y="358308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 throughput 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4058280" y="3405240"/>
              <a:ext cx="3059640" cy="729000"/>
              <a:chOff x="4058280" y="3405240"/>
              <a:chExt cx="3059640" cy="729000"/>
            </a:xfrm>
          </p:grpSpPr>
          <p:sp>
            <p:nvSpPr>
              <p:cNvPr id="174" name=""/>
              <p:cNvSpPr/>
              <p:nvPr/>
            </p:nvSpPr>
            <p:spPr>
              <a:xfrm>
                <a:off x="4058280" y="3405240"/>
                <a:ext cx="305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ime to transmit inform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14440" y="37353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otal 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27400" y="3784680"/>
                <a:ext cx="292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4CDC-A2D4-42DD-9685-CDFC501A51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oughput Increase for 5.5 Mb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throughput55" descr=""/>
          <p:cNvPicPr/>
          <p:nvPr/>
        </p:nvPicPr>
        <p:blipFill>
          <a:blip r:embed="rId1"/>
          <a:stretch/>
        </p:blipFill>
        <p:spPr>
          <a:xfrm>
            <a:off x="1905120" y="1822320"/>
            <a:ext cx="5333760" cy="400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uj Batra et al.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6324-3CAD-4264-A2E0-EBA4CD0E1E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8:45:34Z</dcterms:created>
  <dc:creator>Anuj Batra et al.</dc:creator>
  <dc:description/>
  <dc:language>en-US</dc:language>
  <cp:lastModifiedBy>Harry Worstell</cp:lastModifiedBy>
  <cp:lastPrinted>2000-12-01T19:57:26Z</cp:lastPrinted>
  <dcterms:modified xsi:type="dcterms:W3CDTF">2000-12-07T22:07:15Z</dcterms:modified>
  <cp:revision>55</cp:revision>
  <dc:subject/>
  <dc:title>Suggested Options to the Texas Instruments Proposal for IEEE 802.11g High-Rate Standard</dc:title>
</cp:coreProperties>
</file>