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66D-44D5-49EC-9C7F-9A8D46EC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7E2-1564-493E-A73A-34461836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C55-9ECB-44F7-B34D-EFBBF29B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2157-F369-4AF6-91B6-C621C958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6F0-AD24-4359-8445-BA51CD1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FBE-0A3A-4AE0-96E6-5AA74A88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241-E307-4B8C-9A0B-6C507AFA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5482-66D5-48A3-87F1-2EE33452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CF1-315E-4EA7-8442-7FDB884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A21-8D8E-4B9B-9F15-1E2F044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F4E-E253-4B7A-A0D8-DAE975E1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94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0AD-C9B3-4B0B-9D94-322C87A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Halford and 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E4C587-993B-4094-8825-F31E77B2C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verview of OFDM for a High Rate Extens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eve Hal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lm Bay, F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4040" y="3070080"/>
            <a:ext cx="535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verview and Outline of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AD0-1CAB-444F-9834-C032B869F63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Performanc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561680"/>
            <a:ext cx="845820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WGN Performance is very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alizer complexity can be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near Equalizer requires a matrix inverse to comp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ng equalizer required for good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aptive equalizers may not converge quickly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linear Equalizers:  MMSE offers optimal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nnel impulse response estimate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n be combined with decoder (Joint MM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 will not scale easily with increasing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xity increases exponentially with delay spread &amp; data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ate version may be necess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optimal &amp; sensitive to estimation err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006-D930-44CA-9534-76C4CC1C91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08040" y="176616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7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48120" y="184248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25 tap equaliz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ED83-8BBC-4E0C-AAC2-CD4C49E7F73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7000"/>
          </a:bodyPr>
          <a:p>
            <a:pPr marL="126720" indent="-12672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Well-known wave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AWGN perform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PSK Versions:  Low Peak-to-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-12672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 inherent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EC provides some he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qualizer complexity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01400" indent="-8424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inear equalizer needs to be 25 taps or 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 easy to extend receiver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9A2-57D7-44EC-ACFD-DEDB4C0803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1440" y="685800"/>
            <a:ext cx="59594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ulti-code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26760"/>
            <a:ext cx="8915400" cy="19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tion is transmitted by modulating multiple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are summed and transmitted simultane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 both time and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words create independent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sed in IS-95 for multiple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4838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076640"/>
            <a:ext cx="9907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out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05740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8600" y="4165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78600" y="55213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39625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800" y="466092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5334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N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on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AM or PS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229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3040" y="4915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600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65640" y="48355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45200" y="46864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11680" y="4686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257800" y="5365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365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40006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4000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2240" y="4597560"/>
            <a:ext cx="8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06640" y="38098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13120" y="449568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1280" y="5189400"/>
            <a:ext cx="94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ded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te = R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4241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21480" y="4241880"/>
            <a:ext cx="59688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271920" y="4756320"/>
            <a:ext cx="269280" cy="276480"/>
            <a:chOff x="6271920" y="4756320"/>
            <a:chExt cx="269280" cy="276480"/>
          </a:xfrm>
        </p:grpSpPr>
        <p:sp>
          <p:nvSpPr>
            <p:cNvPr id="184" name=""/>
            <p:cNvSpPr/>
            <p:nvPr/>
          </p:nvSpPr>
          <p:spPr>
            <a:xfrm>
              <a:off x="6292800" y="477972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1920" y="4756320"/>
              <a:ext cx="26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5715000" y="49150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21480" y="4978080"/>
            <a:ext cx="603000" cy="61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27640" y="49150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60088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4640" y="48927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26120" y="4714920"/>
            <a:ext cx="64800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82080" y="482292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74120" y="4905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255160" y="43052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051760" y="4095720"/>
          <a:ext cx="38088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1760" y="4095720"/>
                    <a:ext cx="38088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337600" y="488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15280" y="37926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07320" y="357984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61320" y="447516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9400" y="5154480"/>
            <a:ext cx="111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dewor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L chips/ symbo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B04-6F08-48B9-BD30-D5BE2398B22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74640" y="685800"/>
            <a:ext cx="780264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Receiver Conside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ceiver must separate each codeword prior to dete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a bank of correlators  to separate data str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tect modulation after correlator for each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words with fast correlator structure redu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ample:  CCK, Walsh words, and complex exponent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61840" y="467820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22400" y="3479760"/>
            <a:ext cx="1719360" cy="2563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38440" y="3970440"/>
            <a:ext cx="7920" cy="145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46360" y="39798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55720" y="54133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38440" y="4680000"/>
            <a:ext cx="707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65280" y="3760920"/>
            <a:ext cx="876240" cy="44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448000" y="4446720"/>
            <a:ext cx="858600" cy="46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75000" y="5253120"/>
            <a:ext cx="874800" cy="39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eword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81240" y="5697360"/>
            <a:ext cx="122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Correlator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30720" y="394344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314880" y="4650840"/>
            <a:ext cx="682560" cy="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348000" y="5419800"/>
            <a:ext cx="682560" cy="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2920" y="4214880"/>
            <a:ext cx="74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29120" y="369720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029120" y="4440240"/>
            <a:ext cx="977760" cy="447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9120" y="5214960"/>
            <a:ext cx="977760" cy="44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-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4040" y="3562200"/>
            <a:ext cx="990360" cy="224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ll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M inpu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91160" y="4524480"/>
            <a:ext cx="93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00760" y="391788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10120" y="46688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8040" y="543564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85680" y="42148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852-9B90-4FFE-B2AE-BD4A5C88FA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2880" y="685800"/>
            <a:ext cx="6107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 Codeword Sel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2240" y="1263600"/>
            <a:ext cx="86900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erformance is determined by codeword se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thogonal codeword give zer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orthogonal codewords generate “noise” due to cross-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s the AWGN performance significa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360" y="3046320"/>
            <a:ext cx="4008600" cy="340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8280" y="304812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lsh Sequ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2960" y="3429000"/>
            <a:ext cx="345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lsh Sequences are well kn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ces of  +/-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in IS-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Correlator ex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3040" y="5232240"/>
            <a:ext cx="413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peak-to-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thogonality is destroyed b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equalize to re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4920" y="48322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Problem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3983040"/>
            <a:ext cx="1230480" cy="480960"/>
          </a:xfrm>
          <a:prstGeom prst="rightArrow">
            <a:avLst>
              <a:gd name="adj1" fmla="val 50000"/>
              <a:gd name="adj2" fmla="val 6396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13280" y="2976480"/>
            <a:ext cx="376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mo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l sequences lose orthogonality in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2400" y="3905280"/>
            <a:ext cx="11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270320" y="4781520"/>
            <a:ext cx="491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sequences are not eigenfunctions of the multipath channe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5FF-A289-4284-94E0-BAC77F457FD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879480" y="2554200"/>
            <a:ext cx="7421400" cy="243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2880" y="685800"/>
            <a:ext cx="626760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7240" y="6746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.3 MCM:Multipath &amp; Orthogonalit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520" y="1362240"/>
            <a:ext cx="865368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hen the channel is known, can design functions to retain orthog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a “hot topic” for researchers in CDMA &amp; Equ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actical for wireless 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38040" y="25081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19080" y="3086280"/>
            <a:ext cx="7277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Exponentials are eigenfunctions of linear system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eigenfunctions for any multi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alizers not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ath causes a change in magnitude &amp; phase only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s of complex exponentials are orthogonal frequency is 1/(symbol leng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FT &amp; IFFT provide for fast corre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7760" y="5529240"/>
            <a:ext cx="974520" cy="358920"/>
          </a:xfrm>
          <a:prstGeom prst="rightArrow">
            <a:avLst>
              <a:gd name="adj1" fmla="val 50000"/>
              <a:gd name="adj2" fmla="val 67879"/>
            </a:avLst>
          </a:prstGeom>
          <a:solidFill>
            <a:srgbClr val="3333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16040" y="5464080"/>
            <a:ext cx="640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FDM uses complex exponentials as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3B69-84F4-4B3C-864E-109BAF945C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3 MCM using OFDM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22000" y="1295280"/>
            <a:ext cx="790740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Good AWGN performance via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cellent multipath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qualizer is greatly simplifi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qualizer complexity is the same for all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xisting Wireless LAN standard (802.11a) provides guid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Reduces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ak to average ratio requires more PA back-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quires block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May increase gate count due to memory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equency roll-off not as fast as symbol 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FDDE-4EBB-4C63-BBE8-4243F645A6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 at 2.4 GH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6800" y="1387440"/>
            <a:ext cx="8291520" cy="475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802.11a standard as a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ed by Task Group A as best waveform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intain all mandatory and optional PHY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elerates the standards process by re-using existing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al band Access Points could provide smooth tran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crease sample rate from 20 MHz to 22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lock rate with existing 11 Mbp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intain the same channel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: 25 MHz center frequency spacing, 3 channels in 9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existing long &amp; short preamble for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is also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tersil will comply with all IEEE patent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DB8-5B7F-46CF-961F-D7E785CA13E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685800"/>
            <a:ext cx="825804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685800"/>
            <a:ext cx="83170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ransmit information using orthogonal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riers/Codewords generated efficiently using 64 pt. I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8 tones f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4 tones for pilot symb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s good method for carrier, timing, &amp; AGC tr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maining 12 orthogonal tones are null (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1520" y="5857920"/>
            <a:ext cx="551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986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764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254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432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2610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874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653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1431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3210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54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032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21020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3876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5655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7433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9212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09904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27688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987880" y="4800240"/>
            <a:ext cx="0" cy="1057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16572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4356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52140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699240" y="4800240"/>
            <a:ext cx="0" cy="10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4316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21000" y="455616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32064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76400" y="463716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26720" y="4483440"/>
            <a:ext cx="23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343.75 KHz Tone Sp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9880" y="4588200"/>
            <a:ext cx="117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Subcarri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20800" y="5090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86240" y="59472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requ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986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699240" y="414936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517920" y="415800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~17.875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32280" y="4311720"/>
            <a:ext cx="186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898640" y="4311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333240" y="51440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B30-8EC5-4DB7-A55D-72C77D90EE2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line of Proposal Presenta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9240" y="1308240"/>
            <a:ext cx="8559720" cy="49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g Regulatory Approval Plan 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view of OFDM for High Rat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use of 802.11b Preambles with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ltra-short Preamble with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DM System Performance 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Am Effects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nnelization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Speaker: 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ase Noise Sensitivity for HRb OFDM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 and Complexity Issues for OFDM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Speaker: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OFDM for the High Rate 802.11b Extension?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   Speaker: Jim Zy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C8E-CB71-427F-9EFC-1466A72459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685800" y="685800"/>
            <a:ext cx="771516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680" y="1523520"/>
            <a:ext cx="8524800" cy="24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ach data tone is symbol modu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Modulation is standard BPSK, QPSK, 16-QAM, or 64-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se rate 1/2, k = 7 convolutional code for error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ncture code to rate 2/3 and 3/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lot tones are modulated with a BPSK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ce is determined by the data scramb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45960" y="4132440"/>
          <a:ext cx="8040960" cy="226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4132440"/>
                    <a:ext cx="804096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F82-7CE6-4383-959D-21957CF6282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95360" y="685800"/>
            <a:ext cx="8123040" cy="58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255160" cy="44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2 OFDM for High Rate: Modulation Detail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24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ded Information is interleaved over one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leaved after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ces adjacent “bits” on non-adjacent sub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 is also scrambled prior to co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27160" y="4056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87600" y="3787920"/>
            <a:ext cx="87768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2040" y="40323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16360" y="3718080"/>
            <a:ext cx="1100160" cy="65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volu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k = 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4720" y="4048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08640" y="3809880"/>
            <a:ext cx="914400" cy="48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40320" y="4062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91040" y="3759120"/>
            <a:ext cx="1038240" cy="6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75680" y="3699000"/>
            <a:ext cx="1296720" cy="766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tel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its to symbol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931080" y="4071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88160" y="4929120"/>
            <a:ext cx="741600" cy="73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-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1640" y="3691080"/>
            <a:ext cx="976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c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053560" y="4478400"/>
            <a:ext cx="0" cy="446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705720" y="525780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32716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epends on data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97560" y="4784760"/>
            <a:ext cx="1187280" cy="939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yc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4533840" y="5237280"/>
            <a:ext cx="97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92600" y="4992840"/>
            <a:ext cx="167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RF sub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934-52FE-4735-AF04-883B31DC4B2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20880" y="685800"/>
            <a:ext cx="7208640" cy="48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Symbol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560" y="1389240"/>
            <a:ext cx="886932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utput of the 64 pt. IFFT is cyclically extended by 16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gth of 80 samples -- Any 64 pts valid for demod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 16 are used to “absorb” multipath from preceding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6800" y="4071960"/>
            <a:ext cx="106704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03840" y="4071960"/>
            <a:ext cx="3962160" cy="85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348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75800" y="5055120"/>
            <a:ext cx="91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78640" y="4275720"/>
            <a:ext cx="14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FT/FFT S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88720" y="419760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Gu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6800" y="50720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03840" y="507204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6800" y="392904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080920" y="51328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0000"/>
                </a:solidFill>
                <a:latin typeface="Arial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75720" y="3632760"/>
            <a:ext cx="239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63  usecs OFDM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36160" y="3327120"/>
            <a:ext cx="46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Arial"/>
              </a:rPr>
              <a:t>64 + 16 = 80 samples @ 22 MHz = 3.63637 u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4184640" y="5084640"/>
            <a:ext cx="172800" cy="1176120"/>
          </a:xfrm>
          <a:custGeom>
            <a:avLst/>
            <a:gdLst>
              <a:gd name="textAreaLeft" fmla="*/ 110520 w 172800"/>
              <a:gd name="textAreaRight" fmla="*/ 173160 w 172800"/>
              <a:gd name="textAreaTop" fmla="*/ 30600 h 1176120"/>
              <a:gd name="textAreaBottom" fmla="*/ 1145520 h 117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8760" y="4075200"/>
            <a:ext cx="3306600" cy="857160"/>
          </a:xfrm>
          <a:prstGeom prst="rect">
            <a:avLst/>
          </a:prstGeom>
          <a:solidFill>
            <a:srgbClr val="c0c0c0">
              <a:alpha val="50000"/>
            </a:srgbClr>
          </a:solidFill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15280" y="434808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99ff"/>
                </a:solidFill>
                <a:latin typeface="Times New Roman"/>
              </a:rPr>
              <a:t>Preceding Symb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89000" y="5742000"/>
            <a:ext cx="455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ltipath will cause preceding symbol to”bleed” into current symbol. Guard interval absorbs this interfe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43C-D53E-4F32-BEE2-8057971417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46000" y="685800"/>
            <a:ext cx="744408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OFDM for High Rate:  Receiver Structu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360" y="3006720"/>
            <a:ext cx="61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347840" y="2844720"/>
            <a:ext cx="974520" cy="40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j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8480" y="294156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865080" y="3097080"/>
            <a:ext cx="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17400" y="3911760"/>
            <a:ext cx="506520" cy="34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N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9600" y="4299120"/>
            <a:ext cx="95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95600" y="3873600"/>
            <a:ext cx="12110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/Tim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1954080" y="3254040"/>
            <a:ext cx="0" cy="61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1125360" y="4083120"/>
            <a:ext cx="570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39960" y="3019320"/>
            <a:ext cx="40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25600" y="3030480"/>
            <a:ext cx="681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94120" y="2695680"/>
            <a:ext cx="777960" cy="69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u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81400" y="2770200"/>
            <a:ext cx="901800" cy="50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E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2 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 rot="5400000">
            <a:off x="4510800" y="1923120"/>
            <a:ext cx="233280" cy="1212840"/>
          </a:xfrm>
          <a:custGeom>
            <a:avLst/>
            <a:gdLst>
              <a:gd name="textAreaLeft" fmla="*/ 149040 w 233280"/>
              <a:gd name="textAreaRight" fmla="*/ 233640 w 233280"/>
              <a:gd name="textAreaTop" fmla="*/ 59760 h 1212840"/>
              <a:gd name="textAreaBottom" fmla="*/ 1153080 h 121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10"/>
                  <a:pt x="10800" y="3420"/>
                </a:cubicBezTo>
                <a:lnTo>
                  <a:pt x="10800" y="7380"/>
                </a:lnTo>
                <a:cubicBezTo>
                  <a:pt x="10800" y="9090"/>
                  <a:pt x="5400" y="10800"/>
                  <a:pt x="0" y="10800"/>
                </a:cubicBezTo>
                <a:cubicBezTo>
                  <a:pt x="5400" y="10800"/>
                  <a:pt x="10800" y="12510"/>
                  <a:pt x="10800" y="14220"/>
                </a:cubicBezTo>
                <a:lnTo>
                  <a:pt x="10800" y="18180"/>
                </a:lnTo>
                <a:cubicBezTo>
                  <a:pt x="10800" y="1989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9320" y="1650960"/>
            <a:ext cx="271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equency Domain Equaliz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each tone by inverse gain &amp; phase of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2926800">
            <a:off x="2548440" y="2239200"/>
            <a:ext cx="569880" cy="222120"/>
          </a:xfrm>
          <a:prstGeom prst="rightArrow">
            <a:avLst>
              <a:gd name="adj1" fmla="val 50000"/>
              <a:gd name="adj2" fmla="val 6414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93720" y="1405080"/>
            <a:ext cx="125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to know “when” a symbol 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73520" y="301932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81760" y="3006720"/>
            <a:ext cx="59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78640" y="2722680"/>
            <a:ext cx="1288800" cy="70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oft-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n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symbol to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02360" y="304308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2859120"/>
            <a:ext cx="1144800" cy="36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interle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427880" y="3790800"/>
            <a:ext cx="1144800" cy="37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916760" y="3228840"/>
            <a:ext cx="0" cy="55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08440" y="3848040"/>
            <a:ext cx="1176480" cy="53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tract 4 Pi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81560" y="3006720"/>
            <a:ext cx="0" cy="841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78680" y="4157640"/>
            <a:ext cx="0" cy="66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37320" y="4937040"/>
            <a:ext cx="1052280" cy="4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terbi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61360" y="4840200"/>
            <a:ext cx="1065240" cy="61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6791400" y="5133960"/>
            <a:ext cx="668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906640" y="4105440"/>
            <a:ext cx="1819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010120"/>
            <a:ext cx="1181160" cy="32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-Scramb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4572000" y="5159520"/>
            <a:ext cx="116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2820600" y="5172120"/>
            <a:ext cx="568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4120" y="49766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5760" y="2401920"/>
            <a:ext cx="78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From A-to-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E386-8EB1-4BCC-A592-37BDB30F58A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155600" y="685800"/>
            <a:ext cx="6775560" cy="471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 OFDM for High Rate:  Summa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803160" y="4029120"/>
          <a:ext cx="76456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4029120"/>
                    <a:ext cx="76456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1386000" y="1695600"/>
          <a:ext cx="6159240" cy="18795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86000" y="1695600"/>
                    <a:ext cx="61592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B93-32FF-4DE2-96EF-BC4DA33695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95520" y="1706400"/>
          <a:ext cx="5776920" cy="398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76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3E5-6FDF-4923-B832-5BB1E03E5EE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595520" y="1706400"/>
          <a:ext cx="5753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06400"/>
                    <a:ext cx="5753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94B0-6FAF-4A74-A44D-29C164B9898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1" name=""/>
          <p:cNvGraphicFramePr/>
          <p:nvPr/>
        </p:nvGraphicFramePr>
        <p:xfrm>
          <a:off x="2228760" y="1171440"/>
          <a:ext cx="5078520" cy="52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171440"/>
                    <a:ext cx="5078520" cy="52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A45C-242E-474A-82FA-FA70E6CA1B0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liance Matrix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760400" y="1422360"/>
          <a:ext cx="5618160" cy="444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0" y="1422360"/>
                    <a:ext cx="5618160" cy="44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215-A9E1-48DA-85DC-D0E9EB18469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0120" y="685800"/>
            <a:ext cx="7864560" cy="54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0 Why go to higher rates at 2.4GHz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802.11b has been very success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existing Infra-structure &amp; customer famili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umer demands for higher data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multi-media for home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uperior Range and Performance i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 GHz will have better range than 5 GHz for same 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for antenna divers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GHz won’t be as clean as promised (802.15.3, 802.16 co-exi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ployment of 802.11a is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5562720"/>
            <a:ext cx="7696080" cy="533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05120" y="5573880"/>
            <a:ext cx="71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exists now for 802.11b to expand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9A1-A876-4786-8162-044C472994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Keys for Successful High Rate Syste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erformance vs. Complexity must b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WGN performance is important to maintain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es Error correcting code for higher rat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 to multi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K is inherently robust &amp; need to maintain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ime to market must be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&amp; FCC will drive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intain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Easy to extend to higher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y stop at 22 Mb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92B-37BE-48BF-B22E-BC9C3EA414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0 Waveforms for High Rate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deword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CCK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rmation is transmitted by codeword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ach group of n bits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ock coding with inherent multipath protec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ymbol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PBCC-like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used to select constellatio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AM or PSK with convolutional or block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ard modulation for satellite commun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lti-Code Modulation </a:t>
            </a:r>
            <a:r>
              <a:rPr b="1" lang="en-US" sz="2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OFDM &amp; DS-CD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ed bits are sent in parallel using orthogonal basis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d in OFDM and in synchronous DS-CDMA (e.g, downlink of IS-95 cellu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9A4-118E-4D68-BDDB-814ADFC9D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CCK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8 chip code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Mbps: Each codeword sends 8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bits used to select one of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64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 bits used to QPSK modulate code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r must correlate for 64 codewords &amp; determine QPSK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a fast correlator structure akin to fast Walsh and F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256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CCK is possible to 22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ch codeword sends 16 un-cod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codeword size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65536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s very large correlator -- Some simplification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xampl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V. S. Somayazulu, et. al. , “</a:t>
            </a: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Proposal for extension of the IEEE 802.11b PHY to higher rates (&gt;20Mbps)”, IEEE 802.11-00/069, May 2000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0FE6-8441-484F-96BB-08F5389D76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685800"/>
            <a:ext cx="7467480" cy="533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1 Codeword Modulation: 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6324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1000"/>
          </a:bodyPr>
          <a:p>
            <a:pPr marL="140400" indent="-140400"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Backward Compatibil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Simple Rake Receiver for multipath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Re-use of some existing baseb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Low Peak to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AR &gt; 1 due to pulse shap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40400" indent="-1404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oesn’t scale easily to higher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-11700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dding FEC would only increase number of code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444960" indent="-93600"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AWGN performance &amp; range would be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04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D39-687F-489F-873A-EB15EBAA43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62120" y="685800"/>
            <a:ext cx="7516800" cy="446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3680" y="3429000"/>
            <a:ext cx="8613720" cy="29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urrent PBCC systems </a:t>
            </a:r>
            <a:r>
              <a:rPr b="1" lang="en-US" sz="24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 information bit per symbol @ 11 Mbps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1/2 Convolutional Code is used for AWGN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xtension of PBCC is possible to higher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:  Use 8-PSK &amp; Rate 2/3 punctured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PSK gives 33 Mbps co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e 2/3 gives 22 Mbps information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ld use block code instead of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1480" y="2019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5880" y="1822320"/>
            <a:ext cx="7621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n,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79920" y="1600200"/>
            <a:ext cx="123804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its to P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 QA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8120" y="1598760"/>
            <a:ext cx="90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ate =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444760" y="2006280"/>
            <a:ext cx="1216080" cy="4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11840" y="200664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67480" y="1773360"/>
            <a:ext cx="965160" cy="43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ls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42040" y="1928880"/>
            <a:ext cx="155520" cy="155520"/>
          </a:xfrm>
          <a:prstGeom prst="flowChartSummingJunction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34080" y="201132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15120" y="1709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32720" y="1565280"/>
          <a:ext cx="566640" cy="29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720" y="1565280"/>
                    <a:ext cx="566640" cy="29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7297560" y="19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99440" y="127620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rrier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13680" y="1701720"/>
            <a:ext cx="33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97040" y="2087640"/>
          <a:ext cx="792360" cy="6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7040" y="2087640"/>
                    <a:ext cx="79236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035680" y="2103480"/>
          <a:ext cx="442800" cy="3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5680" y="2103480"/>
                    <a:ext cx="442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867280" y="2728800"/>
          <a:ext cx="19764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2728800"/>
                    <a:ext cx="1976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778800" y="2227320"/>
            <a:ext cx="136440" cy="495360"/>
          </a:xfrm>
          <a:prstGeom prst="upArrow">
            <a:avLst>
              <a:gd name="adj1" fmla="val 50000"/>
              <a:gd name="adj2" fmla="val 90765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008-67A7-4510-AFBA-9FFE9B6395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685800"/>
            <a:ext cx="800100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1.2 Symbol Modulation: Exampl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3429000"/>
            <a:ext cx="746784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1523880"/>
            <a:ext cx="5943600" cy="144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480" y="182880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828800"/>
            <a:ext cx="8380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70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72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27560" y="198000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182880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15991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34200" y="190368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: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18288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7480" y="15991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160" y="205632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441864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4600" y="377856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-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3733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5320" y="342828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2680" y="3503880"/>
            <a:ext cx="45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1600200"/>
            <a:ext cx="2667240" cy="1295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5720" y="2558880"/>
            <a:ext cx="87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0000"/>
                </a:solidFill>
                <a:latin typeface="Times New Roman"/>
              </a:rPr>
              <a:t>Rate 2/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33120" y="3687840"/>
            <a:ext cx="52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2400" y="3657600"/>
            <a:ext cx="6094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1880" y="4038480"/>
            <a:ext cx="420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8220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65960" y="380880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un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02320" y="3733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95120" y="35046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95160" y="3733920"/>
            <a:ext cx="89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te 1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73920" y="3733920"/>
            <a:ext cx="8380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1200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13080" y="350388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453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92480" y="4037760"/>
            <a:ext cx="4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80880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ear 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3657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4038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480060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4875480"/>
            <a:ext cx="12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R 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65760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D6CC-1BF0-4A72-A789-1DC01728B62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5:31:01Z</dcterms:created>
  <dc:creator>Steve Halford and Mark Webster</dc:creator>
  <dc:description/>
  <dc:language>en-US</dc:language>
  <cp:lastModifiedBy>Harry Worstell</cp:lastModifiedBy>
  <cp:lastPrinted>2000-05-04T15:07:54Z</cp:lastPrinted>
  <dcterms:modified xsi:type="dcterms:W3CDTF">2000-11-06T22:08:49Z</dcterms:modified>
  <cp:revision>78</cp:revision>
  <dc:subject/>
  <dc:title>389 Overview of OFDM for a High Rate Extension</dc:title>
</cp:coreProperties>
</file>