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715-6011-4EB2-B4A0-F25DAD71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9AF-ED01-4BA1-8F67-1FDDD3CE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C404-31E8-4A3C-B5FB-ED3F6AE8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691-9C28-4A69-A16F-02B021921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624-8A4E-48CD-BD58-7C247972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6A9-8747-46A1-9D30-C62EDA82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D016-8A0A-44AC-8906-49E71CAF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3F6-5969-4DF4-855F-14A98F16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79F-E0C0-42F7-A925-4587832F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0239-B2D8-4C68-A012-E9820CE3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F0B2-00C9-4E60-9004-1492A8B9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A4C2-338F-4588-AB2B-371E0870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Halford and  Mark Web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5E56718-B82E-464F-8C53-EFC808761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89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verview of OFDM for a High Rate Exten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ve Hal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 Web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lm Bay, 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4040" y="3070080"/>
            <a:ext cx="53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verview and Outline of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48C9-0D31-4732-9FF5-4A8304B5CE0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Perform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1561680"/>
            <a:ext cx="845820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WGN Performance is very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qualizer complexity can be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ear Equalizer requires a matrix inverse to 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ng equalizer required for good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aptive equalizers may not converge quickly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linear Equalizers:  MLSE offers optimal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nnel impulse response estimat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be combined with decoder (Joint ML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ation will not scale easily with increasing data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xity increases exponentially with delay spread &amp; data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uced state version may be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optimal &amp; sensitive to estimation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900E-1A2A-491A-82BC-33EE3F11ABB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685800"/>
            <a:ext cx="80010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08040" y="176616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7 tap eq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48120" y="18424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25 tap eq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3EB-7A88-46F6-B7CA-EB69DAA2029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7000"/>
          </a:bodyPr>
          <a:p>
            <a:pPr marL="126720" indent="-12672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Well-known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cellent AWGN perform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PSK Versions:  Low Peak-to-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AR &gt; 1 due to pulse shaping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 inherent multipath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EC provides some he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qualizer complexity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Linear equalizer needs to be 25 taps or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t easy to extend receiver to highe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4E1-74A7-4247-B214-BC8DA3B1B0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1440" y="685800"/>
            <a:ext cx="59594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3 Multi-code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526760"/>
            <a:ext cx="891540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formation is transmitted by modulating multiple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words are summed and transmitted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e both time and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words create independent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sed in IS-95 for multipl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4838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076640"/>
            <a:ext cx="9907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 outpu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4229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91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5600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8600" y="416556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78600" y="55213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39625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4660920"/>
            <a:ext cx="1295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53341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229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3040" y="491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600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65640" y="48355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45200" y="46864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11680" y="4686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5365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5365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000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400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2240" y="4597560"/>
            <a:ext cx="8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06640" y="380988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13120" y="449568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1280" y="518940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42418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21480" y="4241880"/>
            <a:ext cx="59688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271920" y="4756320"/>
            <a:ext cx="269280" cy="276480"/>
            <a:chOff x="6271920" y="4756320"/>
            <a:chExt cx="269280" cy="276480"/>
          </a:xfrm>
        </p:grpSpPr>
        <p:sp>
          <p:nvSpPr>
            <p:cNvPr id="184" name=""/>
            <p:cNvSpPr/>
            <p:nvPr/>
          </p:nvSpPr>
          <p:spPr>
            <a:xfrm>
              <a:off x="6292800" y="47797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1920" y="47563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715000" y="49150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21480" y="4978080"/>
            <a:ext cx="60300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27640" y="49150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6008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24640" y="48927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26120" y="4714920"/>
            <a:ext cx="64800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82080" y="48229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74120" y="49053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55160" y="4305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051760" y="4095720"/>
          <a:ext cx="380880" cy="2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51760" y="4095720"/>
                    <a:ext cx="38088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337600" y="488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15280" y="379260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 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07320" y="357984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61320" y="447516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9400" y="515448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1B6-6CA5-4D2A-8A48-C9DF1CA223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74640" y="685800"/>
            <a:ext cx="7802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 Receiver Consider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ceiver must separate each codeword prior to dete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a bank of correlators  to separate data 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ct modulation after correlator for each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dewords with fast correlator structure reduce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 CCK, Walsh words, and complex exponent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61840" y="4678200"/>
            <a:ext cx="87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22400" y="3479760"/>
            <a:ext cx="1719360" cy="25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38440" y="3970440"/>
            <a:ext cx="7920" cy="145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46360" y="3979800"/>
            <a:ext cx="707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5720" y="5413320"/>
            <a:ext cx="70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38440" y="4680000"/>
            <a:ext cx="707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65280" y="3760920"/>
            <a:ext cx="87624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48000" y="4446720"/>
            <a:ext cx="858600" cy="46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75000" y="5253120"/>
            <a:ext cx="87480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81240" y="569736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rrelator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330720" y="3943440"/>
            <a:ext cx="682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314880" y="4650840"/>
            <a:ext cx="682560" cy="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348000" y="5419800"/>
            <a:ext cx="682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2920" y="4214880"/>
            <a:ext cx="74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29120" y="3697200"/>
            <a:ext cx="977760" cy="44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29120" y="4440240"/>
            <a:ext cx="977760" cy="44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9120" y="5214960"/>
            <a:ext cx="977760" cy="44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4040" y="3562200"/>
            <a:ext cx="990360" cy="224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l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 inpu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91160" y="452448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00760" y="391788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10120" y="466884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18040" y="543564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85680" y="42148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C06-28BA-4D37-8ADC-7921A916BEA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2880" y="685800"/>
            <a:ext cx="6107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 Codeword Sel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2240" y="1263600"/>
            <a:ext cx="86900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rformance is determined by codeword se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thogonal codeword give zero cross-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orthogonal codewords generate “noise” due to cross-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uces the AWGN performance significa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360" y="3046320"/>
            <a:ext cx="4008600" cy="340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8280" y="304812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lsh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2960" y="3429000"/>
            <a:ext cx="34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lsh Sequences are well kn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s of  +/-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d in IS-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 Correlator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thogonal 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3040" y="5232240"/>
            <a:ext cx="413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s peak-to-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thogonality is destroyed by multi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to equalize to re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4920" y="48322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roblem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25760" y="3983040"/>
            <a:ext cx="1230480" cy="480960"/>
          </a:xfrm>
          <a:prstGeom prst="rightArrow">
            <a:avLst>
              <a:gd name="adj1" fmla="val 50000"/>
              <a:gd name="adj2" fmla="val 6396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13280" y="2976480"/>
            <a:ext cx="37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mo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l sequences lose orthogonality in multi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2400" y="390528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70320" y="4781520"/>
            <a:ext cx="49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sequences are not eigenfunctions of the multipath channe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A15-9A79-4F67-B4F1-18F0776648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79480" y="2554200"/>
            <a:ext cx="7421400" cy="243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2880" y="685800"/>
            <a:ext cx="626760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Multipath &amp; Orthog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82520" y="1362240"/>
            <a:ext cx="8653680" cy="122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en the channel is known, can design functions to retain orthog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ly a “hot topic” for researchers in CDMA &amp; Equ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actical for wireless 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38040" y="25081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9080" y="3086280"/>
            <a:ext cx="727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x Exponentials are eigenfunctions of linear syste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, eigenfunctions for any multi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alizers not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ath causes a change in magnitude &amp; phase only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s of complex exponentials are orthogonal frequency is 1/(symbol leng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FT &amp; IFFT provide for fast corre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7760" y="5529240"/>
            <a:ext cx="974520" cy="358920"/>
          </a:xfrm>
          <a:prstGeom prst="rightArrow">
            <a:avLst>
              <a:gd name="adj1" fmla="val 50000"/>
              <a:gd name="adj2" fmla="val 67879"/>
            </a:avLst>
          </a:prstGeom>
          <a:solidFill>
            <a:srgbClr val="3333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6040" y="5464080"/>
            <a:ext cx="64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DM uses complex exponentials as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510-146A-430E-95A5-754BAB9B6FD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3 MCM using OFDM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2000" y="1295280"/>
            <a:ext cx="7907400" cy="37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ood AWGN performance via error correction 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cellent multipath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qualizer is greatly simplifi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qualizer complexity is the same for all data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isting Wireless LAN standard (802.11a) provides gu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Reduces time to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eak to average ratio requires more PA back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quires block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ay increase gate count due to memory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requency roll-off not as fast as symbol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570-D6BB-4397-ABB9-D5B8B528170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 at 2.4 GH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6800" y="1387440"/>
            <a:ext cx="829152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802.11a standard as a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ed by Task Group A as best waveform for wireless 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tain all mandatory and optional PHY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lerates the standards process by re-using existing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al band Access Points could provide smooth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crease sample rate from 20 MHz to 22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clock rate with existing 11 Mbp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tain the same channe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: 25 MHz center frequency spacing, 3 channels in 9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existing long &amp; short preamble for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ltra-short preamble is also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sil will comply with all IEEE patent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25B-2AE8-49FA-8F04-D804801F9E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685800"/>
            <a:ext cx="825804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8680" y="685800"/>
            <a:ext cx="83170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680" y="1523520"/>
            <a:ext cx="852480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nsmit information using orthogonal 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riers/Codewords generated efficiently using 64 pt. I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48 tones f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4 tones for pilot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s good method for carrier, timing, &amp; AGC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maining 12 orthogonal tones are null (z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41520" y="5857920"/>
            <a:ext cx="55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89864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0764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543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4321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6100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78748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653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1431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3210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545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0323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21020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3876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5655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7433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9212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09904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2768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98788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1657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3435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5214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69924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43160" y="455616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21000" y="455616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320640" y="46371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76400" y="46371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26720" y="4483440"/>
            <a:ext cx="23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343.75 KHz Tone Sp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9880" y="4588200"/>
            <a:ext cx="117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Subcarr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20800" y="50900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86240" y="594720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98640" y="414936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699240" y="414936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17920" y="415800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~17.87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32280" y="4311720"/>
            <a:ext cx="186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898640" y="4311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33240" y="51440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F042-A026-4B9C-9B24-2FB30038A42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ine of Proposal Present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9240" y="1308240"/>
            <a:ext cx="8559720" cy="49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g Regulatory Approval Plan 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verview of OFDM for High Rat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use of 802.11b Preambles with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ltra-short Preamble with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DM System Performance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Am Effects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nnelization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ase Noise Sensitivity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 and Complexity Issues for OFDM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OFDM for the High Rate 802.11b Extension?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Speaker: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6296-CA7E-4E14-BDDC-4AB05940CFE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85800"/>
            <a:ext cx="77151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74680" y="1523520"/>
            <a:ext cx="8524800" cy="24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ach data tone is symbol modul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ol Modulation is standard BPSK, QPSK, 16-QAM, or 64-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rate 1/2, k = 7 convolutional code for error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ncture code to rate 2/3 and 3/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ilot tones are modulated with a BPSK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ce is determined by the data scramb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45960" y="4132440"/>
          <a:ext cx="8040960" cy="22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4132440"/>
                    <a:ext cx="804096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B4B-0A7A-4592-94CE-13DE1F05840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95360" y="685800"/>
            <a:ext cx="812304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25516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24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ded Information is interleaved over one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leaved after pun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ces adjacent “bits” on non-adjacent subc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 is also scrambled prior to co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27160" y="4056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87600" y="3787920"/>
            <a:ext cx="877680" cy="50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ram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62040" y="4032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16360" y="3718080"/>
            <a:ext cx="1100160" cy="65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volu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k = 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14720" y="4048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08640" y="3809880"/>
            <a:ext cx="91440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40320" y="4062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91040" y="3759120"/>
            <a:ext cx="1038240" cy="6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le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75680" y="3699000"/>
            <a:ext cx="1296720" cy="76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its to symbo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1080" y="4071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88160" y="4929120"/>
            <a:ext cx="741600" cy="73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-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1640" y="3691080"/>
            <a:ext cx="97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53560" y="447840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705720" y="525780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3271680"/>
            <a:ext cx="10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Depends on data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97560" y="4784760"/>
            <a:ext cx="1187280" cy="93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yc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 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533840" y="523728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2600" y="499284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RF sub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1AB5-95C4-4F14-9747-A6850A4D7BF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20880" y="685800"/>
            <a:ext cx="720864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 OFDM for High Rate:  Symbol Stru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560" y="1389240"/>
            <a:ext cx="8869320" cy="16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utput of the 64 pt. IFFT is cyclically extended by 16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of 80 samples -- Any 64 pts valid for de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16 are used to “absorb” multipath from preceding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6800" y="4071960"/>
            <a:ext cx="106704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03840" y="4071960"/>
            <a:ext cx="396216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3480" y="505512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75800" y="505512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78640" y="427572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FFT/FFT S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8720" y="4197600"/>
            <a:ext cx="81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u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te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6800" y="50720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03840" y="507204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6800" y="392904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080920" y="51328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75720" y="3632760"/>
            <a:ext cx="23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63  usecs OFDM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36160" y="3327120"/>
            <a:ext cx="46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64 + 16 = 80 samples @ 22 MHz = 3.63637 u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4184640" y="5084640"/>
            <a:ext cx="172800" cy="1176120"/>
          </a:xfrm>
          <a:custGeom>
            <a:avLst/>
            <a:gdLst>
              <a:gd name="textAreaLeft" fmla="*/ 110520 w 172800"/>
              <a:gd name="textAreaRight" fmla="*/ 173160 w 172800"/>
              <a:gd name="textAreaTop" fmla="*/ 30600 h 1176120"/>
              <a:gd name="textAreaBottom" fmla="*/ 114552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8760" y="4075200"/>
            <a:ext cx="3306600" cy="857160"/>
          </a:xfrm>
          <a:prstGeom prst="rect">
            <a:avLst/>
          </a:prstGeom>
          <a:solidFill>
            <a:srgbClr val="c0c0c0">
              <a:alpha val="50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15280" y="43480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99ff"/>
                </a:solidFill>
                <a:latin typeface="Times New Roman"/>
              </a:rPr>
              <a:t>Preceding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89000" y="5742000"/>
            <a:ext cx="455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ultipath will cause preceding symbol to”bleed” into current symbol. Guard interval absorbs this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41C-99CD-439C-BD6D-263C991D49B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46000" y="685800"/>
            <a:ext cx="7444080" cy="4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 OFDM for High Rate:  Receiver Stru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360" y="300672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47840" y="2844720"/>
            <a:ext cx="97452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j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8480" y="294156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865080" y="3097080"/>
            <a:ext cx="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17400" y="3911760"/>
            <a:ext cx="506520" cy="34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N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9600" y="4299120"/>
            <a:ext cx="9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equency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95600" y="3873600"/>
            <a:ext cx="12110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/Ti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54080" y="3254040"/>
            <a:ext cx="0" cy="61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125360" y="4083120"/>
            <a:ext cx="570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39960" y="3019320"/>
            <a:ext cx="40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25600" y="3030480"/>
            <a:ext cx="681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94120" y="2695680"/>
            <a:ext cx="777960" cy="69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u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81400" y="2770200"/>
            <a:ext cx="901800" cy="50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2 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 rot="5400000">
            <a:off x="4510800" y="1923120"/>
            <a:ext cx="233280" cy="1212840"/>
          </a:xfrm>
          <a:custGeom>
            <a:avLst/>
            <a:gdLst>
              <a:gd name="textAreaLeft" fmla="*/ 149040 w 233280"/>
              <a:gd name="textAreaRight" fmla="*/ 233640 w 233280"/>
              <a:gd name="textAreaTop" fmla="*/ 59760 h 1212840"/>
              <a:gd name="textAreaBottom" fmla="*/ 1153080 h 121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0"/>
                  <a:pt x="10800" y="3420"/>
                </a:cubicBezTo>
                <a:lnTo>
                  <a:pt x="10800" y="7380"/>
                </a:lnTo>
                <a:cubicBezTo>
                  <a:pt x="10800" y="9090"/>
                  <a:pt x="5400" y="10800"/>
                  <a:pt x="0" y="10800"/>
                </a:cubicBezTo>
                <a:cubicBezTo>
                  <a:pt x="5400" y="10800"/>
                  <a:pt x="10800" y="12510"/>
                  <a:pt x="10800" y="14220"/>
                </a:cubicBezTo>
                <a:lnTo>
                  <a:pt x="10800" y="18180"/>
                </a:lnTo>
                <a:cubicBezTo>
                  <a:pt x="10800" y="1989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89320" y="1650960"/>
            <a:ext cx="271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equency Domain Equaliz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each tone by inverse gain &amp; phase of the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2926800">
            <a:off x="2548440" y="2239200"/>
            <a:ext cx="569880" cy="222120"/>
          </a:xfrm>
          <a:prstGeom prst="rightArrow">
            <a:avLst>
              <a:gd name="adj1" fmla="val 50000"/>
              <a:gd name="adj2" fmla="val 6414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93720" y="1405080"/>
            <a:ext cx="125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to know “when” a symbol 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73520" y="301932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81760" y="3006720"/>
            <a:ext cx="59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78640" y="2722680"/>
            <a:ext cx="1288800" cy="70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ft-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n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symbol to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02360" y="304308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86480" y="2859120"/>
            <a:ext cx="1144800" cy="36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interle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27880" y="3790800"/>
            <a:ext cx="1144800" cy="37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916760" y="32288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08440" y="3848040"/>
            <a:ext cx="1176480" cy="53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ract 4 Pi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81560" y="3006720"/>
            <a:ext cx="0" cy="84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78680" y="4157640"/>
            <a:ext cx="0" cy="66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37320" y="4937040"/>
            <a:ext cx="1052280" cy="4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terb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61360" y="4840200"/>
            <a:ext cx="1065240" cy="6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791400" y="5133960"/>
            <a:ext cx="668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906640" y="4105440"/>
            <a:ext cx="1819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010120"/>
            <a:ext cx="118116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Scram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572000" y="5159520"/>
            <a:ext cx="1168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820600" y="5172120"/>
            <a:ext cx="56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14120" y="497664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o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5760" y="2401920"/>
            <a:ext cx="7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rom A-to-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58A-1D96-4F35-A4B9-CCC760E894B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155600" y="685800"/>
            <a:ext cx="6775560" cy="4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3 OFDM for High Rate:  Summa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803160" y="4032360"/>
          <a:ext cx="7583760" cy="194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4032360"/>
                    <a:ext cx="758376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1386000" y="1695600"/>
          <a:ext cx="6159240" cy="1879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6000" y="1695600"/>
                    <a:ext cx="61592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958D-C03F-4679-BB00-76054145AB0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95520" y="1706400"/>
          <a:ext cx="5776920" cy="39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706400"/>
                    <a:ext cx="5776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EA46-9553-4E66-821F-5BEB5A1D6F3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95520" y="1706400"/>
          <a:ext cx="5753160" cy="43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706400"/>
                    <a:ext cx="575316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D1AA-1FBA-4593-8B0F-7FB681B1309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228760" y="1171440"/>
          <a:ext cx="5078520" cy="52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171440"/>
                    <a:ext cx="5078520" cy="52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D662-067B-472F-A369-92A5FF6C2B6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760400" y="1422360"/>
          <a:ext cx="5618160" cy="444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0" y="1422360"/>
                    <a:ext cx="561816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A5B-BCE7-4471-909F-2709E982710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0120" y="685800"/>
            <a:ext cx="7864560" cy="54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0 Why go to higher rates at 2.4GHz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02.11b has been very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existing Infra-structure &amp; customer famili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sumer demands for higher data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multi-media for home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perior Range and Performance i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GHz will have better range than 5 GHz for same 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for antenna d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GHz won’t be as clean as promised (802.15.3, 802.16 co-ex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ployment of 802.11a is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562720"/>
            <a:ext cx="7696080" cy="533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05120" y="5573880"/>
            <a:ext cx="71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ortunity exists now for 802.11b to expand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BDE-6325-4BCC-9E07-373456629F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0 Keys for Successful High Rate Syst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rformance vs. Complexity must be att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WGN performance is important to maintain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ies Error correcting code for higher rat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 to multi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K is inherently robust &amp; need to maintain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ime to market must be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&amp; FCC will drive time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intain backward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asy to extend to higher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 stop at 20 Mb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8E3-E93E-431E-90E4-BB266FD8F0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0 Waveforms for High Rate Exten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deword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CCK-like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 is transmitted by codeword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ach group of n bits select one of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 coding with inherent multipath prote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ymbol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PBCC-like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d bits used to select constellatio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AM or PSK with convolutional or block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ard modulation for satellite communic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ulti-Code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OFDM &amp; DS-CD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d bits are sent in parallel using orthogonal basi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d in OFDM and in synchronous DS-CDMA (e.g, downlink of IS-95 cellu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15A1-6817-486F-A22B-2CB31F40EF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1 Codeword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rrent CCK systems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8 chip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 Mbps: Each codeword sends 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bits used to select one of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64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bits used to QPSK modulate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r must correlate for 64 codewords &amp; determine QPSK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s a fast correlator structure akin to fast Walsh and 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codeword siz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25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xtension of CCK is possible to 22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codeword sends 16 un-coded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codeword siz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65536 code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 very large correlator -- Some simplification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V. S. Somayazulu, et. al. , “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Proposal for extension of the IEEE 802.11b PHY to higher rates (&gt;20Mbps)”, IEEE 802.11-00/069, May 2000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0B8-CDB0-4E16-8F06-6B47AB232E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1 Codeword Modulation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40400" indent="-14040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Backward Compati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imple Rake Receiver for multipath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Re-use of some existing baseb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Low Peak to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960" indent="-936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AR &gt; 1 due to pulse shaping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oesn’t scale easily to highe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dding FEC would only increase number of code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960" indent="-9360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WGN performance &amp; range would be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910D-6D04-4858-A56D-0FBA8F01A7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685800"/>
            <a:ext cx="7516800" cy="44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3680" y="3429000"/>
            <a:ext cx="8613720" cy="29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rrent PBCC systems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information bit per symbol @ 11 Mbp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 1/2 Convolutional Code is used for AWG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xtension of PBCC is possible to higher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 Use 8-PSK &amp; Rate 2/3 punctured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PSK gives 33 Mbps co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 2/3 gives 22 Mbps information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ld use block code instead of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1480" y="2019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5880" y="1822320"/>
            <a:ext cx="7621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n,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79920" y="1600200"/>
            <a:ext cx="123804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bits to P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 Q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598760"/>
            <a:ext cx="90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ate =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44760" y="2006280"/>
            <a:ext cx="1216080" cy="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11840" y="2006640"/>
            <a:ext cx="76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67480" y="1773360"/>
            <a:ext cx="965160" cy="43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ls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42040" y="192888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4080" y="201132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15120" y="170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32720" y="1565280"/>
          <a:ext cx="566640" cy="29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720" y="1565280"/>
                    <a:ext cx="56664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297560" y="19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99440" y="127620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 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13680" y="1701720"/>
            <a:ext cx="33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97040" y="2087640"/>
          <a:ext cx="792360" cy="6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7040" y="2087640"/>
                    <a:ext cx="7923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035680" y="2103480"/>
          <a:ext cx="442800" cy="3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5680" y="2103480"/>
                    <a:ext cx="4428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867280" y="2728800"/>
          <a:ext cx="19764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2728800"/>
                    <a:ext cx="1976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778800" y="2227320"/>
            <a:ext cx="136440" cy="495360"/>
          </a:xfrm>
          <a:prstGeom prst="upArrow">
            <a:avLst>
              <a:gd name="adj1" fmla="val 50000"/>
              <a:gd name="adj2" fmla="val 90765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78D-4BB9-48D4-9720-BF0C0E68A4F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685800"/>
            <a:ext cx="80010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3429000"/>
            <a:ext cx="7467840" cy="22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523880"/>
            <a:ext cx="59436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480" y="1828800"/>
            <a:ext cx="89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e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8288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70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72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27560" y="198000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1828800"/>
            <a:ext cx="762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15991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4200" y="190368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: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1828800"/>
            <a:ext cx="990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74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205632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864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74600" y="3778560"/>
            <a:ext cx="7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3733920"/>
            <a:ext cx="7621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5320" y="342828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2680" y="3503880"/>
            <a:ext cx="45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600200"/>
            <a:ext cx="2667240" cy="129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5720" y="255888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Rate 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33120" y="3687840"/>
            <a:ext cx="52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2400" y="3657600"/>
            <a:ext cx="609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41880" y="403848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2200" y="35046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5960" y="380880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: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02320" y="37339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5120" y="35046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95160" y="3733920"/>
            <a:ext cx="89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e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73920" y="37339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13080" y="350388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453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92480" y="4037760"/>
            <a:ext cx="47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808800"/>
            <a:ext cx="12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ear 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365760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480060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875480"/>
            <a:ext cx="12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R 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65760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621-8815-4180-AF72-4E1C1B534F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5:31:01Z</dcterms:created>
  <dc:creator>Steve Halford and Mark Webster</dc:creator>
  <dc:description/>
  <dc:language>en-US</dc:language>
  <cp:lastModifiedBy>Harry Worstell</cp:lastModifiedBy>
  <cp:lastPrinted>2000-05-04T15:07:54Z</cp:lastPrinted>
  <dcterms:modified xsi:type="dcterms:W3CDTF">2000-11-07T21:51:09Z</dcterms:modified>
  <cp:revision>82</cp:revision>
  <dc:subject/>
  <dc:title>389 Overview of OFDM for a High Rate Extension</dc:title>
</cp:coreProperties>
</file>