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545C-4787-4697-AFD0-C48702DDA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B8A-04EC-4782-AEE6-0CF59167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8ADF-331D-4310-B248-C4A29AA1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3CE7-F19B-4C12-A634-51E3D4BA8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E5F-1E9F-4231-B261-E8391CA6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977-8F16-4BBF-85FE-69E3C6A1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C66-1835-4EAD-BD23-F0ECEF9B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B99-F889-407C-B5DC-83AA792F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42A-5243-4BAD-8184-8B1219BC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34D-CAE7-4173-93DC-EDC137EF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CDB-4C2C-4487-A4EF-E46C9436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16C3-7EA3-48C5-A870-72683978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 Webster and Steve Halford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89FB40B-10F7-4886-8750-91E4200C4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use of 802.11b Preambles with HRb OF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 and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9E1-E238-46D9-9359-328E00E9D6D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tibility with 802.11b SIF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ttern HRb after 802.11a’s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0240" y="1920960"/>
            <a:ext cx="736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802.11a OFDM Uses Last-Symbol Data Exten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ropose doing something similar for HR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5410080"/>
            <a:ext cx="1218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54100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657600" y="54100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5410080"/>
            <a:ext cx="1218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54100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st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200" y="597384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5943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6160" y="597384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5943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5480" y="597384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5943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4800" y="597384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76920" y="5943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58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152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3760" y="597384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5943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4480" y="2876400"/>
            <a:ext cx="2811240" cy="22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ate Mbps         Bytes/Symbo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                         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                           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                          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                           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4                       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6                          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8                          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4                           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288144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6600" y="4343400"/>
            <a:ext cx="761040" cy="213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1680" y="2865600"/>
            <a:ext cx="3771360" cy="916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802.11a Has a Mismatch betw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.  Packet length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.  Data Rate &amp; Number of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20680" y="4184640"/>
            <a:ext cx="46076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FDM Symbol Contains Multiple Data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ata bytes may not fill last OFDM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ast symbol extended with scramble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61F-2649-49B3-ADB0-483D1929110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tibility with 802.11b S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120" y="3581280"/>
            <a:ext cx="2133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880" y="3429000"/>
            <a:ext cx="17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Rb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/o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01320" y="365436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Rb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5812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35812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1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03000" y="3962520"/>
            <a:ext cx="68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19112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4724280"/>
            <a:ext cx="2590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4724280"/>
            <a:ext cx="4572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47242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472428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168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3000" y="5257800"/>
            <a:ext cx="68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5410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191120" y="5410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4240" y="4692600"/>
            <a:ext cx="15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Rb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w/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324480" y="32497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7120" y="32497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46600" y="2590920"/>
            <a:ext cx="1971360" cy="580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acket Energy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nteger # of us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444040" y="358128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9000" y="472428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82120" y="358128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7440" y="472428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1320" y="483084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Rb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23600" y="5761080"/>
            <a:ext cx="68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5791320"/>
            <a:ext cx="1371600" cy="457200"/>
          </a:xfrm>
          <a:custGeom>
            <a:avLst/>
            <a:gdLst>
              <a:gd name="textAreaLeft" fmla="*/ 457200 w 1371600"/>
              <a:gd name="textAreaRight" fmla="*/ 1175040 w 137160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53341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629400" y="4495680"/>
            <a:ext cx="13708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094160" y="4133880"/>
            <a:ext cx="11484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87200" y="1616040"/>
            <a:ext cx="576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his Signal Extension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Also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n-the-Air Packet-Length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529E-6D5A-4967-BD24-7141439C207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SIL’s OFDM Proposal Achieves Compatibility with 802.11b SIF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441972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4386240"/>
            <a:ext cx="990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4640" y="4191120"/>
            <a:ext cx="8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O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92200" y="449280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OFDM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92960" y="446256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24120" y="419112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72200" y="4114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10080" y="376704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15000" y="4419720"/>
            <a:ext cx="4572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71500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57960" y="3079800"/>
            <a:ext cx="988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~ 6 us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44197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3920" y="441972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441972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29520" y="441972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8128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93520" y="4952880"/>
            <a:ext cx="68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502920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4120" y="5532480"/>
            <a:ext cx="68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412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581280" y="510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38098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33920" y="5486400"/>
            <a:ext cx="1371600" cy="457200"/>
          </a:xfrm>
          <a:custGeom>
            <a:avLst/>
            <a:gdLst>
              <a:gd name="textAreaLeft" fmla="*/ 457200 w 1371600"/>
              <a:gd name="textAreaRight" fmla="*/ 1175040 w 137160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50720" y="2971800"/>
            <a:ext cx="120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Start 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Flush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FF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De-interleav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FEC 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59840" y="1752480"/>
            <a:ext cx="3027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Maintain 802.11b ai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reate flush-processing margin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 by packet signal extens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xtend to integer # of usecs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 consistent with length field</a:t>
            </a: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 in Barker preamble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Maintains CCA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24A-9E4B-4228-8608-BEE7349211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LME-TXTIME.Confirm Primitive Calculation for Long/Short Pream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0720" y="3349800"/>
            <a:ext cx="801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Times New Roman"/>
              </a:rPr>
              <a:t>TXTIME (usecs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Times New Roman"/>
              </a:rPr>
              <a:t>PreambleLength +PLCPHeaderTime +  Ceiling( OfdmSync 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Times New Roman"/>
              </a:rPr>
              <a:t>+ OfdmSigField + 4 *(16 + 8*LENGTH + 6 )/ N </a:t>
            </a:r>
            <a:r>
              <a:rPr b="1" i="1" lang="en-US" sz="2400" spc="-1" strike="noStrike" baseline="-25000">
                <a:solidFill>
                  <a:srgbClr val="5f5f5f"/>
                </a:solidFill>
                <a:latin typeface="Times New Roman"/>
              </a:rPr>
              <a:t>DBPS</a:t>
            </a:r>
            <a:r>
              <a:rPr b="1" i="1" lang="en-US" sz="2400" spc="-1" strike="noStrike">
                <a:solidFill>
                  <a:srgbClr val="5f5f5f"/>
                </a:solidFill>
                <a:latin typeface="Times New Roman"/>
              </a:rPr>
              <a:t> )*20/2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f5f5f"/>
                </a:solidFill>
                <a:latin typeface="Times New Roman"/>
              </a:rPr>
              <a:t>+ SignalExten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1523880" y="4873320"/>
            <a:ext cx="1526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267080" y="44924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943600" y="4492800"/>
            <a:ext cx="4572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456840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0320" y="5226120"/>
            <a:ext cx="12733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lu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98120" y="5102280"/>
            <a:ext cx="1101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ength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SDU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956480" y="5178600"/>
            <a:ext cx="1192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umbe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Data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er OF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56680" y="5330880"/>
            <a:ext cx="1793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lock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nver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802.11a:  20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HRb:  22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39920" y="3044880"/>
            <a:ext cx="11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EC Flu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943240" y="342576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3581280" y="3044880"/>
            <a:ext cx="1371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93280" y="2419200"/>
            <a:ext cx="172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crambler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&amp; Full-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ervice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5680" y="228600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presentative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DFF-934A-4E90-BDE0-C92D2C14075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43000" y="24382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SIL’s HRb OFDM Proposal Reu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802.11b’s Long/Short Preamble/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1CC-4FEB-4E0E-9C01-FF55550EAEED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Rb Long/Short Preamble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4471920"/>
            <a:ext cx="129528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4471920"/>
            <a:ext cx="7621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471920"/>
            <a:ext cx="29718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66160" y="445392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94520" y="4453920"/>
            <a:ext cx="8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81240" y="4453920"/>
            <a:ext cx="142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, 5.5 OR 1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2714760"/>
            <a:ext cx="25146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2714760"/>
            <a:ext cx="11430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2714760"/>
            <a:ext cx="29718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13520" y="269640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51520" y="2696400"/>
            <a:ext cx="8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4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811040" y="2696400"/>
            <a:ext cx="156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, 2, 5.5 OR 1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080" y="222948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b LONG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2280" y="401544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86000" y="5143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34290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30680" y="513468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9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26800" y="34203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92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1040" y="5516640"/>
            <a:ext cx="401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 and 2 Mbps uses 11 chip BARKER co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5.5 and 11 Mbps uses 8 chip CCK cod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Chipping is at 11 M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65480" y="37177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790960" y="4114800"/>
            <a:ext cx="53316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5790960" y="3328920"/>
            <a:ext cx="53316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19560" y="1537560"/>
            <a:ext cx="549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URRENT 802.11b PREAM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5267-6114-4341-B6A0-53269B61853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286000" y="4929120"/>
            <a:ext cx="129528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1280" y="4929120"/>
            <a:ext cx="76212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66160" y="491112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94520" y="4911120"/>
            <a:ext cx="8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2786040"/>
            <a:ext cx="25146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2786040"/>
            <a:ext cx="11430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2786040"/>
            <a:ext cx="29718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13520" y="276804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51520" y="2768040"/>
            <a:ext cx="8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4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5840" y="2272320"/>
            <a:ext cx="38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 HRb LONG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3040" y="4487040"/>
            <a:ext cx="40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 HR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35002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30680" y="559116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9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26800" y="349092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92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97080" y="404604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629040" y="4357800"/>
            <a:ext cx="609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6629040" y="3357720"/>
            <a:ext cx="60948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786040"/>
            <a:ext cx="6858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90200" y="2829960"/>
            <a:ext cx="55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OF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SY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6640" y="4929120"/>
            <a:ext cx="68256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90200" y="4973040"/>
            <a:ext cx="55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OF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SY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3500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5572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0" y="5572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03360" y="352044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0.9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03360" y="559188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0.9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4114440" y="2428920"/>
            <a:ext cx="60948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429000" y="5429160"/>
            <a:ext cx="60948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6480" y="1911600"/>
            <a:ext cx="22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Service Field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Denotes Switch to 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49240" y="5912280"/>
            <a:ext cx="229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Service Field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Denotes Switch to 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98680" y="2775600"/>
            <a:ext cx="288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  SELEC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DM Symbo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@ 6.6, 9.6, 13.2, 19.8, 26.4, 39.3, 52.8 or 59.4 Mb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54080" y="859680"/>
            <a:ext cx="455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PREAMBLES for 802.11 HR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Reuse 802.11b pream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657600" y="3214800"/>
            <a:ext cx="76212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57600" y="4143240"/>
            <a:ext cx="990720" cy="85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4929120"/>
            <a:ext cx="29718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50800" y="4918680"/>
            <a:ext cx="288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  SELEC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DM Symbo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@ 6.6, 9.6, 13.2, 19.8, 26.4, 39.3, 52.8 or 59.4 Mb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70480" y="3840120"/>
            <a:ext cx="11469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Fine-T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BA1-2E9D-493D-8357-8E766D51244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038480" y="2529000"/>
            <a:ext cx="1143000" cy="571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26760" y="2556720"/>
            <a:ext cx="82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48 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4280" y="2098440"/>
            <a:ext cx="2844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4 bits to denote </a:t>
            </a:r>
            <a:br>
              <a:rPr sz="1400"/>
            </a:b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 extended data r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4  bits of 5 to identify # bytes </a:t>
            </a:r>
            <a:br>
              <a:rPr sz="1400"/>
            </a:b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 in last OFDM symb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3743280"/>
            <a:ext cx="1143000" cy="571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94080" y="3771360"/>
            <a:ext cx="75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8 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14600" y="3743280"/>
            <a:ext cx="1143000" cy="571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89560" y="3771360"/>
            <a:ext cx="8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8 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57600" y="3743280"/>
            <a:ext cx="2286000" cy="571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93000" y="3771360"/>
            <a:ext cx="80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6 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43600" y="3743280"/>
            <a:ext cx="2286000" cy="571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579360" y="3771360"/>
            <a:ext cx="78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C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6 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1447560" y="3100320"/>
            <a:ext cx="251460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57800" y="3100320"/>
            <a:ext cx="289548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286000" y="4314600"/>
            <a:ext cx="45720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4952520" y="4314600"/>
            <a:ext cx="38124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828800" y="3100320"/>
            <a:ext cx="15228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79160" y="912960"/>
            <a:ext cx="442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HRb SHORT/LONG-PREAM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HEADER D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629040" y="3029040"/>
            <a:ext cx="30492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02960" y="2691720"/>
            <a:ext cx="114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Un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58240" y="4873680"/>
            <a:ext cx="28098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 bit to denote OFDM mo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1 bit of 5 to identify</a:t>
            </a:r>
            <a:br>
              <a:rPr sz="1400"/>
            </a:b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   # bytes in last OFDM symb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95480" y="4691880"/>
            <a:ext cx="25088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Un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The Length Field is adequate, </a:t>
            </a:r>
            <a:br>
              <a:rPr sz="1200"/>
            </a:b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  since measured in us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OFDM proposal uses PSDU </a:t>
            </a:r>
            <a:br>
              <a:rPr sz="1200"/>
            </a:b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  length in an integer number</a:t>
            </a:r>
            <a:br>
              <a:rPr sz="1200"/>
            </a:b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   of us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5E53-6492-41A5-9A84-BBEBF7CCB03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gnal Field Bit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18972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23680" y="1930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676520" y="18972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738080" y="1930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90920" y="18972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52480" y="1930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05320" y="18972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66880" y="1930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419720" y="18972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481280" y="1930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4120" y="18972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5680" y="1930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48520" y="18972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310080" y="1930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162920" y="18972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24480" y="19303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46160" y="144684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802.11b Signal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51760" y="327564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New 802.11 HRb OFDM Signal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" y="3736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3680" y="3770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76520" y="3736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38080" y="3770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590920" y="3736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52480" y="3770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3736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66880" y="3770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419720" y="3736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81280" y="3770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4120" y="3736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95680" y="3770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48520" y="3736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310080" y="3770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62920" y="3736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224480" y="377028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16240" y="2371680"/>
            <a:ext cx="64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ata Rate Mbps =   0.1 Mbps x ( b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b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b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b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b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b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b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b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)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base</a:t>
            </a:r>
            <a:r>
              <a:rPr b="1" lang="en-US" sz="1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2840" y="4518000"/>
            <a:ext cx="8344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6.6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3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9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26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39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5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59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81240" y="4518000"/>
            <a:ext cx="5875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b0-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0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0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419720"/>
            <a:ext cx="16002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133720" y="4724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48120" y="44197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1080" y="2711520"/>
            <a:ext cx="21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.5 Mbps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19720" y="4121280"/>
            <a:ext cx="86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st S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t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4120" y="4124160"/>
            <a:ext cx="86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st S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4127400"/>
            <a:ext cx="86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st S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2920" y="4130640"/>
            <a:ext cx="86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st S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200000">
            <a:off x="2476440" y="2863440"/>
            <a:ext cx="228600" cy="2743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6386-31AB-44BA-B7B6-245A59F2A14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ervice Field Bit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8560" y="27129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23320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2120" y="23320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23680" y="2365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22960" y="27129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6520" y="23320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76520" y="23320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38080" y="2365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91640" y="2712960"/>
            <a:ext cx="97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ck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=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= Lo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90920" y="23320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90920" y="23320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52480" y="2365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65000" y="2712960"/>
            <a:ext cx="10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. Selec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on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= C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= PB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05320" y="23320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05320" y="23320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66880" y="2365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66160" y="27129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23320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19720" y="23320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81280" y="2365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380560" y="27129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34120" y="23320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334120" y="23320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95680" y="2365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294960" y="27129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248520" y="23320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48520" y="23320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310080" y="2365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35200" y="2712960"/>
            <a:ext cx="910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162920" y="2332080"/>
            <a:ext cx="914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162920" y="233208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224480" y="23652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2120" y="4465800"/>
            <a:ext cx="914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62120" y="44658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23680" y="4498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4465800"/>
            <a:ext cx="914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76520" y="44658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738080" y="4498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4465800"/>
            <a:ext cx="914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44658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52480" y="4498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05320" y="4465800"/>
            <a:ext cx="914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05320" y="44658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566880" y="4498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80560" y="484992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4465800"/>
            <a:ext cx="914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44658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81280" y="4498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4120" y="4465800"/>
            <a:ext cx="914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4120" y="44658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95680" y="4498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294960" y="48466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48520" y="4465800"/>
            <a:ext cx="914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48520" y="44658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10080" y="4498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2920" y="4465800"/>
            <a:ext cx="9144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62920" y="44658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224480" y="4498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21800" y="4846680"/>
            <a:ext cx="10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. Selec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on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=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= 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065320" y="5840280"/>
            <a:ext cx="46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Locked Timing/Carrier Clocks Manda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62280" y="167544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802.11b Servic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667880" y="388512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New 802.11 HRb OFDM Service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62920" y="4849920"/>
            <a:ext cx="86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st Sy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22960" y="48657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91640" y="4865760"/>
            <a:ext cx="97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ck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=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= Lo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65000" y="4865760"/>
            <a:ext cx="10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. Selec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on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 = C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= PB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66160" y="486576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153-D2B8-4E90-AEEE-3681FA3D32B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802.11b Backward Compatibility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327400"/>
            <a:ext cx="7772400" cy="34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maintain all 802.11b signaling time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reuse long pream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reuse short preamble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maintain SIFS, PIFS, DIFS, E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maintain slot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maintain CCA reaction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imal MAC impa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SIL’s HRb PHY proposal meets all these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16C0-C10C-4B7B-B53E-1FC24DA7AE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esolve Last-OFDM-Symbol Number-of-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676880" y="1314360"/>
            <a:ext cx="51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FDM Symbol Contains Multiple Data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ata bytes may not fill last OFDM 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ast symbol extended with scrambled z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7520" y="2300400"/>
            <a:ext cx="2811240" cy="22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ate Mbps         Bytes/Symbo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6                            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9                            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2                           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.8                           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6.4                       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.6                          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.8                           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9.4                           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4800" y="230184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5276880"/>
            <a:ext cx="1218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38280" y="52768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57600" y="52768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76920" y="5276880"/>
            <a:ext cx="12189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52768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ast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1932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3828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446120" y="474336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6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512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43828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5760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665080" y="474336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6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38280" y="512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65760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7692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84400" y="474336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6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657600" y="512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7692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09588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103720" y="474336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6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76920" y="512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9588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15200" y="497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322680" y="474336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6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95880" y="5124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315200" y="5276880"/>
            <a:ext cx="45720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0" y="4210200"/>
            <a:ext cx="761760" cy="198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89240" y="3905280"/>
            <a:ext cx="114840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658320" y="5123880"/>
            <a:ext cx="28944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55880" y="5810400"/>
            <a:ext cx="202464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How 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Information Byt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4210200"/>
            <a:ext cx="380880" cy="380880"/>
          </a:xfrm>
          <a:prstGeom prst="ellips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5029200" y="3295800"/>
            <a:ext cx="838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72680" y="2530440"/>
            <a:ext cx="2229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5 bits Needed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solve 0 thru 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ytes in Las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or 59.4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434-7E7A-484E-9D63-5DC9C01CF5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Some Type of OFDM SYNC Desira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286000" y="5046840"/>
            <a:ext cx="129528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81280" y="5046840"/>
            <a:ext cx="76212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66160" y="502848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2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594520" y="5028480"/>
            <a:ext cx="8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2903400"/>
            <a:ext cx="25146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00400" y="2903400"/>
            <a:ext cx="11430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029200" y="2903400"/>
            <a:ext cx="29718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13520" y="2885400"/>
            <a:ext cx="77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8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51520" y="2885400"/>
            <a:ext cx="88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4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65840" y="2389680"/>
            <a:ext cx="38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 HRb LONG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3040" y="4604400"/>
            <a:ext cx="40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 HR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5800" y="36180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30680" y="570960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9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026800" y="360936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92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97080" y="416376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6629040" y="4475160"/>
            <a:ext cx="60948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6629040" y="3475080"/>
            <a:ext cx="60948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43400" y="2903400"/>
            <a:ext cx="6858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363920" y="2917080"/>
            <a:ext cx="74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346640" y="5046840"/>
            <a:ext cx="68256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63920" y="5060160"/>
            <a:ext cx="74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3618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343400" y="5689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286000" y="56894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303800" y="363780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?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303800" y="570960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?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98680" y="2892960"/>
            <a:ext cx="288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  SELEC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DM Symbo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@ 6.6, 9.6, 13.2, 19.8, 26.4, 39.3, 52.8 or 59.4 Mb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5046840"/>
            <a:ext cx="29718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050800" y="5036040"/>
            <a:ext cx="288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  SELEC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DM Symbo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@ 6.6, 9.6, 13.2, 19.8, 26.4, 39.3, 52.8 or 59.4 Mb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724280" y="23353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01320" y="19051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ine Tune Dem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067-D9EA-41B8-BDD6-E7D775EB8E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unction of 802.11a OFDM 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2889360"/>
            <a:ext cx="44193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5181480" y="2401920"/>
            <a:ext cx="533520" cy="48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91120" y="2888640"/>
            <a:ext cx="230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LECTABL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6, 9, 12, 18, 24, 36, 48 or 54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19520" y="2889360"/>
            <a:ext cx="6886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67320" y="2918520"/>
            <a:ext cx="83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447920" y="2889360"/>
            <a:ext cx="1374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870560" y="2918520"/>
            <a:ext cx="6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447920" y="35751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751040" y="35744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19520" y="3575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818800" y="357444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200400" y="2478240"/>
            <a:ext cx="38088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28400" y="1537560"/>
            <a:ext cx="40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02.11a Packe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676520" y="4260960"/>
            <a:ext cx="2133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9880" y="4260960"/>
            <a:ext cx="2133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523880" y="365112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895480" y="3651120"/>
            <a:ext cx="2971800" cy="54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676520" y="49626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21760" y="49759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8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12680" y="49759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8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87080" y="43362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420440" y="4336200"/>
            <a:ext cx="60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72400" y="2217960"/>
            <a:ext cx="1591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Data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# bytes of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49520" y="2279160"/>
            <a:ext cx="1453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Data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75080" y="5245200"/>
            <a:ext cx="1896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al Det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arse 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ing Sync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(FFT align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809880" y="4962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882600" y="5245200"/>
            <a:ext cx="200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e 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nel 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BDD-78D8-43C0-B32F-DDDDF86985B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a SSYNC Desirable for Barker-to-OFDM Transi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92760" y="2666880"/>
            <a:ext cx="4548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at is SSYNC used for in 802.11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GC pull-in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arse frequency e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ignal Det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ime synchronization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 (FFT align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5029200" y="35337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409440" y="2887560"/>
            <a:ext cx="1764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HRb O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/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am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581280" y="321624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81280" y="3825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565-CF96-424E-997B-D18B6D80988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a SSYNC Desirable for Barker-to-OFDM Transi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5800" y="3276720"/>
            <a:ext cx="27432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891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57400" y="3352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11160" y="335268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120040" y="3386160"/>
            <a:ext cx="7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73240" y="3767040"/>
            <a:ext cx="85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09880" y="373392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904320" y="3386160"/>
            <a:ext cx="102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/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am/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954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20880" y="4114800"/>
            <a:ext cx="99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14760" y="4148280"/>
            <a:ext cx="81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05120" y="441972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276360" y="4038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 flipV="1">
            <a:off x="3124080" y="3809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124080" y="3886200"/>
            <a:ext cx="30456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779560" y="1828800"/>
            <a:ext cx="7617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780280" y="1828800"/>
            <a:ext cx="76104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627280" y="2590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16080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46040" y="25480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0     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33920" y="182880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535640" y="5105520"/>
            <a:ext cx="76176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390920" y="5867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2444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909680" y="582444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0     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657960" y="510840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086200" y="27432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ersity loss for 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62160" y="6019920"/>
            <a:ext cx="227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lse shape for pream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857240" y="1600200"/>
            <a:ext cx="2743200" cy="1523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581280" y="4876920"/>
            <a:ext cx="2743200" cy="1523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 rot="8814000">
            <a:off x="3152520" y="464724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 rot="546000">
            <a:off x="3076200" y="3047760"/>
            <a:ext cx="181080" cy="380880"/>
          </a:xfrm>
          <a:prstGeom prst="downArrow">
            <a:avLst>
              <a:gd name="adj1" fmla="val 50000"/>
              <a:gd name="adj2" fmla="val 5258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34120" y="3471840"/>
            <a:ext cx="243828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891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629400" y="377676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690240" y="380988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im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4081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486400" y="377676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547240" y="3809880"/>
            <a:ext cx="7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324480" y="408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0512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076480" y="411480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176560" y="42400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15880" y="4343400"/>
            <a:ext cx="29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933920" y="3961800"/>
            <a:ext cx="45648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51760" y="5456160"/>
            <a:ext cx="1357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iming Al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Barker-to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ran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257800" y="1905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86400" y="1066680"/>
            <a:ext cx="990720" cy="1371600"/>
          </a:xfrm>
          <a:custGeom>
            <a:avLst/>
            <a:gdLst/>
            <a:ahLst/>
            <a:rect l="l" t="t" r="r" b="b"/>
            <a:pathLst>
              <a:path w="624" h="864">
                <a:moveTo>
                  <a:pt x="0" y="528"/>
                </a:moveTo>
                <a:lnTo>
                  <a:pt x="48" y="432"/>
                </a:lnTo>
                <a:lnTo>
                  <a:pt x="96" y="672"/>
                </a:lnTo>
                <a:lnTo>
                  <a:pt x="192" y="0"/>
                </a:lnTo>
                <a:lnTo>
                  <a:pt x="384" y="288"/>
                </a:lnTo>
                <a:lnTo>
                  <a:pt x="480" y="864"/>
                </a:lnTo>
                <a:lnTo>
                  <a:pt x="624" y="528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880240" y="3124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184800" y="2286000"/>
            <a:ext cx="1067040" cy="106668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528"/>
                </a:moveTo>
                <a:lnTo>
                  <a:pt x="96" y="672"/>
                </a:lnTo>
                <a:lnTo>
                  <a:pt x="144" y="336"/>
                </a:lnTo>
                <a:lnTo>
                  <a:pt x="336" y="0"/>
                </a:lnTo>
                <a:lnTo>
                  <a:pt x="432" y="336"/>
                </a:lnTo>
                <a:lnTo>
                  <a:pt x="480" y="192"/>
                </a:lnTo>
                <a:lnTo>
                  <a:pt x="672" y="528"/>
                </a:ln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135840" y="137160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rker C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19760" y="167652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05560" y="2895480"/>
            <a:ext cx="44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58640" y="220968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DM C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5029200" y="2285640"/>
            <a:ext cx="3049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5181480" y="2666880"/>
            <a:ext cx="167616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3AC-29D0-493A-B881-F1AEE9521A6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an SSYNC Desirable for Barker-to-OFDM Transition?   . . . .   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59840" y="2260440"/>
            <a:ext cx="7024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pose using SSYN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Enables different pulse-shaping options in transmitter.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(Performance enhanc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dependent guard interval alignment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(Performance enhanc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nly 4 usecs needed (5 short syncs)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for sufficient SN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5B73-D7CB-4175-964F-73B6995FC60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ring 802.11a SSYNC to Long/Short Preamble HRb SSY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38280" y="335268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09160" y="342828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8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78760" y="2361600"/>
            <a:ext cx="130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802.11a S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38280" y="2666880"/>
            <a:ext cx="3812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19520" y="2666880"/>
            <a:ext cx="380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666880"/>
            <a:ext cx="380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581280" y="2666880"/>
            <a:ext cx="3812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962520" y="2666880"/>
            <a:ext cx="380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343400" y="2666880"/>
            <a:ext cx="380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724280" y="2666880"/>
            <a:ext cx="3812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05520" y="2666880"/>
            <a:ext cx="380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2666880"/>
            <a:ext cx="380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2666880"/>
            <a:ext cx="38124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3526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950640" y="540936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4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633400" y="4342680"/>
            <a:ext cx="31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802.11 HRb Long/Short Preamble S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321000" y="4648320"/>
            <a:ext cx="3808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701880" y="4648320"/>
            <a:ext cx="38124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083120" y="4648320"/>
            <a:ext cx="3808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64000" y="4648320"/>
            <a:ext cx="38088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4880" y="4648320"/>
            <a:ext cx="381240" cy="533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14600" y="4114800"/>
            <a:ext cx="3581280" cy="16765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05120" y="2133720"/>
            <a:ext cx="4952880" cy="16761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D474-B412-4254-9D07-FE5689AA73D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an LSYNC Desirable for Barker-to-OFDM Transi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066680" y="2851200"/>
            <a:ext cx="53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What is LSYNC used for in 802.11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ine frequency e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EQ design (CIR estim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381640" y="3465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61880" y="2819520"/>
            <a:ext cx="1764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HRb O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/S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am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E01-8356-48FE-9F75-3404E5FBE5C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2057400" y="2438280"/>
            <a:ext cx="236232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891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429000" y="274320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09680" y="2743200"/>
            <a:ext cx="838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08000" y="685440"/>
            <a:ext cx="6840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nnel Estimation:  Comparing 802.11b’s and 802.11a’s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91640" y="2776680"/>
            <a:ext cx="7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863960" y="2776680"/>
            <a:ext cx="85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00600" y="274320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2670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69440" y="2776680"/>
            <a:ext cx="74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04812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324480" y="2438280"/>
            <a:ext cx="12956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891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477120" y="2743200"/>
            <a:ext cx="99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37600" y="277668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im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4360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57400" y="4876920"/>
            <a:ext cx="236232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891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209680" y="5181480"/>
            <a:ext cx="838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63960" y="5214960"/>
            <a:ext cx="85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800600" y="518148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5486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68360" y="5214960"/>
            <a:ext cx="73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324480" y="4876920"/>
            <a:ext cx="243864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891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20120" y="5181480"/>
            <a:ext cx="99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80600" y="521496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im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94360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4199040" y="1523880"/>
            <a:ext cx="76104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199400" y="1523880"/>
            <a:ext cx="76104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259160" y="3962520"/>
            <a:ext cx="762120" cy="7617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046400" y="2286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5799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65160" y="224316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0     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14800" y="4724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6483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633560" y="468144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0     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77120" y="51814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537600" y="5214960"/>
            <a:ext cx="7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31520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858000" y="45720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552000" y="430056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ffects Sub-c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53040" y="152388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381840" y="396540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572000" y="2514600"/>
            <a:ext cx="152280" cy="380880"/>
          </a:xfrm>
          <a:prstGeom prst="upArrow">
            <a:avLst>
              <a:gd name="adj1" fmla="val 50000"/>
              <a:gd name="adj2" fmla="val 62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572000" y="4952880"/>
            <a:ext cx="152280" cy="381240"/>
          </a:xfrm>
          <a:prstGeom prst="upArrow">
            <a:avLst>
              <a:gd name="adj1" fmla="val 50000"/>
              <a:gd name="adj2" fmla="val 6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091120" y="155736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Root Nyquist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06960" y="40687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Fl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59720" y="27828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0440" y="51944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D79-F044-4559-8495-CFB143C2B4B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Rb Channel Estimation:  OPTION with Barker/OFDM CIR Discontin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66840" y="3048120"/>
            <a:ext cx="2743200" cy="1752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891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38440" y="320040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92200" y="320040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701080" y="3233880"/>
            <a:ext cx="7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454280" y="3614760"/>
            <a:ext cx="85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90920" y="3581280"/>
            <a:ext cx="1143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485360" y="3233880"/>
            <a:ext cx="102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ng/Sh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am/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7652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501920" y="3962520"/>
            <a:ext cx="99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495800" y="3995640"/>
            <a:ext cx="81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486160" y="4267080"/>
            <a:ext cx="122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857400" y="38862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3705120" y="365724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705120" y="3733920"/>
            <a:ext cx="30456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5084640" y="1828800"/>
            <a:ext cx="7617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085360" y="1828800"/>
            <a:ext cx="76104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590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4658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451120" y="25480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0     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239000" y="182880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116680" y="5029200"/>
            <a:ext cx="76176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971960" y="5791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5054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490720" y="57484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0     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39000" y="503244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391280" y="2743200"/>
            <a:ext cx="205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ersity loss for 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543200" y="5943600"/>
            <a:ext cx="227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lse shape for preamb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162320" y="1600200"/>
            <a:ext cx="2743200" cy="1523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162320" y="4800600"/>
            <a:ext cx="2743200" cy="1523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 rot="8814000">
            <a:off x="3628800" y="44946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 rot="1733400">
            <a:off x="3705120" y="25135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915160" y="3319560"/>
            <a:ext cx="243828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891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10440" y="3624120"/>
            <a:ext cx="990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271280" y="3657600"/>
            <a:ext cx="88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im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533920" y="39290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67440" y="362412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128280" y="3657600"/>
            <a:ext cx="7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05520" y="39290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6829560" y="297180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056720" y="2743200"/>
            <a:ext cx="1555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ffects Sub-c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486160" y="3505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44240" y="5257800"/>
            <a:ext cx="3364200" cy="1008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This option requir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separate channel e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for OF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182-656B-40EC-BAD9-87CC7B7AE29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2640" y="2437920"/>
            <a:ext cx="684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SIL’s HRb OFDM Meets the 802.11b 10 usec SIFS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921-AA00-419C-AC94-B5025C3048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 an LSYNC Desirable for Barker-to-OFDM Transition?   . . . .   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914040" y="1981080"/>
            <a:ext cx="689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pose using LSY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ables different pulse-shaping options in transmitter.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(Performance enhanc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ovides freedom from maintaining strict gain/phase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continuity in transmitter.  (Simpl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rees receiver from maintaining strict gain/phase continuity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during transition.   (Simpl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llows reuse of 802.11a channel estimation algorithms.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(Reu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voids total dependence upon channel estimation using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Barker codes.   (Simpl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llows independent guard interval alignment without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extra compensation circuit.   (Simpl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8 usecs still needed for SNR enhanc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0092-45DB-4A75-AA2C-179C2579710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rrier 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in +/- 25 PPM transmit or receive accura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and short preambles provide plenty of time for carrier recovery before OFDM portion of packet occ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ly no performance lo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F09-30AF-4F6A-B651-BC3A7F64EB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iming 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il proposes mandatory use of locked oscillators for all 802.11 HRb rad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offset then becomes a trivial tracking of the carrier off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ther polyphase filtering or FFT time-stepping can be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ly no performance lo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3F8-6453-412E-ADC1-3BDF4AC76B0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tenna 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802.11b preambles are sufficiently long to support antenna diversity with low-complexity AGC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8CA2-F67D-479B-B349-AB397AA0270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mmary of Proposed Packet Structure Reusing 802.11b Long/Short Pream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133720" y="4950000"/>
            <a:ext cx="129528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413800" y="4931640"/>
            <a:ext cx="945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/H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2 BI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@ 1 Mb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722680"/>
            <a:ext cx="27432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343400" y="2722680"/>
            <a:ext cx="29718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68560" y="28569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AMBLE/HEA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65840" y="2208960"/>
            <a:ext cx="38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 HRb LONG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73040" y="4423320"/>
            <a:ext cx="40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802.11 HRb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3436920"/>
            <a:ext cx="2743200" cy="12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436840" y="57650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9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26760" y="34282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92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011280" y="398268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5943240" y="4294080"/>
            <a:ext cx="60948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 flipV="1">
            <a:off x="5943240" y="3294000"/>
            <a:ext cx="60948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429000" y="3449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133720" y="573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27200" y="347904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0.9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412880" y="2711880"/>
            <a:ext cx="288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  SELEC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DM Symbo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@ 6.6, 9.6, 13.2, 19.8, 26.4, 39.3, 52.8 or 59.4 Mb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343400" y="4935600"/>
            <a:ext cx="29718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365000" y="4924800"/>
            <a:ext cx="288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DU  SELEC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DM Symbol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@ 6.6, 9.6, 13.2, 19.8, 26.4, 39.3, 52.8 or 59.4 Mbp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429000" y="2725560"/>
            <a:ext cx="914400" cy="57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539160" y="2739240"/>
            <a:ext cx="6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429000" y="4957920"/>
            <a:ext cx="914400" cy="57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39160" y="4971240"/>
            <a:ext cx="6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5735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7200" y="5765040"/>
            <a:ext cx="95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10.9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15200" y="344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085880" y="347904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~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315200" y="2725560"/>
            <a:ext cx="380880" cy="571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089120" y="226368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315200" y="5659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085880" y="568872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~6 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315200" y="4935600"/>
            <a:ext cx="380880" cy="571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89120" y="447372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4F98-0AAD-4368-9307-BE1F52795A3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roughput Impact  (100 byte pack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9" name=""/>
          <p:cNvGraphicFramePr/>
          <p:nvPr/>
        </p:nvGraphicFramePr>
        <p:xfrm>
          <a:off x="1905120" y="1730520"/>
          <a:ext cx="5715000" cy="380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730520"/>
                    <a:ext cx="571500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"/>
          <p:cNvSpPr/>
          <p:nvPr/>
        </p:nvSpPr>
        <p:spPr>
          <a:xfrm flipV="1">
            <a:off x="5410080" y="47242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3962520" y="4647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034240" y="5608800"/>
            <a:ext cx="80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99080" y="5638680"/>
            <a:ext cx="80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h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114800" y="464796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505320" y="51814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690360" y="5638680"/>
            <a:ext cx="95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 H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h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5562720" y="4724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798520" y="5608800"/>
            <a:ext cx="95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 H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562720" y="52578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80C-2BB5-43D8-B3C4-D25DAB92698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1" name=""/>
          <p:cNvGraphicFramePr/>
          <p:nvPr/>
        </p:nvGraphicFramePr>
        <p:xfrm>
          <a:off x="1676520" y="1832040"/>
          <a:ext cx="5715000" cy="380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32040"/>
                    <a:ext cx="5715000" cy="38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roughput Impact  (1000 byte pack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V="1">
            <a:off x="3581280" y="477036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2971800" y="469404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305520" y="5684760"/>
            <a:ext cx="80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832400" y="5684760"/>
            <a:ext cx="80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h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3048120" y="469404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2514600" y="522756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515680" y="5684760"/>
            <a:ext cx="95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 H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ho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3656160" y="4770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99960" y="5684760"/>
            <a:ext cx="95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802.11 H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L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56160" y="530388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22F-EB58-4CBE-A12B-51CDACCA3E9C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tibility with 802.11b SIF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ing Existing Short/Long Pream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6880" y="338148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mon Probl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r HR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9880" y="2895480"/>
            <a:ext cx="762120" cy="1828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1080" y="3365640"/>
            <a:ext cx="30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802.11b SIF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f 10 usec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 bit too sh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0A4-8581-42E1-BACC-A010ACF0D5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tibility with 802.11b SIF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ing Existing Short/Long Pream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3429000"/>
            <a:ext cx="34290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9400" y="3429000"/>
            <a:ext cx="9907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4538520"/>
            <a:ext cx="2971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4538520"/>
            <a:ext cx="9907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0960" y="327672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200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76920" y="285264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4157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4157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3640" y="438624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4309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49840" y="396252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0600" y="33559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802.1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40960" y="44766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802.1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O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680" y="350532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680" y="464508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9440" y="461484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9440" y="35053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58400" y="5245200"/>
            <a:ext cx="2681640" cy="1067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ra 6 usecs required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-interle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r flu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8800" y="1797120"/>
            <a:ext cx="707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802.11b SIFS time of 10 usecs is too short for the 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ophisticated 802.11a which has a 16 usecs SIFS.   </a:t>
            </a: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F93-B3CE-4E71-9717-99E93E8B74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tibility with 802.11b SIF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ing Existing Short/Long Pream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16080" y="252576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 DS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FS 10 us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2286000"/>
            <a:ext cx="16002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20840" y="252576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FS 10 us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2286000"/>
            <a:ext cx="16002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25960" y="252576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 H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FS 10 us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286000"/>
            <a:ext cx="16002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5920" y="21337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he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61040" y="213372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he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4724280"/>
            <a:ext cx="685800" cy="4572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362320" y="3505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518148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4572000"/>
            <a:ext cx="685800" cy="6094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4267080"/>
            <a:ext cx="685800" cy="914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4680" y="391464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mplexity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Latenc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74120" y="5638680"/>
            <a:ext cx="406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Note:  Can trade latency for increased design </a:t>
            </a:r>
            <a:br>
              <a:rPr sz="1400"/>
            </a:b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           complexity and higher speed clock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6400440" y="35812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3581280"/>
            <a:ext cx="15264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37240" y="51386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40040" y="5210280"/>
            <a:ext cx="157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Sophis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4BD-B261-4FFF-857E-25370552955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828800" y="3733920"/>
            <a:ext cx="6400800" cy="243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tibility with 802.11b S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480" y="4495680"/>
            <a:ext cx="221184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word Trans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nded C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Gold c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840" y="4038480"/>
            <a:ext cx="174384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qual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FT/F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 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ear 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F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640" y="3892680"/>
            <a:ext cx="22438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-interlea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bat impulse 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5240" y="4495680"/>
            <a:ext cx="15886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 (flus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ed Solom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0040" y="5334120"/>
            <a:ext cx="23641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ched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nnel matched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ned matched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30280" y="192888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 DS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FS 10 us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689120"/>
            <a:ext cx="16002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39960" y="192888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FS 10 us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1689120"/>
            <a:ext cx="16002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49640" y="1928880"/>
            <a:ext cx="13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1 HR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FS 10 use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1689120"/>
            <a:ext cx="16002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22226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22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6440" y="15858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he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88160" y="16128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Inher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8347400">
            <a:off x="5360760" y="2663280"/>
            <a:ext cx="762120" cy="9144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03680" y="2894040"/>
            <a:ext cx="223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HRb Propos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Have More Adv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Arial"/>
              </a:rPr>
              <a:t>Demod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FCD-B780-406A-9A9D-42761690E1F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atibility with 802.11b S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5840" y="2878200"/>
            <a:ext cx="743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IFSTime = aRxRFDelay + aRxPLCPDelay + aMACPrcDelay + aRxTxTurnaround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325908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9160" y="21160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IFS TIME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259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35160" y="4070520"/>
            <a:ext cx="3178080" cy="15541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x PLCP Delay Impac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EC 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einterlea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qualiz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odeword trans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ading/Writing Data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96F1-ABA7-4FF1-A328-15284084EB4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chieving Compatibility with 802.11b SIFS with Signal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4800600"/>
            <a:ext cx="25909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4767120"/>
            <a:ext cx="990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4640" y="4572000"/>
            <a:ext cx="8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1840" y="487368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HRb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92960" y="484344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120" y="457200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4495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10080" y="414828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5000" y="4800600"/>
            <a:ext cx="4572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715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500080" y="3627360"/>
            <a:ext cx="910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51320" y="1701720"/>
            <a:ext cx="3414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Maintain 802.11b air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reate flush-processing margin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 via packet signal exten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xtend to integer # of usecs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 consistent with length field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 in Barker preamble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aintains CCA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61240" y="190656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8006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4800600"/>
            <a:ext cx="914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93520" y="5334120"/>
            <a:ext cx="68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41008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4120" y="5837400"/>
            <a:ext cx="688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us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581280" y="548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4191120"/>
            <a:ext cx="457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1754280"/>
            <a:ext cx="609480" cy="1447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5791320"/>
            <a:ext cx="1371600" cy="457200"/>
          </a:xfrm>
          <a:custGeom>
            <a:avLst/>
            <a:gdLst>
              <a:gd name="textAreaLeft" fmla="*/ 457200 w 1371600"/>
              <a:gd name="textAreaRight" fmla="*/ 1175040 w 1371600"/>
              <a:gd name="textAreaTop" fmla="*/ 263520 h 457200"/>
              <a:gd name="textAreaBottom" fmla="*/ 391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76720" y="3673440"/>
            <a:ext cx="10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Fl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9520" y="480060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920" y="4800600"/>
            <a:ext cx="83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D55E-7D81-4C62-BE39-47F76AE13EE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38:26Z</dcterms:created>
  <dc:creator>Mark Webster and Steve Halford</dc:creator>
  <dc:description/>
  <dc:language>en-US</dc:language>
  <cp:lastModifiedBy>Harry Worstell</cp:lastModifiedBy>
  <cp:lastPrinted>2000-05-04T15:07:54Z</cp:lastPrinted>
  <dcterms:modified xsi:type="dcterms:W3CDTF">2000-11-06T22:09:38Z</dcterms:modified>
  <cp:revision>41</cp:revision>
  <dc:subject/>
  <dc:title>Reuse of 802.11b Prembles with HRb OFDM</dc:title>
</cp:coreProperties>
</file>