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41C5-88C4-40DE-BC13-20924072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A37-E357-4127-B04B-F9F2A85A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A17-650A-4146-B612-C3401719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4E4B-4A62-4CF6-BDF5-93703907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852E-88D7-4099-8CE5-8E05F012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114E-C9AE-4839-BB10-8C657F4A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8A0-D54F-4AFF-A80B-303BCDE7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8577-3E4B-45C4-9B65-A94CA804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D24B-71BC-48E6-8C1D-DFDB66C9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5FB-3E51-4E4A-88C4-C0F7C6E3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1E7-C51B-4F76-86D0-C42EAAFC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6C26-84D8-4505-B427-AE18B31D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190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 Webster, Inter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7B8B806-774A-4FCF-B20A-81F7CC666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Ultra-Short Preamble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Option for HRb OFD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D82-0048-4C36-9517-7895736BF40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of Why Preamble Cannot be Shorten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by counter-exam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3281400"/>
            <a:ext cx="167652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3281400"/>
            <a:ext cx="76212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3281400"/>
            <a:ext cx="29718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23360" y="326304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41920" y="326304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6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8440" y="3263040"/>
            <a:ext cx="142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ECTAB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, 5.5 OR 1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4560" y="272628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b 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39495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0800" y="4025160"/>
            <a:ext cx="186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72 usecs Barker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628720" y="3149280"/>
            <a:ext cx="381240" cy="2438280"/>
          </a:xfrm>
          <a:custGeom>
            <a:avLst/>
            <a:gdLst>
              <a:gd name="textAreaLeft" fmla="*/ 243720 w 381240"/>
              <a:gd name="textAreaRight" fmla="*/ 381600 w 38124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281400"/>
            <a:ext cx="76176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61240" y="326304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F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07200" y="4559400"/>
            <a:ext cx="41976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C on 1st Diversity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 offset null ZIF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rgy Ass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C on 2nd Diversity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 offset null ZIF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 matched filter design and 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ow for start-up transient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L and Coherent AGC j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ce SFD 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ful long/short SFD flags high-rate PHY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63680" y="1825560"/>
            <a:ext cx="5740200" cy="73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KEY CONCEP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A particular implementation may consume all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rt preamble/SFD to perform signal detection, especially if 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 not short-preamble cap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48200" y="4925880"/>
            <a:ext cx="359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Receiver has acquired (locke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he Barker cod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data is being demodu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4876920"/>
            <a:ext cx="53316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08600" y="3961800"/>
            <a:ext cx="117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24 use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Barker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66B-9B59-4BB6-A9AC-CF5A184635C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luetoot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181400" y="5105520"/>
            <a:ext cx="69552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1504800" y="4191120"/>
          <a:ext cx="1636920" cy="18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04800" y="4191120"/>
                    <a:ext cx="1636920" cy="18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431000" y="38098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802.11b W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119640" y="3511440"/>
          <a:ext cx="1195560" cy="52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19640" y="3511440"/>
                    <a:ext cx="11955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 flipV="1">
            <a:off x="3429000" y="3733920"/>
            <a:ext cx="1905120" cy="761760"/>
          </a:xfrm>
          <a:prstGeom prst="lightningBol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3600" y="525780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Blueto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hing-a-Ma-J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1400" y="1676520"/>
            <a:ext cx="53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Point can hear laptop f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ptop can hear Access Point f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ptop sees low-level Bluetooth interfe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ence of SFD flags non-802.11b sig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 should 802.11b defer to Bluetoot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3480" y="31384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802.11b W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351960" y="4876920"/>
            <a:ext cx="685800" cy="304560"/>
          </a:xfrm>
          <a:prstGeom prst="lightningBol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54C0-F20B-4669-ACEF-9B05C920DA6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amine 802.11b CCA Constitu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A time spec at &lt; 15 use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A has 3 op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 Energy Detec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 Carrier Sens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 Energy Detect plus Carrier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loyed equipment configuration &amp; re-configurat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Carrier Sen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Energy Det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802.11b specify behavior if neither short or long preamble SFD’s are obser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ECA-F066-4BB2-9AC5-E212A75B16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802.11b Carrier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9760" y="1574640"/>
            <a:ext cx="7779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4.5.13 PMD_CS.in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imitive, which is generated by the PMD, shall indic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 PLCP layer that the receiver has acquired (locked)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ker code and data is being demodu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4.5.13.1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imitive, which is generated by the PMD, shall indic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 PLCP layer that the receiver has acquired (locke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rker code and data is being demodul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51040" y="186228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54960" y="5246640"/>
            <a:ext cx="4932360" cy="916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action time not spec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rker sequence shorter than the 802.11b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short preamble may be miss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3657600" y="4965840"/>
            <a:ext cx="457200" cy="304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933960" y="4508640"/>
            <a:ext cx="228600" cy="7617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6BF-E343-4657-9EC5-35F4DC65F04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802.11b Energy De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9760" y="1539720"/>
            <a:ext cx="81939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4.5.14 PMD_ED.ind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4.5.14.1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ptional primitive may be generated by the PMD to prov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dication that the receiver has detected RF energy indic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the PMD_RSSI primitive that is above a predefined thresho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4440" y="3781440"/>
            <a:ext cx="803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4.5.14.3 When gene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imitive is generated by the PHY sublayer when the PH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receiving RF energy from any source that exceeds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_THRESHOLD para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79480" y="5673600"/>
            <a:ext cx="319788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poofed by Bluetoo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poofed by uWave Ov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936-C2D3-4729-B2A5-34AAE7CA72F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802.11b Clear Channel Assessment (C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0200" y="2174760"/>
            <a:ext cx="738612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.4.8.4 C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High Rate PHY shall provide the capability to perform CCA according to 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ast one of the following three method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CA Mode </a:t>
            </a:r>
            <a:r>
              <a:rPr b="1" i="1" lang="en-US" sz="1600" spc="-1" strike="noStrike">
                <a:solidFill>
                  <a:srgbClr val="3333cc"/>
                </a:solidFill>
                <a:latin typeface="Times New Roman"/>
              </a:rPr>
              <a:t>1: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ergy above threshold. CCA shall report a busy medium up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tecting any energy above the ED threshol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CA Mode 4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Carrier Sense with timer. CCA shall start a timer whose dur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s 3.65 ms and report a busy medium only upon the detection of a High Rate PH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gnal. CCA shall report an idle medium after the timer expires and no High 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Y signal is detected. The 3.65 ms timeout is the duration of the longest possi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5 Mbit/s PSD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50280" y="5597640"/>
            <a:ext cx="426924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action time not spec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GC’d pull-in time must be allot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666520" y="5316120"/>
            <a:ext cx="38124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1960" y="171756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hoose 1 of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C58-874B-4BA8-8C68-B4963EDBBCC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802.11b CCA cont’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95520" y="1517760"/>
            <a:ext cx="7430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.4.8.4 CCA (cont’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CA Mode 5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A combination of Carrier Sense and energy above threshold. C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all report busy at least while a High Rate PPDU with energy above the 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reshold is being received at the antenna.  The energy detection status shall b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iven by the PMD primitive, PMD_ED. The carrier sense status shall be given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MD_CS. The status of PMD_ED and PMD_CS is used in the PLCP converg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dure to indicate activity to the MAC through the PHY interface primi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Y-CCA.indic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6960" y="4429080"/>
            <a:ext cx="689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energy detection status shall be given by the PMD primitive, PMD_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carrier sense status shall be given by PMD_CS.  The status of PMD_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PMD_CS is used in the PLCP convergence procedure to indicate activ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the MAC through the PHY interface primitive PHY-CCA.indic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 busy channel shall be indicated by PHY-CCA.indicate of class BUS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ear channel shall be indicated by PHY-CCA.indicate of class ID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50280" y="3710160"/>
            <a:ext cx="4269240" cy="642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eaction time not specifi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AGC’d pull-in time must be allot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2666520" y="3580920"/>
            <a:ext cx="381240" cy="30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47C-251B-47DA-9299-8031E2226DF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CA Mode 1:  Energy Det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419720"/>
            <a:ext cx="3429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162920" y="4419720"/>
            <a:ext cx="990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72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16292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324120" y="426708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4191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10080" y="384336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39200" y="44956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92960" y="44956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5562720"/>
            <a:ext cx="731520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56272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92720" y="5683320"/>
            <a:ext cx="1294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e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066680" y="26668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5400" y="3654360"/>
            <a:ext cx="78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15200" y="2890800"/>
            <a:ext cx="226692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 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ct Packet O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t cont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88000" y="2890800"/>
            <a:ext cx="226836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Asp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ct Packet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3733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952520" y="37339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510552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74000" y="1828800"/>
            <a:ext cx="52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nergy Detect is successful for both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ut, spoofed by Bluetooth, uWave Oven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7400" y="4572000"/>
            <a:ext cx="147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ERGY DET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419720"/>
            <a:ext cx="0" cy="114300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4419720"/>
            <a:ext cx="0" cy="114300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FEA0-7DC1-4DA3-9DEA-185AE088D65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CA Mode 2:  Carrier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4572000"/>
            <a:ext cx="3429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4572000"/>
            <a:ext cx="990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16292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4120" y="441972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10080" y="399564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9200" y="46483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92960" y="46483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5715000"/>
            <a:ext cx="731520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6080" y="5835600"/>
            <a:ext cx="1294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e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066680" y="28191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5400" y="3807000"/>
            <a:ext cx="78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91080" y="3146400"/>
            <a:ext cx="2017080" cy="73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Asp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ct Packet On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t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80280" y="3146400"/>
            <a:ext cx="2018520" cy="73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Asp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tect Packet 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ent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66880" y="388620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638320" y="388620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8840" y="1568520"/>
            <a:ext cx="67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arrier Sense not always successful for both CCA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Not, spoofed by Bluetooth, uWave Oven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8560" y="2286000"/>
            <a:ext cx="231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BARKER Correlation may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be  valid until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1.  AGC 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2.  Diversity 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0" y="2286000"/>
            <a:ext cx="208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BARKER Correlation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not det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1. C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2. PB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5105520"/>
            <a:ext cx="3962520" cy="228600"/>
          </a:xfrm>
          <a:prstGeom prst="rightArrow">
            <a:avLst>
              <a:gd name="adj1" fmla="val 50000"/>
              <a:gd name="adj2" fmla="val 4333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18440" y="5291280"/>
            <a:ext cx="153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A Mode 2 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4572000"/>
            <a:ext cx="0" cy="114300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560" y="3989520"/>
            <a:ext cx="16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S Exceed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3800" y="4648320"/>
            <a:ext cx="0" cy="106668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52616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32400" y="376236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S 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1BBD-2527-4F46-A10E-3DA59BE1280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CA Mode 2:  Carrier Sense Cont’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43200" y="4497480"/>
            <a:ext cx="3429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4497480"/>
            <a:ext cx="990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4116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62920" y="4116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24120" y="434484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4268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310080" y="39211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39200" y="45734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92960" y="457344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5640480"/>
            <a:ext cx="731520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564048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92720" y="5761080"/>
            <a:ext cx="1294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e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066680" y="274464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5400" y="3732120"/>
            <a:ext cx="78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02600" y="1905120"/>
            <a:ext cx="457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issing Long and Short SFD Indicates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Invalid 802.11b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ehavior not specified in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495680" y="381168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38800" y="3278160"/>
            <a:ext cx="246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issing Long/Short  SF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lear ti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4268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560" y="3659040"/>
            <a:ext cx="13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xceed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503064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9360" y="5216400"/>
            <a:ext cx="153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A Mode 2 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97480"/>
            <a:ext cx="0" cy="68580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4497480"/>
            <a:ext cx="0" cy="68580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FA3-0ED3-42F5-8054-516117262AC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ambles Shorter than 802.11b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it possible to run preambles shorter than 802.11b’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egree of 802.11b backward compatibility is guarante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coexistence behavio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act of non-friendly interfere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ubmission examines these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ew optional ultra-short preamble for HRb OFDM is propo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patibility with 802.11b is describ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A98E-2216-4508-8C02-BF10FAD4076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clusion:  Can Save Maybe Only 24 usecs of Barker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129120"/>
            <a:ext cx="167652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3129120"/>
            <a:ext cx="76212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3129120"/>
            <a:ext cx="29718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23360" y="311076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84680" y="3110760"/>
            <a:ext cx="88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6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8440" y="3110760"/>
            <a:ext cx="142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ECTAB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, 5.5 OR 1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44560" y="242460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b 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00200" y="3797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0800" y="3872880"/>
            <a:ext cx="186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72 usecs Barker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2628720" y="2997000"/>
            <a:ext cx="380880" cy="2438280"/>
          </a:xfrm>
          <a:custGeom>
            <a:avLst/>
            <a:gdLst>
              <a:gd name="textAreaLeft" fmla="*/ 243360 w 380880"/>
              <a:gd name="textAreaRight" fmla="*/ 381240 w 38088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3129120"/>
            <a:ext cx="76176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61240" y="311076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F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08600" y="3885480"/>
            <a:ext cx="117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24 usec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Barker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07200" y="4406760"/>
            <a:ext cx="41976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C on 1st Diversity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 offset null ZIF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ergy Ass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C on 2nd Diversity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C offset null ZIF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 matched filter design and 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ow for start-up transient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L and Coherent AGC j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ence SFD 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ful long/short SFD flags high-rate PHY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38480" y="2971800"/>
            <a:ext cx="838440" cy="838080"/>
          </a:xfrm>
          <a:prstGeom prst="noSmoking">
            <a:avLst>
              <a:gd name="adj" fmla="val 12500"/>
            </a:avLst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572000" y="2057400"/>
            <a:ext cx="12182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64280" y="1781280"/>
            <a:ext cx="2772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Needed for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CCA Mode 1, 4 or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, must convey head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information somehow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48200" y="4773600"/>
            <a:ext cx="294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Insignificant 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Benef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A050-2AB7-4514-8DAC-88C687C6A3E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ow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not guaranteed coexistence under general 802.11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, design new mechanisms into HRb for better performance in the fu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throughput is king, propose an ultra-short pream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existence is possible if 802.11b equipment uses CCA mode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as an o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D409-4818-498A-90D3-5F556DC01751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posed Ultra-Short Pream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~25 usecs of Overh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114800" y="3386160"/>
            <a:ext cx="373392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43840" y="2381400"/>
            <a:ext cx="95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Da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5790960" y="2971800"/>
            <a:ext cx="152280" cy="4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80120" y="3367800"/>
            <a:ext cx="3144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ECTAB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6.6, 9.9, 13.2, 19.8, 26.4, 39.6, 52.8 or 59.4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3386160"/>
            <a:ext cx="68904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76800" y="3428280"/>
            <a:ext cx="83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84920" y="2440440"/>
            <a:ext cx="159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Data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# bytes of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386160"/>
            <a:ext cx="244152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91560" y="339984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4038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3680" y="406800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29000" y="4029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97320" y="406800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3.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3809880" y="3048120"/>
            <a:ext cx="152640" cy="338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2320" y="5393160"/>
            <a:ext cx="603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Not coexistent with 802.11b unless CCA Mode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is used for all equip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76720" y="4572000"/>
            <a:ext cx="2514600" cy="64296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91520" y="3444120"/>
            <a:ext cx="109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2 Sh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yncs Rep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3390840"/>
            <a:ext cx="228600" cy="571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94000" y="2360880"/>
            <a:ext cx="103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72400" y="2895480"/>
            <a:ext cx="15228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43080" y="403776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~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44F6-D6A2-40CC-B45C-4EFD71DE9A5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ltra-Short Preamble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905120" y="1730520"/>
          <a:ext cx="5715000" cy="380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730520"/>
                    <a:ext cx="5715000" cy="38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 flipV="1">
            <a:off x="5410080" y="47242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3987720" y="464796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971800" y="44197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34240" y="5608800"/>
            <a:ext cx="80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456640" y="5638680"/>
            <a:ext cx="97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Ultra-Sh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10440" y="5608800"/>
            <a:ext cx="80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4E43-3F4D-4FA6-A3C0-E99AD5ABF21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ltra-Short Preamble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600200" y="1828800"/>
          <a:ext cx="5562720" cy="370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5562720" cy="37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 flipV="1">
            <a:off x="3429000" y="47239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2819520" y="464796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422440" y="4419720"/>
            <a:ext cx="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84880" y="5608800"/>
            <a:ext cx="80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761480" y="5638680"/>
            <a:ext cx="979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Ultra-Sh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72000" y="5608800"/>
            <a:ext cx="80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19520" y="5334120"/>
            <a:ext cx="22860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29000" y="5410080"/>
            <a:ext cx="22860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6FE2-9B34-45E0-8CBE-0C6574C5195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CA Mode 1:  Energy Detect by 802.11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quired for Ultra-Short Preamble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43200" y="4419720"/>
            <a:ext cx="3429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4419720"/>
            <a:ext cx="990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7220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162920" y="4038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4120" y="426708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2200" y="4191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10080" y="384336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39200" y="44956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392960" y="44956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66680" y="5562720"/>
            <a:ext cx="731520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66680" y="556272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92720" y="5683320"/>
            <a:ext cx="1294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e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066680" y="26668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5400" y="3654360"/>
            <a:ext cx="78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066680" y="510552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280" y="2438280"/>
            <a:ext cx="414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dentical to 802.1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existent with 802.11b if 802.11b </a:t>
            </a:r>
            <a:br>
              <a:rPr sz="1800"/>
            </a:b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equipment uses CCA Mod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67400" y="4572000"/>
            <a:ext cx="147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ERGY DET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743200" y="4419720"/>
            <a:ext cx="0" cy="114300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72200" y="4419720"/>
            <a:ext cx="0" cy="114300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6239-7315-48DF-9378-7CD7BE8705DC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rrier Recovery and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rier recovery performance same as 802.11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ked oscillators mand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ersity same as 802.11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04E5-F807-4503-AE95-DF0DFF6BD77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oint 802.11b-and-OFDM-only Detection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58840" y="35654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352680"/>
            <a:ext cx="60948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651120" y="27669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611160" y="3838680"/>
            <a:ext cx="126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rt-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57600" y="2743200"/>
            <a:ext cx="12193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81280" y="3809880"/>
            <a:ext cx="14479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124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71800" y="43434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971800" y="31240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3733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61160" y="3376440"/>
            <a:ext cx="132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nal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67280" y="3276720"/>
            <a:ext cx="13716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505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3809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31240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124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86400" y="3809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29200" y="4343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76520" y="3733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8BD-9869-4FDC-92BB-0628090BB3D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Wireless Medium is a Shared 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ireless medium is sh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stations exist in a cell, only one can transmit at a t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isions create a packet-error near probability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dden nodes can ex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11b deferral mechanisms ensure “the many” remain silent while “the one” transm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interoperability and coexistence, HRb proposals must provide deferral mechanis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erral mechanisms allow a transmitter to seize-the-chann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C0C-C60A-4D7D-A969-78A4A85078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802.11b Deferral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ST-to-LOWEST NETWORK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F Poin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llocation Vector (NAV)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FS, PIFS, DIFS and E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cessful Header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 Channel Assessment (C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6EE-55B9-46AB-B74B-0E01548F05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eambles Shorter than 802.11b’s Short Preamble Sacrifice Deferral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327040"/>
            <a:ext cx="7772400" cy="27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ST-to-LOWEST NETWORK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F Poin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llocation Vector (NAV)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FS, PIFS, DIFS and EIF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cessful Header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r Channel Assessment (C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2971800"/>
            <a:ext cx="327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3429000"/>
            <a:ext cx="563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4343400"/>
            <a:ext cx="472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819160" y="49528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8040" y="5410080"/>
            <a:ext cx="2457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s CCA Sacrific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A54-6E71-45A5-B80B-47E5AF1224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wo Aspects of C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3200" y="4191120"/>
            <a:ext cx="3429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4191120"/>
            <a:ext cx="990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6292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120" y="403848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3962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10080" y="361476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39200" y="42670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92960" y="426708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334120"/>
            <a:ext cx="731520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5334120"/>
            <a:ext cx="7239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92720" y="5454720"/>
            <a:ext cx="1294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ise Fl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066680" y="24382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5400" y="3425760"/>
            <a:ext cx="78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12320" y="1905120"/>
            <a:ext cx="2531880" cy="916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Asp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 Packet On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t cont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85480" y="1905120"/>
            <a:ext cx="2531880" cy="916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Asp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 Packet 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t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2895480"/>
            <a:ext cx="2286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952880" y="28195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A8DE-E29E-4D57-8B23-49607696C6A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ow Short Can the Barker Codes Be And Still be 802.11b CCA Compli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2589120"/>
            <a:ext cx="129564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2589120"/>
            <a:ext cx="76176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2589120"/>
            <a:ext cx="29718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18440" y="257112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6800" y="2571120"/>
            <a:ext cx="88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2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33520" y="2571120"/>
            <a:ext cx="142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ECTAB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, 5.5 OR 1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44560" y="190404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b 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8280" y="32608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3400" y="3276000"/>
            <a:ext cx="117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9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Barker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7480" y="4038480"/>
            <a:ext cx="57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 QU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s there a shorter Barker sequence that guarante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seful CCA for 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deployed 802.11b equipmen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en the SFD/header is not detect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99480" y="5510160"/>
            <a:ext cx="282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f.  OFDM in the 2.4 GHz 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Jan Boer, Lucent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Doc.: IEEE 802.11-00/1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7EC-3310-4307-82EE-E86D9A557DB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802.11b’s Minimal Int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Handle 802.11b Signals Proper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5440"/>
            <a:ext cx="129528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665440"/>
            <a:ext cx="76176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2665440"/>
            <a:ext cx="29718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18440" y="264708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1920" y="264708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6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33520" y="2647080"/>
            <a:ext cx="142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ECTAB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, 5.5 OR 1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960" y="181188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b 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35268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13400" y="3351960"/>
            <a:ext cx="117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9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Barker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2684520"/>
            <a:ext cx="76212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3960" y="266616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F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7040" y="3962520"/>
            <a:ext cx="560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quipment with Long Preamble On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 the presence a short preamble and def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constraint is the length of short pream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very of SFD, header and data is not requi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320" y="5334120"/>
            <a:ext cx="659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quipment with Short Preamble Op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ct the long or short preamble, demod header and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havior is not spec’d for missing SFD or hea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23160" y="175248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MAC Defer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4880" y="1752480"/>
            <a:ext cx="85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267080" y="2057400"/>
            <a:ext cx="76176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638680" y="2057400"/>
            <a:ext cx="76176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D7ED-7D2E-4868-8E06-E07D801B7B2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horter than 802.11b’s Short Pre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2589120"/>
            <a:ext cx="129528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2589120"/>
            <a:ext cx="76176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2589120"/>
            <a:ext cx="29718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18440" y="257112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41920" y="257112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6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33520" y="2571120"/>
            <a:ext cx="142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ECTAB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, 5.5 OR 1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173592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b 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32767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13400" y="3276000"/>
            <a:ext cx="117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&lt; 9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Barker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608200"/>
            <a:ext cx="7621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3960" y="259020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F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006800"/>
            <a:ext cx="620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quipment with Long Preamble On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guarante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deployed equipment defers proper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5105520"/>
            <a:ext cx="620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quipment with Short Preamble Op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havior is not spec’d for missing SFD or hea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ng SFD is indicative of a non-802.11b sig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 guarante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deployed equipment defers proper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23160" y="167652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C Defer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4880" y="1676520"/>
            <a:ext cx="85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267080" y="1981080"/>
            <a:ext cx="7617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38680" y="1981080"/>
            <a:ext cx="7617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123720" y="2743200"/>
            <a:ext cx="381600" cy="380880"/>
            <a:chOff x="3123720" y="2743200"/>
            <a:chExt cx="381600" cy="380880"/>
          </a:xfrm>
        </p:grpSpPr>
        <p:sp>
          <p:nvSpPr>
            <p:cNvPr id="128" name=""/>
            <p:cNvSpPr/>
            <p:nvPr/>
          </p:nvSpPr>
          <p:spPr>
            <a:xfrm>
              <a:off x="3124080" y="2743200"/>
              <a:ext cx="3812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123720" y="2743200"/>
              <a:ext cx="38124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486400" y="2666880"/>
            <a:ext cx="380880" cy="380880"/>
            <a:chOff x="5486400" y="2666880"/>
            <a:chExt cx="380880" cy="380880"/>
          </a:xfrm>
        </p:grpSpPr>
        <p:sp>
          <p:nvSpPr>
            <p:cNvPr id="131" name=""/>
            <p:cNvSpPr/>
            <p:nvPr/>
          </p:nvSpPr>
          <p:spPr>
            <a:xfrm>
              <a:off x="5486400" y="26668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486400" y="26668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2666880"/>
            <a:ext cx="380880" cy="380880"/>
            <a:chOff x="3886200" y="2666880"/>
            <a:chExt cx="380880" cy="380880"/>
          </a:xfrm>
        </p:grpSpPr>
        <p:sp>
          <p:nvSpPr>
            <p:cNvPr id="134" name=""/>
            <p:cNvSpPr/>
            <p:nvPr/>
          </p:nvSpPr>
          <p:spPr>
            <a:xfrm>
              <a:off x="3886200" y="26668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886200" y="26668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95AE-1562-41BC-BCF0-F319F3A6814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1:38:26Z</dcterms:created>
  <dc:creator>Mark Webster</dc:creator>
  <dc:description/>
  <dc:language>en-US</dc:language>
  <cp:lastModifiedBy>Harry Worstell</cp:lastModifiedBy>
  <cp:lastPrinted>2000-05-04T15:07:54Z</cp:lastPrinted>
  <dcterms:modified xsi:type="dcterms:W3CDTF">2000-11-06T22:10:38Z</dcterms:modified>
  <cp:revision>53</cp:revision>
  <dc:subject/>
  <dc:title>Ultra-Short Preamble Option for HRb OFDM</dc:title>
</cp:coreProperties>
</file>