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4A3B-5924-481D-B46C-4FCBD8E78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5010-6592-4782-A77A-C92E945C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62A6-CC81-49C0-BAF1-629A7FC26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6EEE-CB2A-4695-A0B9-D4C3FC3C5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3869-7E1D-43AB-AB2C-FC55BCB5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C8EC-F20E-4F0D-AEC1-E677654D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9DDE-12D9-4928-BA1B-26FAA8A7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5793-6C02-41AF-A2A4-813BEB40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029D-95E9-4295-A4E6-89F94739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A9F3-A1C9-43AA-B512-EF0C997F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6622-ACF6-4B7F-9E7F-5B0A7F1D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EF1F-B267-43CD-A50D-17CDD96D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90720"/>
            <a:ext cx="11905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ul Chiuchiolo and Mark Webster, Inter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FCD099F-F53A-4F75-98EF-0055F02FE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ower Amp Effects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for HRb OFD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ul Chiuchiolo and Mark Web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sil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D947-7A1D-4624-843D-1A938D09385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SD for PA Input with QPSK Subcarr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370160" y="1671480"/>
            <a:ext cx="6087960" cy="45658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 flipH="1">
            <a:off x="6095880" y="2362320"/>
            <a:ext cx="274248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466760" y="2133720"/>
            <a:ext cx="128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365C-12AE-49B7-B937-B0C2507FBA4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SD for PA Output with QPSK Subcarr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370160" y="1671480"/>
            <a:ext cx="6087960" cy="4565880"/>
          </a:xfrm>
          <a:prstGeom prst="rect">
            <a:avLst/>
          </a:prstGeom>
          <a:ln w="0">
            <a:noFill/>
          </a:ln>
        </p:spPr>
      </p:pic>
      <p:grpSp>
        <p:nvGrpSpPr>
          <p:cNvPr id="218" name=""/>
          <p:cNvGrpSpPr/>
          <p:nvPr/>
        </p:nvGrpSpPr>
        <p:grpSpPr>
          <a:xfrm>
            <a:off x="5560200" y="3124080"/>
            <a:ext cx="3256200" cy="3278880"/>
            <a:chOff x="5560200" y="3124080"/>
            <a:chExt cx="3256200" cy="3278880"/>
          </a:xfrm>
        </p:grpSpPr>
        <p:sp>
          <p:nvSpPr>
            <p:cNvPr id="219" name=""/>
            <p:cNvSpPr/>
            <p:nvPr/>
          </p:nvSpPr>
          <p:spPr>
            <a:xfrm flipH="1" flipV="1">
              <a:off x="6857640" y="4190760"/>
              <a:ext cx="6094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60200" y="609588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16.0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65680" y="312408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3.7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65680" y="411480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4.7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5943600" y="5105520"/>
              <a:ext cx="1522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6324120" y="327672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65680" y="464832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8.2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6857640" y="464796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65320" y="502920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12.0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6019560" y="4495320"/>
              <a:ext cx="15238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5639760" y="228600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521480" y="1955880"/>
            <a:ext cx="996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ackof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om F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F967-FCE9-49F9-8480-0E8563D61C6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SD for PA Output with QPSK Subcarr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370160" y="1671480"/>
            <a:ext cx="6087960" cy="4565880"/>
          </a:xfrm>
          <a:prstGeom prst="rect">
            <a:avLst/>
          </a:prstGeom>
          <a:ln w="0">
            <a:noFill/>
          </a:ln>
        </p:spPr>
      </p:pic>
      <p:grpSp>
        <p:nvGrpSpPr>
          <p:cNvPr id="233" name=""/>
          <p:cNvGrpSpPr/>
          <p:nvPr/>
        </p:nvGrpSpPr>
        <p:grpSpPr>
          <a:xfrm>
            <a:off x="5560200" y="3124080"/>
            <a:ext cx="3256200" cy="3278880"/>
            <a:chOff x="5560200" y="3124080"/>
            <a:chExt cx="3256200" cy="3278880"/>
          </a:xfrm>
        </p:grpSpPr>
        <p:sp>
          <p:nvSpPr>
            <p:cNvPr id="234" name=""/>
            <p:cNvSpPr/>
            <p:nvPr/>
          </p:nvSpPr>
          <p:spPr>
            <a:xfrm flipH="1" flipV="1">
              <a:off x="6857640" y="4114440"/>
              <a:ext cx="609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60200" y="609588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16.0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65680" y="312408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3.4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65680" y="411480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4.6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5943600" y="5486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6705720" y="3276720"/>
              <a:ext cx="7617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65680" y="464832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8.1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6629400" y="457164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65320" y="502920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12.0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943240" y="4647960"/>
              <a:ext cx="16002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5782680" y="236232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21480" y="1955880"/>
            <a:ext cx="996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ackof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om F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D411-CF84-4F2E-868D-46985D17CD6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SD for PA Input with 16-QAM Subcarr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370160" y="1671480"/>
            <a:ext cx="6087960" cy="45658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 flipH="1">
            <a:off x="6095880" y="2362320"/>
            <a:ext cx="274248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466760" y="2133720"/>
            <a:ext cx="128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8BEB-6E8F-482C-96DA-9163C91C4CF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SD for PA Output with 16-QAM Subcarr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370160" y="1671480"/>
            <a:ext cx="6087960" cy="456588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5560200" y="3124080"/>
            <a:ext cx="3256200" cy="3278880"/>
            <a:chOff x="5560200" y="3124080"/>
            <a:chExt cx="3256200" cy="3278880"/>
          </a:xfrm>
        </p:grpSpPr>
        <p:sp>
          <p:nvSpPr>
            <p:cNvPr id="253" name=""/>
            <p:cNvSpPr/>
            <p:nvPr/>
          </p:nvSpPr>
          <p:spPr>
            <a:xfrm flipH="1" flipV="1">
              <a:off x="6857640" y="4190760"/>
              <a:ext cx="6094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60200" y="609588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16.0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465680" y="312408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3.7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465680" y="411480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4.7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5943600" y="5105520"/>
              <a:ext cx="1522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6324120" y="327672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465680" y="464832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8.2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flipV="1">
              <a:off x="6857640" y="464796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465320" y="502920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12.0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 flipV="1">
              <a:off x="6019560" y="4495320"/>
              <a:ext cx="15238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5792400" y="236232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521480" y="1955880"/>
            <a:ext cx="996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ackof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om F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510D-B05A-4214-93A0-96CCE184E34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SD for PA Output with 16-QAM Subcarr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370160" y="1671480"/>
            <a:ext cx="6087960" cy="4565880"/>
          </a:xfrm>
          <a:prstGeom prst="rect">
            <a:avLst/>
          </a:prstGeom>
          <a:ln w="0">
            <a:noFill/>
          </a:ln>
        </p:spPr>
      </p:pic>
      <p:grpSp>
        <p:nvGrpSpPr>
          <p:cNvPr id="267" name=""/>
          <p:cNvGrpSpPr/>
          <p:nvPr/>
        </p:nvGrpSpPr>
        <p:grpSpPr>
          <a:xfrm>
            <a:off x="5560200" y="3124080"/>
            <a:ext cx="3256200" cy="3278880"/>
            <a:chOff x="5560200" y="3124080"/>
            <a:chExt cx="3256200" cy="3278880"/>
          </a:xfrm>
        </p:grpSpPr>
        <p:sp>
          <p:nvSpPr>
            <p:cNvPr id="268" name=""/>
            <p:cNvSpPr/>
            <p:nvPr/>
          </p:nvSpPr>
          <p:spPr>
            <a:xfrm flipH="1" flipV="1">
              <a:off x="6857640" y="4114440"/>
              <a:ext cx="609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60200" y="609588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16.0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465680" y="312408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3.4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465680" y="411480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4.6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5943600" y="5486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6705720" y="3276720"/>
              <a:ext cx="7617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465680" y="464832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8.1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 flipV="1">
              <a:off x="6629400" y="457164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465320" y="502920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12.0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5943240" y="4647960"/>
              <a:ext cx="16002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5782680" y="236232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21480" y="1955880"/>
            <a:ext cx="996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ackof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om F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7924-9AAB-4983-A71D-D5A7AFA921B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SD for PA Input with 64-QAM Subcarr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370160" y="1671480"/>
            <a:ext cx="6087960" cy="4565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 flipH="1">
            <a:off x="6095880" y="2362320"/>
            <a:ext cx="274248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466760" y="2133720"/>
            <a:ext cx="128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946C-BDE6-4813-BB0D-80FD9B64205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SD for PA Output with 64-QAM Subcarr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370160" y="1671480"/>
            <a:ext cx="6087960" cy="4565880"/>
          </a:xfrm>
          <a:prstGeom prst="rect">
            <a:avLst/>
          </a:prstGeom>
          <a:ln w="0">
            <a:noFill/>
          </a:ln>
        </p:spPr>
      </p:pic>
      <p:grpSp>
        <p:nvGrpSpPr>
          <p:cNvPr id="286" name=""/>
          <p:cNvGrpSpPr/>
          <p:nvPr/>
        </p:nvGrpSpPr>
        <p:grpSpPr>
          <a:xfrm>
            <a:off x="5560200" y="3124080"/>
            <a:ext cx="3256200" cy="3278880"/>
            <a:chOff x="5560200" y="3124080"/>
            <a:chExt cx="3256200" cy="3278880"/>
          </a:xfrm>
        </p:grpSpPr>
        <p:sp>
          <p:nvSpPr>
            <p:cNvPr id="287" name=""/>
            <p:cNvSpPr/>
            <p:nvPr/>
          </p:nvSpPr>
          <p:spPr>
            <a:xfrm flipH="1" flipV="1">
              <a:off x="6857640" y="4190760"/>
              <a:ext cx="6094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560200" y="609588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16.0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465680" y="312408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3.7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465680" y="411480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4.7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5943600" y="5105520"/>
              <a:ext cx="1522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6324120" y="327672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465680" y="464832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8.2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6857640" y="464796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465320" y="502920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12.0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 flipV="1">
              <a:off x="6019560" y="4495320"/>
              <a:ext cx="15238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5716080" y="236232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521480" y="1955880"/>
            <a:ext cx="996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ackof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om F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9918-8E4B-4C05-AE90-1576B0EF6E3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087960" cy="45655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SD for PA Output with 64-QAM Subcarr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560200" y="3124080"/>
            <a:ext cx="3256200" cy="3278880"/>
            <a:chOff x="5560200" y="3124080"/>
            <a:chExt cx="3256200" cy="3278880"/>
          </a:xfrm>
        </p:grpSpPr>
        <p:sp>
          <p:nvSpPr>
            <p:cNvPr id="302" name=""/>
            <p:cNvSpPr/>
            <p:nvPr/>
          </p:nvSpPr>
          <p:spPr>
            <a:xfrm flipH="1" flipV="1">
              <a:off x="6857640" y="4114440"/>
              <a:ext cx="609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560200" y="609588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16.0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465680" y="312408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3.4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465680" y="411480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4.6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5943600" y="5486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6705720" y="3276720"/>
              <a:ext cx="7617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465680" y="464832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8.1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 flipV="1">
              <a:off x="6629400" y="457164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465320" y="502920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12.0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 flipV="1">
              <a:off x="5943240" y="4647960"/>
              <a:ext cx="16002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5782680" y="236232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521480" y="1955880"/>
            <a:ext cx="996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ackof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om F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085C-5246-4FD8-A3A2-9A2FDA8BCC1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370160" y="1671480"/>
            <a:ext cx="6087960" cy="456588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R for 6.6 Mbps with p=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2480" y="6095880"/>
            <a:ext cx="223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off from full satur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438280" y="56386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2080" y="22860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00 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521480" y="1955880"/>
            <a:ext cx="996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ackof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om F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DBC1-7C8A-4A95-B1BF-57F6008F15A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Non-Ideal PA Effects for OFD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371600"/>
            <a:ext cx="80899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ctral characteristics of PA input/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PSK, QPSK, 16-QAM, 64-Q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ver-sample rate of 4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lse shaping requirements same as 802.11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 with 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 Output Back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ckoff from full sat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PP model used with p=2 and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ood approximation of existing amplif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6, 13.2, 26.4 and 59.4 Mbps, 1000 by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versample rate of 4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stimate subcarrier amp/phz over packet (non-ide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2188-0E71-4042-91F6-F706398AA92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1370160" y="1671480"/>
            <a:ext cx="6087960" cy="456588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R for 6.6 Mbps with p=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2480" y="6095880"/>
            <a:ext cx="223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koff from full satur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438280" y="5638680"/>
            <a:ext cx="7621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521480" y="1955880"/>
            <a:ext cx="996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ackof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om F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32080" y="22860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00 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B0A8-DC96-4D42-9F02-80424DFFAC0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R for 13.2 Mbps with p=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370160" y="1671480"/>
            <a:ext cx="6087960" cy="45658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7521480" y="1955880"/>
            <a:ext cx="996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ackof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om F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32080" y="22860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00 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08FA-A693-45FA-92D3-7DBA0CF6AEB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R for 13.2 Mbps with p=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1370160" y="1671480"/>
            <a:ext cx="6087960" cy="45658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7521480" y="1955880"/>
            <a:ext cx="996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ackof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om F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2080" y="22860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00 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27E6-3464-4077-AB4C-0B418539BE8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R for 26.4 Mbps with p=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370160" y="1671480"/>
            <a:ext cx="6087960" cy="45658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7521480" y="1955880"/>
            <a:ext cx="996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ackof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om F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2080" y="22860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00 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87E5-DA60-418E-B719-B57715E35E7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R for 26.4 Mbps with p=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370160" y="1671480"/>
            <a:ext cx="6087960" cy="456588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7521480" y="1955880"/>
            <a:ext cx="996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ackof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om F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2080" y="22860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00 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5AF8-7F96-4852-9EBA-E3EF94EBCC3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R for 59.4 Mbps with p=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370160" y="1671480"/>
            <a:ext cx="6087960" cy="45658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7521480" y="1955880"/>
            <a:ext cx="996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ackof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om F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2080" y="22860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00 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E876-E3EE-411A-A333-E0255093BCA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R for 59.4 Mbps with p=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370160" y="1671480"/>
            <a:ext cx="6087960" cy="456588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7521480" y="1955880"/>
            <a:ext cx="996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ackof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om F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2080" y="22860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00 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6246-18AD-468A-9A97-95E33B8DD3F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NR Degradation T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730520" y="1752480"/>
          <a:ext cx="6270480" cy="411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0520" y="1752480"/>
                    <a:ext cx="6270480" cy="41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608400" y="329256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00 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8D2B-99B5-4F26-B36E-B9C64B51080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the lower data rates up to 13.2 Mbps, PA back-off is the same as 802.11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-off PA more at higher data r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=3 is slightly better than p=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DM is compet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8047-123A-4337-850E-401C1E198DB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PP Power Amplifier (PA) Model (Amplitude out/i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04920" y="3048120"/>
          <a:ext cx="2361960" cy="109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8120"/>
                    <a:ext cx="236196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971800" y="1981080"/>
            <a:ext cx="5484960" cy="411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6179-728E-4078-8429-5C6B0194FBF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PP Power Amplifier (PA) Model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dB out/i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970360" y="1982880"/>
            <a:ext cx="5259240" cy="411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304920" y="2362320"/>
          <a:ext cx="2361960" cy="109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362320"/>
                    <a:ext cx="236196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 flipV="1">
            <a:off x="2362320" y="4343040"/>
            <a:ext cx="914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07280" y="5106960"/>
            <a:ext cx="167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Output f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Full Sat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A155-881F-4673-99B7-9931E3159F2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 dB Compression Point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s. Full Sat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09480" y="2514600"/>
            <a:ext cx="3886200" cy="2817720"/>
            <a:chOff x="609480" y="2514600"/>
            <a:chExt cx="3886200" cy="2817720"/>
          </a:xfrm>
        </p:grpSpPr>
        <p:sp>
          <p:nvSpPr>
            <p:cNvPr id="61" name=""/>
            <p:cNvSpPr/>
            <p:nvPr/>
          </p:nvSpPr>
          <p:spPr>
            <a:xfrm>
              <a:off x="1136520" y="2949480"/>
              <a:ext cx="3259080" cy="231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136520" y="5260680"/>
              <a:ext cx="325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136520" y="5027400"/>
              <a:ext cx="32590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36520" y="4795560"/>
              <a:ext cx="325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6520" y="4563720"/>
              <a:ext cx="325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36520" y="4331880"/>
              <a:ext cx="325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36520" y="4100400"/>
              <a:ext cx="3259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136520" y="3877920"/>
              <a:ext cx="325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36520" y="3646080"/>
              <a:ext cx="325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36520" y="3412800"/>
              <a:ext cx="325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36520" y="3180960"/>
              <a:ext cx="3259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136520" y="2949480"/>
              <a:ext cx="3259080" cy="2310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36520" y="2949480"/>
              <a:ext cx="1440" cy="231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95120" y="526068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95120" y="5027400"/>
              <a:ext cx="4140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95120" y="479556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95120" y="456372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95120" y="433188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095120" y="4100400"/>
              <a:ext cx="414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95120" y="387792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95120" y="364608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095120" y="341280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95120" y="3180960"/>
              <a:ext cx="41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95120" y="2949480"/>
              <a:ext cx="414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36520" y="2949480"/>
              <a:ext cx="3259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136520" y="2949120"/>
              <a:ext cx="1440" cy="39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1498320" y="2949120"/>
              <a:ext cx="1800" cy="39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1861920" y="2949120"/>
              <a:ext cx="1440" cy="39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225520" y="2949120"/>
              <a:ext cx="1440" cy="39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587320" y="2949120"/>
              <a:ext cx="3240" cy="39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941560" y="2949120"/>
              <a:ext cx="1440" cy="39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3303360" y="2949120"/>
              <a:ext cx="3240" cy="39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668400" y="2949120"/>
              <a:ext cx="1800" cy="39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4032000" y="2949120"/>
              <a:ext cx="1440" cy="39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4395600" y="2949120"/>
              <a:ext cx="1440" cy="39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136520" y="3454200"/>
              <a:ext cx="361800" cy="10792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1498320" y="3180960"/>
              <a:ext cx="363600" cy="2728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1861920" y="3081240"/>
              <a:ext cx="363600" cy="99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2225520" y="3029760"/>
              <a:ext cx="361800" cy="507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2587320" y="3000240"/>
              <a:ext cx="354240" cy="295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2941560" y="2979000"/>
              <a:ext cx="361800" cy="2052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303360" y="2969640"/>
              <a:ext cx="365040" cy="90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3668400" y="2958840"/>
              <a:ext cx="363600" cy="1080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032000" y="2958840"/>
              <a:ext cx="363600" cy="10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36520" y="2949480"/>
              <a:ext cx="36180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98320" y="2949480"/>
              <a:ext cx="36360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61920" y="2949480"/>
              <a:ext cx="36360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25520" y="2949480"/>
              <a:ext cx="36180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87320" y="2949480"/>
              <a:ext cx="35424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41560" y="2949480"/>
              <a:ext cx="36180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03360" y="2949480"/>
              <a:ext cx="36504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68400" y="2949480"/>
              <a:ext cx="36360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32000" y="2949480"/>
              <a:ext cx="36360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06280" y="4503600"/>
              <a:ext cx="60120" cy="5976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68080" y="3423960"/>
              <a:ext cx="60480" cy="601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31680" y="3151080"/>
              <a:ext cx="60480" cy="5976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95280" y="3051000"/>
              <a:ext cx="60480" cy="5976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57080" y="3000240"/>
              <a:ext cx="61920" cy="5976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11320" y="2970000"/>
              <a:ext cx="60120" cy="5976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73120" y="2949480"/>
              <a:ext cx="61920" cy="5976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638160" y="2939760"/>
              <a:ext cx="60480" cy="601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001760" y="2928600"/>
              <a:ext cx="60480" cy="601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363920" y="2928600"/>
              <a:ext cx="61920" cy="6012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06280" y="2919240"/>
              <a:ext cx="49320" cy="50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68080" y="2919240"/>
              <a:ext cx="50760" cy="50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31680" y="2919240"/>
              <a:ext cx="50760" cy="50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95280" y="2919240"/>
              <a:ext cx="49320" cy="50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57080" y="2919240"/>
              <a:ext cx="51120" cy="50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11320" y="2919240"/>
              <a:ext cx="48960" cy="50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73120" y="2919240"/>
              <a:ext cx="50760" cy="50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38160" y="2919240"/>
              <a:ext cx="51120" cy="50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01760" y="2919240"/>
              <a:ext cx="50760" cy="50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63920" y="2919240"/>
              <a:ext cx="50760" cy="5040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85240" y="51796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50400" y="494640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50400" y="471456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50400" y="448272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50400" y="425124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50400" y="401940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50400" y="379692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50400" y="356544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50400" y="333036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50400" y="310032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93240" y="28684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136160" y="2666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97960" y="2666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61560" y="2666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25160" y="2666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86960" y="2666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941200" y="2666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03000" y="2666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668040" y="2666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31640" y="2666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53840" y="2666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38640" y="2514600"/>
              <a:ext cx="843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"p" parame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6200000">
              <a:off x="269280" y="3996360"/>
              <a:ext cx="832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Output Pow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6200000">
              <a:off x="729360" y="3987360"/>
              <a:ext cx="25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(dB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95480" y="3581280"/>
              <a:ext cx="1600200" cy="914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2981160" y="3657240"/>
              <a:ext cx="1465920" cy="672480"/>
              <a:chOff x="2981160" y="3657240"/>
              <a:chExt cx="1465920" cy="672480"/>
            </a:xfrm>
          </p:grpSpPr>
          <p:sp>
            <p:nvSpPr>
              <p:cNvPr id="160" name=""/>
              <p:cNvSpPr/>
              <p:nvPr/>
            </p:nvSpPr>
            <p:spPr>
              <a:xfrm>
                <a:off x="2981160" y="3790440"/>
                <a:ext cx="257400" cy="10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046320" y="3761640"/>
                <a:ext cx="57240" cy="56880"/>
              </a:xfrm>
              <a:custGeom>
                <a:avLst/>
                <a:gdLst/>
                <a:ahLst/>
                <a:rect l="l" t="t" r="r" b="b"/>
                <a:pathLst>
                  <a:path w="36" h="36">
                    <a:moveTo>
                      <a:pt x="18" y="0"/>
                    </a:moveTo>
                    <a:lnTo>
                      <a:pt x="36" y="18"/>
                    </a:lnTo>
                    <a:lnTo>
                      <a:pt x="18" y="36"/>
                    </a:lnTo>
                    <a:lnTo>
                      <a:pt x="0" y="1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314160" y="3657240"/>
                <a:ext cx="1132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utput Power at 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320280" y="3818880"/>
                <a:ext cx="103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B Compressio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311640" y="3980880"/>
                <a:ext cx="319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981160" y="4295160"/>
                <a:ext cx="257400" cy="1080"/>
              </a:xfrm>
              <a:prstGeom prst="line">
                <a:avLst/>
              </a:prstGeom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076560" y="4266720"/>
                <a:ext cx="47520" cy="4716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21000" y="4161960"/>
                <a:ext cx="997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aturation Poin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"/>
          <p:cNvSpPr/>
          <p:nvPr/>
        </p:nvSpPr>
        <p:spPr>
          <a:xfrm>
            <a:off x="5112360" y="3565440"/>
            <a:ext cx="3557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re is 1 dB Compression Poin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=2:    2 dB from Full Sat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=3:   1 dB from Full Sat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5E5A-8E77-48F0-A0D4-D25C1540AB5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A Back-off for 802.11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38080" y="2435400"/>
            <a:ext cx="4038840" cy="3028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600200" y="1933560"/>
            <a:ext cx="259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2.11 DSSS Bar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73600" y="588168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b m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038120" y="4016520"/>
            <a:ext cx="3049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63120" y="4191120"/>
            <a:ext cx="19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:  Rapp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83280" y="2362320"/>
            <a:ext cx="28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ust Back-off PA 3.7 d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from full saturation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eet spectral mas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C63C-5E25-43E6-ADC6-498569CEEC2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087960" cy="45655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SD for PA Input with BPSK Subcarr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66760" y="2133720"/>
            <a:ext cx="128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val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095880" y="2362320"/>
            <a:ext cx="2742480" cy="106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5105520" y="4267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82520" y="4729320"/>
            <a:ext cx="79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1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96E2-D27B-4C96-980F-0360B19B390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371600" y="1671480"/>
            <a:ext cx="6087960" cy="45658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SD for PA Output with BPSK Subcarr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560200" y="3124080"/>
            <a:ext cx="3256200" cy="3278880"/>
            <a:chOff x="5560200" y="3124080"/>
            <a:chExt cx="3256200" cy="3278880"/>
          </a:xfrm>
        </p:grpSpPr>
        <p:sp>
          <p:nvSpPr>
            <p:cNvPr id="185" name=""/>
            <p:cNvSpPr/>
            <p:nvPr/>
          </p:nvSpPr>
          <p:spPr>
            <a:xfrm flipH="1" flipV="1">
              <a:off x="6857640" y="4190760"/>
              <a:ext cx="6094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60200" y="609588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16.0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65680" y="312408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3.7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65680" y="411480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4.7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5943600" y="5105520"/>
              <a:ext cx="1522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324120" y="327672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65680" y="464832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8.2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6857640" y="464796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465320" y="502920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12.0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6019560" y="4495320"/>
              <a:ext cx="15238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5792400" y="236232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521480" y="1955880"/>
            <a:ext cx="996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ackof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om F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D157-03CD-4242-9DA8-E8DFA329FC1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SD for PA Output with BPSK Subcarr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370160" y="1671480"/>
            <a:ext cx="6087960" cy="456588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5560200" y="3124080"/>
            <a:ext cx="3256200" cy="3278880"/>
            <a:chOff x="5560200" y="3124080"/>
            <a:chExt cx="3256200" cy="3278880"/>
          </a:xfrm>
        </p:grpSpPr>
        <p:sp>
          <p:nvSpPr>
            <p:cNvPr id="200" name=""/>
            <p:cNvSpPr/>
            <p:nvPr/>
          </p:nvSpPr>
          <p:spPr>
            <a:xfrm flipH="1" flipV="1">
              <a:off x="6857640" y="4114440"/>
              <a:ext cx="609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60200" y="609588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16.0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65680" y="312408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3.4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65680" y="411480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4.6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5943600" y="5486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05720" y="3276720"/>
              <a:ext cx="7617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465680" y="464832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8.1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6629400" y="457164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65320" y="502920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12.0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5943240" y="4647960"/>
              <a:ext cx="16002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782680" y="236232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521480" y="1955880"/>
            <a:ext cx="996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ackof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rom F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BA3E-ACD2-4A5D-B739-8B45AB12AFA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1:38:26Z</dcterms:created>
  <dc:creator>Paul Chiuchiolo and Mark Webster</dc:creator>
  <dc:description/>
  <dc:language>en-US</dc:language>
  <cp:lastModifiedBy>Harry Worstell</cp:lastModifiedBy>
  <cp:lastPrinted>2000-05-04T15:07:54Z</cp:lastPrinted>
  <dcterms:modified xsi:type="dcterms:W3CDTF">2000-11-06T22:13:26Z</dcterms:modified>
  <cp:revision>21</cp:revision>
  <dc:subject/>
  <dc:title>Power Amp Effects for HRb OFDM</dc:title>
</cp:coreProperties>
</file>