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2AC-A90A-406C-9EC8-DF0C2999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675-F868-40AC-8A94-50DE9A53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5A29-22C1-4D09-8B5A-182F7D01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A98D-D81D-4B6B-BAEC-8AADB282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EF2-264B-4523-90D1-91433D7B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8090-CAA5-485B-ADD2-3A3AF5B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F392-20FB-4D73-9E54-D0ABEE4B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5FA0-4FCB-4BB1-8BCD-B4E789D5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57A-DDD9-4A77-94C8-55EE7C8F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F19-D8F9-4445-8A96-6910B9AE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153-0A2B-44B3-A176-C9E9F293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A1AE-EEEE-46FD-8009-F1E48CF8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F2D1AA-91DD-4EE0-9209-F316F6E41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nnelization f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D99-9461-4CB0-98E2-5D1BE8947BA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KEY CONCEPT:  OFDM Spectrum is Data-Rate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7960" y="2293920"/>
            <a:ext cx="5172120" cy="387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2240" y="1866960"/>
            <a:ext cx="29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pproximate 0.5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ementation L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 1000 byte 10% PER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WGN vs. PA Ba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2320" y="3297240"/>
            <a:ext cx="221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Rate       PA 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6 Mbps     3.7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2             3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.4            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.4            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6194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3148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2240" y="514368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nce, adjacen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terference level is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ata-rate 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0D3E-242C-445B-A713-5DA4CDAB284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b Spectrum vs. HRb OFDM Spectrum at 3.7 dB PA Back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2287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9240" y="17524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 DSSS B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5040" y="17524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4520" y="2841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222720"/>
            <a:ext cx="914400" cy="12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57240" y="3222720"/>
            <a:ext cx="3049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8280" y="5334120"/>
            <a:ext cx="67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QUESTIO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w does the adjacent channel interferenc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7B4-4F83-435F-B853-523218617A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mulation Description:  Tx Baseband Processor to Rx Baseband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11320" y="3352680"/>
            <a:ext cx="39625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905120" y="1905120"/>
            <a:ext cx="5562360" cy="990360"/>
            <a:chOff x="1905120" y="1905120"/>
            <a:chExt cx="5562360" cy="990360"/>
          </a:xfrm>
        </p:grpSpPr>
        <p:sp>
          <p:nvSpPr>
            <p:cNvPr id="118" name=""/>
            <p:cNvSpPr/>
            <p:nvPr/>
          </p:nvSpPr>
          <p:spPr>
            <a:xfrm>
              <a:off x="1905120" y="190512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5880" y="21337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20574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8000" y="22096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5720" y="220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190512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20574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9800" y="22096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7880" y="21337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2438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20574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14840" y="205740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525320" y="411480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040" y="2819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8195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CA62-1A95-4550-8896-65B01E34DA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TX Signal Characteriza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sing DSSS Barker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" y="346716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905120" y="2171880"/>
            <a:ext cx="5562360" cy="990360"/>
            <a:chOff x="1905120" y="2171880"/>
            <a:chExt cx="5562360" cy="990360"/>
          </a:xfrm>
        </p:grpSpPr>
        <p:sp>
          <p:nvSpPr>
            <p:cNvPr id="143" name=""/>
            <p:cNvSpPr/>
            <p:nvPr/>
          </p:nvSpPr>
          <p:spPr>
            <a:xfrm>
              <a:off x="1905120" y="217188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5880" y="24004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32416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8000" y="24764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5720" y="2476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532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217188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232416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9800" y="24764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7880" y="24004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2705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232416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4840" y="232416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581280" y="2933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285768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88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F117-49F4-42E9-BC6B-D3B930ADDF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Adjacent Channel Rejec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easured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316224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31622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9200" y="594360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4.3 dB Adjacent Channel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95280" y="1790640"/>
            <a:ext cx="5562360" cy="990360"/>
            <a:chOff x="1295280" y="1790640"/>
            <a:chExt cx="5562360" cy="990360"/>
          </a:xfrm>
        </p:grpSpPr>
        <p:sp>
          <p:nvSpPr>
            <p:cNvPr id="169" name=""/>
            <p:cNvSpPr/>
            <p:nvPr/>
          </p:nvSpPr>
          <p:spPr>
            <a:xfrm>
              <a:off x="1295280" y="179064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20192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5640" y="194292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8160" y="20952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776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880" y="20952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336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48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28840" y="179064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440" y="194292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9960" y="20952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56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8040" y="20192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2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194292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05000" y="194292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4114800" y="262908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67280" y="270504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0880" y="1295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9E43-BFF9-41E6-A774-1D850EC209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HRb TX Signal Characteriza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sing OFDM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8320" y="3409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340992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905120" y="2133720"/>
            <a:ext cx="5562360" cy="990360"/>
            <a:chOff x="1905120" y="2133720"/>
            <a:chExt cx="5562360" cy="990360"/>
          </a:xfrm>
        </p:grpSpPr>
        <p:sp>
          <p:nvSpPr>
            <p:cNvPr id="194" name=""/>
            <p:cNvSpPr/>
            <p:nvPr/>
          </p:nvSpPr>
          <p:spPr>
            <a:xfrm>
              <a:off x="1905120" y="213372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372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5880" y="23623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286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8000" y="2438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5720" y="24382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213372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2286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9800" y="2438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940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7880" y="23623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2286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4840" y="228600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5812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2819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088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FBC-3E22-4ADD-9751-3E9E3726E1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Adjacent Channel Rejec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mpirically Measured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8320" y="3067200"/>
            <a:ext cx="358128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1676520" y="1828800"/>
            <a:ext cx="5562360" cy="990360"/>
            <a:chOff x="1676520" y="1828800"/>
            <a:chExt cx="5562360" cy="990360"/>
          </a:xfrm>
        </p:grpSpPr>
        <p:sp>
          <p:nvSpPr>
            <p:cNvPr id="219" name=""/>
            <p:cNvSpPr/>
            <p:nvPr/>
          </p:nvSpPr>
          <p:spPr>
            <a:xfrm>
              <a:off x="1676520" y="182880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7280" y="205740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198108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69400" y="2133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7120" y="213336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182880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38680" y="198108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41200" y="2133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9280" y="205740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236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852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198108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86240" y="198108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>
            <a:off x="4495320" y="2666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248160" y="27432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0760" y="57913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6.1 dB Adjacent Channel Rejection:  Worst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636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C37-DDDF-488E-88F7-34869FCC84B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Rb OFDM Adjacent Channel Performance vs. 802.11b Signal’s Adj. Channe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5400" y="2216160"/>
            <a:ext cx="25444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 BO        Adj Chan R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7  dB        26.1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              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4               3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2               3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             4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               4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168264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038480" y="4121280"/>
            <a:ext cx="411480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3400" y="198756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11840" y="6064200"/>
            <a:ext cx="58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Operational Zone:      13.2   26.4  39.3       59.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2161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5210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5760" y="419724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. Ch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560" y="206388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 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324480" y="3663360"/>
            <a:ext cx="7617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810240" y="2215440"/>
            <a:ext cx="1066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360" y="4449600"/>
            <a:ext cx="236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an trade rang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djacen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jection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9C9F-38BC-4DB9-965A-5643CDDAB3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quivalent data rates to 802.11b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 backoff, HRb OFDM creates 8 dB worse adjacent channel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higher data rates, HRb OFDM creates no-worse adjacent channel interference than 802.11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 HRb adjacent channel interference performance is better than 802.11a’s and HIPERLAN 2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DM is a viable candidate for H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1984-2D16-4D37-8E1C-77DC100164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 Black"/>
              </a:rPr>
              <a:t>HRb OFDM Channe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USA, the channel spacing typically used is 25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the 2.4 GHz ISM band accommodates 3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SSS and 802.11b have the same transmit spectral m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 recommends the equivalent 802.11a mask for use with HRb OFDM with 25 MHz channel sp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DM mask is less strin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mpact on (existing) 802.11b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estion is analyzed by this sub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D59-7E0D-47B2-BE69-3FF388FC4F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Recommended HRb OFDM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2.4 GHz ISM Band Channe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3241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36957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3526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0673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3701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3701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4080" y="38545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5200" y="38545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6120" y="3352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8800" y="490536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me as 802.1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BE6-831B-48B8-9E32-1B27AAA655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Co-Channel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roughly the same as 802.11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-error-rate behavior is characterized using SNR curves for AWGN channel, where SNR becomes S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AWGN SNR curves.  Not repeat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4C4-8AEF-4B88-A309-A5F0A3FEEC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802.11b Spectral Mask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and PA Back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685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218448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 DSSS B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5200" y="25909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802.11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93720" y="302256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55400" y="43909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:  Rapp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560" y="256212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ust Back-off PA 3.7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rom full saturatio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et spectral m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C19-D960-4409-827A-9EBE3F7480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5080" y="1752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Recommended HRb OFDM Mask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verbounds Worst-Cas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585400" y="3200400"/>
            <a:ext cx="3256200" cy="3278880"/>
            <a:chOff x="5585400" y="3200400"/>
            <a:chExt cx="3256200" cy="3278880"/>
          </a:xfrm>
        </p:grpSpPr>
        <p:sp>
          <p:nvSpPr>
            <p:cNvPr id="75" name=""/>
            <p:cNvSpPr/>
            <p:nvPr/>
          </p:nvSpPr>
          <p:spPr>
            <a:xfrm flipH="1" flipV="1">
              <a:off x="6882840" y="426708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85400" y="6172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0880" y="32004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90880" y="41911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968800" y="518184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349320" y="33530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880" y="472464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882840" y="472428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0520" y="51055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6044760" y="457164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198920" y="207648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A Ba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rom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800" y="2743200"/>
            <a:ext cx="16754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2286000"/>
            <a:ext cx="124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967-6F15-4542-95E7-0C54FC6F889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Ke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recommended HRb OFDM spectral mask differs from 802.11b’s spectral mask, what is the adjacent-channel-interference impact on existing 802.11b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A68-D942-47F7-A962-A5004DF6B3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ow Does Adjacent Channel Interference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14800" y="1523880"/>
          <a:ext cx="34653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523880"/>
                    <a:ext cx="34653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870480" y="315288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ll layou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frequency re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C742-27ED-4EEC-A2A0-E174AC7C0D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ow Does Adjacent Channel Interference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51559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1559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16440" y="1905120"/>
            <a:ext cx="275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TERFERENCE LEVEL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PENDS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paration d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ansmit p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ansmit spectr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ceive filte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480" y="5381640"/>
            <a:ext cx="52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TA1 and STA2 are on adjacent chan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TA1 is transmit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350-D493-4852-9486-8FBC3A3452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</dc:creator>
  <dc:description/>
  <dc:language>en-US</dc:language>
  <cp:lastModifiedBy>Harry Worstell</cp:lastModifiedBy>
  <cp:lastPrinted>2000-05-04T15:07:54Z</cp:lastPrinted>
  <dcterms:modified xsi:type="dcterms:W3CDTF">2000-11-06T22:13:59Z</dcterms:modified>
  <cp:revision>28</cp:revision>
  <dc:subject/>
  <dc:title>Channelization for HRb OFDM</dc:title>
</cp:coreProperties>
</file>