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8.wmf" ContentType="image/x-wmf"/>
  <Override PartName="/ppt/media/image13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E99-5CC0-4DA2-8909-A4D8B5E6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4D28-ADC2-4BE7-827F-EB188539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24A-DD9F-43DF-818C-0D7686106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46BB-FBF6-44FF-8558-6F6D4A8A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656-4ABC-439E-B9B9-7A660C2E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489-2BBB-4ECA-B302-78BC99D6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AD8-50FD-402D-8F40-FCA305EE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63E-DD21-4321-A2AF-A1438408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05DF-5DF2-4879-848B-E36C5D88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70D4-E099-4A0B-A420-89F0122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C1F0-DAF7-413A-A1D4-DF638A61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DC5-FB96-4146-85EB-6851C676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Chiuchiolo and 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142F709-5F53-4E77-82A9-DAE6C7055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hase Noise Sensitivity of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ul Chiuchiolo and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DEA-7C70-47B3-81F2-EE7C3BF203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370160" y="1754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for 26.4 Mbp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09000" y="2666880"/>
            <a:ext cx="912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2CD-5641-499A-88E6-A1FB75C1878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for 59.4 Mbp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70160" y="1754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409000" y="2666880"/>
            <a:ext cx="912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6DA-B920-45B0-8C0B-3E665885E60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0% PER Degra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9280" y="2936880"/>
            <a:ext cx="549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e Mbps     1 deg          2 deg         4 d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6                ~ 0 dB        ~ 0 dB       0.1 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2              ~ 0                 0.1           0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.4              ~ 0                 0.2           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.4                0.2               1.5             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CBF-13A2-4A3E-B558-03047C4F7C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noise performance sh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carrier amp/phase was est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noise tracking techniques not exam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looks accep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EEB-198B-4F5D-9552-3B1FEA2BFD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-Ideal PA Effects for OFD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 with Phase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kHz 3dB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, 2 and 4 degrees 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model in document 296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6, 13.2, 26.4 and 59.4 Mbps t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byte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carrier Amp/Phz Estimated over Packe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on-ide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ing loop disab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163-ABC5-4C20-9364-1FFBF634BAF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asis of Phase Nois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09240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nd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760" y="309240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6040" y="325584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0440" y="309240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3397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3397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520" y="41752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st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25720" y="417528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3387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4175280"/>
            <a:ext cx="1006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4479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44798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6800" y="160020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7820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78200" y="1371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1000" y="167652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5480" y="1725480"/>
            <a:ext cx="98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Bc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3280" y="121932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257800" y="1599840"/>
            <a:ext cx="571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91040" y="13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91040" y="13716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1337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5520" y="1600200"/>
            <a:ext cx="78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51400" y="11430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7696080" y="35654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96160" y="333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96160" y="33368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203600" y="40068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6200" y="373392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91280" y="30034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600" y="3581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760" y="32418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ct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880" y="4191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o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44280" y="28954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960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55000" y="10666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0716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5791320" y="53784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91040" y="5149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91040" y="5149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46200" y="563868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5520" y="5181480"/>
            <a:ext cx="7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s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6160" y="48164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539424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9160" y="47084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5013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71880" y="52261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1880" y="5226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360" y="52578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66640" y="48927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09680" y="5470560"/>
            <a:ext cx="76212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14600" y="2590920"/>
            <a:ext cx="60948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935000">
            <a:off x="4648320" y="2590920"/>
            <a:ext cx="60948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49528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9461000">
            <a:off x="4267080" y="495252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00A7-F847-416F-BD6C-492D87D2A7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quivalent Noise BW of 1-pole Butterworth Filter used for phase noi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219320" y="228564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28600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371600" y="2285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228600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23880" y="228564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28600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143000" y="236196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3772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828800" y="2819520"/>
            <a:ext cx="30384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819520"/>
            <a:ext cx="30456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0760" y="1943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3040" y="2635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666880" y="2057400"/>
          <a:ext cx="1371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57400"/>
                    <a:ext cx="1371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2666880" y="2990880"/>
          <a:ext cx="36576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990880"/>
                    <a:ext cx="3657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2666880" y="3720960"/>
          <a:ext cx="3505320" cy="90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720960"/>
                    <a:ext cx="35053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143000" y="5122800"/>
          <a:ext cx="6553080" cy="104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5122800"/>
                    <a:ext cx="655308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990720" y="4800600"/>
            <a:ext cx="7391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F37-BD61-4501-9483-7ADA71BCF1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mpute RMS Phase Noise as Function of Flat SSB Power P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ssb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d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666880" y="295596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66960" y="27273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66960" y="27273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74400" y="33973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800" y="318456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62080" y="23940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15080" y="228600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8480" y="284328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343400" y="2666880"/>
          <a:ext cx="20448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666880"/>
                    <a:ext cx="2044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343400" y="3429000"/>
          <a:ext cx="2286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29000"/>
                    <a:ext cx="2286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2438280" y="4495680"/>
          <a:ext cx="472464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495680"/>
                    <a:ext cx="472464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99960" y="11160"/>
          <a:ext cx="11268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960" y="1116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62520" y="5715000"/>
          <a:ext cx="152388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5715000"/>
                    <a:ext cx="152388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57A-5948-426C-B464-5B8C32AF85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se Noise Utility: BW = 10 KHz and RMS PN = 1 deg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7520" y="5624640"/>
            <a:ext cx="623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RMS phz error (degrees): 1.805916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imated RMS phz error (deg) using 100000 samples: 1.732820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920" y="20955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14DB-D577-4B30-A8DE-7CB6F9F991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ase Noise with 64 QAM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(10 KHz loop bandwid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44240" y="19051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degree 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1520" y="190512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 degrees 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5560" y="56768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.6 dB S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42480" y="567684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.5 dB S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2552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0" y="25146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5483-C353-448D-8037-2C2768D101C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for 6.6 Mbp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0160" y="1754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09000" y="2666880"/>
            <a:ext cx="912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A92-531D-4E05-83AD-663C634F0D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0160" y="175428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ER for 13.2 Mbps with Phase No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09000" y="2666880"/>
            <a:ext cx="9122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738-B19D-4FB0-B7CC-16FEAF1BC6C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13:56:22Z</dcterms:created>
  <dc:creator>Paul Chiuchiolo and Mark Webster</dc:creator>
  <dc:description/>
  <dc:language>en-US</dc:language>
  <cp:lastModifiedBy>Harry Worstell</cp:lastModifiedBy>
  <cp:lastPrinted>2000-05-04T15:07:54Z</cp:lastPrinted>
  <dcterms:modified xsi:type="dcterms:W3CDTF">2000-11-06T22:14:32Z</dcterms:modified>
  <cp:revision>15</cp:revision>
  <dc:subject/>
  <dc:title>Phase Noise Sensitivity of HRb OFDM</dc:title>
</cp:coreProperties>
</file>