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B578-7C02-493F-8669-2125FBB3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2460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DF48-C856-4847-A1FA-D087EE82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2460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9AD-3FA0-4C41-86BE-FCE07D11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2460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F78-3D20-4764-BA1B-8777F7B9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2460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F69-99A4-479C-9FE2-6E7A650E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2460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FFB-F790-4D82-8D78-D0235C38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2460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E9D-4632-40D2-9B0A-1BDF863F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2460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9EE4-DD20-4D44-911E-45363D4C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FAB3-9794-489D-BBF0-9ED444BC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2460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8C8-14CA-4416-8525-C8B7F7E3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2460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186-E66F-41F8-A2ED-B3DA6639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2460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D585-BFE7-4B21-809B-A352F5FA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1905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9200" y="6474960"/>
            <a:ext cx="35812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Halford, P. Chiuchiolo, G. Dooley, and M. Web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093249D-E50A-4F61-91C9-E1E04BA60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mplementation and Complexity Issues for OFD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ve Hal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 Chiuchi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enn Doo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 Web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lm Bay, 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4C32-2B18-4C17-8D4D-8B50F99DA69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685800"/>
            <a:ext cx="60958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5 Time to Market Issu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FDM is well established as a viable waveform for W-LAN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ure techn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n to be practical for ASIC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 technology exists to support at 2.4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andards process can be accelerated by adopting large portions of existing 802.11a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CC issue will drive the time to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FB0-04EC-4DA4-BAD8-48411A2D53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line of Proposal Present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g Regulatory Approval Plan  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 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erview of OFDM for High 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use of 802.11b Preambles with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ltra-short Preamble with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DM System Performance 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Am Effects for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nnelization for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ase Noise Sensitivity for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mplementation and Complexity Issues for OFDM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  Speaker: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OFDM for the High Rate 802.11b Extension?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Speaker: 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313A-6CA8-4460-9F08-C9DC079D58D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685800"/>
            <a:ext cx="78022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line of Implementation Present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1 Main Issue for Complexity: Eq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2 Baseband Complex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3 Power Consum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4 RF/IF Complex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5 Time to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76A-41B2-4AAF-B74D-0CA85C71EC6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1560" y="2362320"/>
            <a:ext cx="7084800" cy="243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685800"/>
            <a:ext cx="800100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95240"/>
            <a:ext cx="8153280" cy="2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1 Main Issue for Complexity: Equaliz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issue is complexity of Equalizer vs. F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2367000"/>
            <a:ext cx="650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One of the main reasons to use OFDM is its ability to deal with large delay spreads with a reasonable implementation complexity.  In a single-carrier system, the implementation complexity is dominated by equalization, which is necessary when the delay spread is larger than about 10% of the symbol duration.  OFDM does not require an equalizer.  Instead, the complexity of an OFDM system is largely determined by the FFT, which is used to demodulate the various subcarriers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19160" y="5370480"/>
            <a:ext cx="759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ote from pg. 48 of  R. Van Nee &amp; R. Prasad,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FDM for Wireless Multimedia Communicatio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Artech House Publishers, Boston, MA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126-C957-49F8-9BD4-5A996FCEAE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" y="1676520"/>
            <a:ext cx="7467480" cy="167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3809880"/>
            <a:ext cx="6934320" cy="228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685800"/>
            <a:ext cx="73911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1.1 Equalizer and FFT Complex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3200" y="6095880"/>
            <a:ext cx="842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** Based on R. Van Nee &amp; R. Prasad, 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OFDM for Wireless Multimedia Communications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, Artech House Publishers, Boston, MA, 200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981080"/>
            <a:ext cx="82296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64 point FFT using radix-4 requires 96 complex multipl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Equalizer then requires 48 complex multipl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ould simplify since all that is really needed is a phase rotation &amp; soft-decision sc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erform once every 80*(1/22 x 10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) = 3.63 x 10 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imes New Roman"/>
              </a:rPr>
              <a:t>-6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sec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Equivalent to  (4 x 144)/(3.63 x 10 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imes New Roman"/>
              </a:rPr>
              <a:t>-6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) = 158.4 x 10</a:t>
            </a:r>
            <a:r>
              <a:rPr b="1" lang="en-US" sz="16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 real multiplies per 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4191120"/>
            <a:ext cx="685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Linear Equalizer of length L requires 4*L complex multiplies per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umber of real multiplies = (4*L*11 x 10</a:t>
            </a:r>
            <a:r>
              <a:rPr b="1" lang="en-US" sz="1600" spc="-1" strike="noStrike" baseline="30000">
                <a:solidFill>
                  <a:srgbClr val="008000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 ) = L * (44 x 10</a:t>
            </a:r>
            <a:r>
              <a:rPr b="1" lang="en-US" sz="1600" spc="-1" strike="noStrike" baseline="30000">
                <a:solidFill>
                  <a:srgbClr val="008000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Length L must be less than (158.4/44) = 3.6 to match complexity of 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Using pulse shaping makes this worse due to matched filter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Doesn’t include the complexity of estimating the equalizer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8000"/>
                </a:solidFill>
                <a:latin typeface="Times New Roman"/>
              </a:rPr>
              <a:t>Matrix inverse proportional to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ternative is a full Viterbi Equalizer with channel matched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3400" y="3809880"/>
            <a:ext cx="49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Times New Roman"/>
              </a:rPr>
              <a:t>Single Carrier Linear Equalizer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55400" y="1676520"/>
            <a:ext cx="334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FFT for OFDM Eq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9E38-3864-4D81-93E0-AB75EB5FD27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8600" y="1447920"/>
            <a:ext cx="8610480" cy="4800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685800"/>
            <a:ext cx="73911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2 Baseband Complexity 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830240"/>
          <a:ext cx="8040600" cy="36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30240"/>
                    <a:ext cx="804060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3ED3-E948-43D6-920F-92D53F504B0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52280" y="1752480"/>
            <a:ext cx="883944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  <a:effectLst>
            <a:outerShdw dist="107932" dir="189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685800"/>
            <a:ext cx="708660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2 Relative Complexity Estim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2362320"/>
          <a:ext cx="8229600" cy="282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609480" y="5334120"/>
            <a:ext cx="480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TE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Estimates for the Basic CCK Demodulator &amp; Basic CCK Demodulator with Equalizer are based on Intersil Baseband processors 3860B and 38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9680" y="1832040"/>
            <a:ext cx="826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omplexity (gate count) relative to a Basic CCK Demod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06B-D405-4C6F-AED3-6E7EF545563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0720" y="3809880"/>
            <a:ext cx="7543800" cy="2438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685800"/>
            <a:ext cx="70866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3 Power Consumption for OFD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14400" y="2030400"/>
          <a:ext cx="7238880" cy="139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30400"/>
                    <a:ext cx="723888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516040" y="3809880"/>
            <a:ext cx="45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8000"/>
                </a:solidFill>
                <a:uFillTx/>
                <a:latin typeface="Times New Roman"/>
              </a:rPr>
              <a:t>Assumptions &amp; Notes about Power Est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4191120"/>
            <a:ext cx="67816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0.35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 current estimates based on Intersil 3863 baseband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0.18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 current estimates based on 40% reduction from 0.35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 for digital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CK functions can be powered down during OFDM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60% of current during transmit &amp; 30% of current during receive is in ana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will not change for OF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will not change at 0.18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oes not include power for MAC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36200" y="1523880"/>
            <a:ext cx="62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Power Estimates for Baseband Processor with CCK &amp; OF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80EC-D301-4AA7-AD63-01ABCA529F6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19320" y="4952880"/>
            <a:ext cx="662940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3336840"/>
            <a:ext cx="73915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685800"/>
            <a:ext cx="70866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4 RF/IF  Design Issues for OFD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DM has different spectrum than C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gher order modulations (e.g., 64-QAM) will require “cleaner” RF front 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7800" y="3362400"/>
            <a:ext cx="72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we re-use current 802.11b RF front-en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53320" y="397656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4952880"/>
            <a:ext cx="623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ailed Simulations of Intersil’s Prism II indicate that 26.4 Mbps &amp; 39.6 Mbps operate within 802.11a requirements for both transmitter &amp; receiver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00B-9BD8-4687-B299-92836164DC0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04:14:39Z</dcterms:created>
  <dc:creator>Steve Halford, Paul Chiuchiolo, Glenn Dooley, and Mark Webster</dc:creator>
  <dc:description/>
  <dc:language>en-US</dc:language>
  <cp:lastModifiedBy>Harry Worstell</cp:lastModifiedBy>
  <cp:lastPrinted>2000-05-04T15:07:54Z</cp:lastPrinted>
  <dcterms:modified xsi:type="dcterms:W3CDTF">2000-11-06T22:15:10Z</dcterms:modified>
  <cp:revision>36</cp:revision>
  <dc:subject/>
  <dc:title>396 Implementation and Complexity Issues for OFDM</dc:title>
</cp:coreProperties>
</file>