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84B0A-3DDD-4621-A5D3-140984DB817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904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AF7C0-DDDC-442C-AA9E-3F8229BA84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8816760"/>
            <a:ext cx="3005280" cy="463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29040" y="0"/>
            <a:ext cx="3005280" cy="463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70000" y="70488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25560" y="4408200"/>
            <a:ext cx="5083200" cy="4173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designed to facilitate the creation of presentations within Intersil graphic guidelines. These presentations may address an external audience, as in a product announcement or industry event, or an internal one, as in seminars or executive committee meetings.  In any case, it is important to adhere to a corporat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rovides standards and guidelines to help project Intersil’s corporate identity.  Projecting visual continuity is a key to the success of the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s based on the capabilities of Microsoft PowerPoint, one of our corporate standard software packages. The following slides and script describe the graphic standards and guidelines for these present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tyle Gu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will address four key are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yout and 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pecific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placement of text, logo, and graphic treatments (symbols, bar charts and table char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Guidelin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using photography and illu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18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mmended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sage and standard pal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E2C8-E771-4D08-8580-834E76E5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8812-6B1F-4C28-9067-0725B750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DB19-0D4B-4800-9AA5-4F393B419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64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E26-A924-4E10-84EE-D27C0B3E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EFC-C998-4BB7-9BB9-FDE0CDE6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78E0-5EB0-44FC-B42E-B16EC07C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B260-D430-4891-B2BE-00CA4F35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1E1-3F5C-4642-84D3-D68D4DAA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B34-841F-4697-867D-EB3DA87B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49C-0ACB-4B5C-8143-9992D337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64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367-7D90-4449-B8FA-0A71C95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64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956-1C06-461D-B1FC-C51F28A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CD7A773-37C7-4281-A565-5B5BD1646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2285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73B-9B31-4F16-9E6F-4349773E997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s a powerful and prove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independently selected by 802.11a and Hiper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provides excellent performance in multipath and 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leaving and error coding result in extremely robus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carrier systems do not scale well for very high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lizer complexity fatally flawed HiperLAN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repeat this mistak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E3B-AADD-4190-89DF-6C3DDD5A196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demand for bandwidth is insat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 Mbps is better, but it is insufficient for many applic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development is raising market expec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can scale data rates to &gt;54 Mb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ough bandwidth to remain compet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ough to serve multimedia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want to go through standards process again in two yea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when consumers demand &gt;20 Mb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few years, consumers will demand 54 Mbps, they don’t care about the frequency of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EDE-EF35-4D99-8ECA-0FD8174D19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OFDM in the 2.4 GHz Ba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grade 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is already used at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a and HiperLA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OFDM for 2.4 GHz band provides upgrade path to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Band radios become poss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infrastructure does not become str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band remains competitive in terms of data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radio can work regardless of infrastructu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customers, good for suppli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4F9-3BFE-4E9E-B4E0-E18B533E09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08992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we DON’T pick OFD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body else wil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chnology i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ates are 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 in multipath and AWFG i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wh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, proprietary solutio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will not be a leader in 2.4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won’t care about 22 Mbps if 54 Mbps is available from other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concede the 2.4 GHz band to non-802.11 sol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DAC-7DD0-4D03-A98E-A5C1C4CD31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ing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089920" cy="441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long-term think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ive years, consumers will be demanding higher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long do we think 22 Mbps will be competi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, do we want to do this again next ye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pick OFDM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 GHz band remains v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does not “open the door” to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 Band radios will extend the life of 2.4 GHz infrastru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19B-DD72-4DE9-A6AF-5D412BBE8D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089920" cy="28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not get a high rate (&gt;20 Mbps) solution approved in the 2.4 GHz band without a rul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694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is the right choice right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can be in place when FCC gives green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94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-2192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is the right choice 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multipath and AWGN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75200" indent="-1828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grade path to 5 GHz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D459-222F-4F69-B0E8-EE25D67FC2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05:48:05Z</dcterms:created>
  <dc:creator>Jim Zyren</dc:creator>
  <dc:description/>
  <dc:language>en-US</dc:language>
  <cp:lastModifiedBy>Harris Semiconductor</cp:lastModifiedBy>
  <cp:lastPrinted>1998-02-10T13:28:06Z</cp:lastPrinted>
  <dcterms:modified xsi:type="dcterms:W3CDTF">2000-11-06T21:21:13Z</dcterms:modified>
  <cp:revision>5</cp:revision>
  <dc:subject/>
  <dc:title>Why OFDM for the High Rate 802.11b Extension?</dc:title>
</cp:coreProperties>
</file>