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D9999A-8764-4AFE-B2E8-01F6E7338D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F457D7-4F81-4923-9ADB-98F4E200EA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25560" y="4408200"/>
            <a:ext cx="508320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designed to facilitate the creation of presentations within Intersil graphic guidelines. These presentations may address an external audience, as in a product announcement or industry event, or an internal one, as in seminars or executive committee meetings.  In any case, it is important to adhere to a corporat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vides standards and guidelines to help project Intersil’s corporate identity.  Projecting visual continuity is a key to the success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based on the capabilities of Microsoft PowerPoint, one of our corporate standard software packages. The following slides and script describe the graphic standards and guidelines for these present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address four key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yout an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ecif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placement of text, logo, and graphic treatments (symbols, bar charts and table ch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Guidelin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sing photography and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sage and standard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F83-FD89-4A0B-A04A-70B2DE29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C646-9EFA-4589-A430-8BFAC863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ED3-1ED2-4DAF-AB7F-99318291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34A-3798-4072-885D-C2FBBFB6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796-5C88-48C0-B6DB-15067623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4F1A-16E8-4B90-BB3D-D0A91559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E2C-C93A-48BD-9704-04EB120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B7E-81EB-40AF-88F4-FFA862F0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D9C-B8BD-4EBD-90F4-2C1C34A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A7C4-9FC7-4C81-ACD1-E6FF7C82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DA6-AD9E-4335-A9F9-670FC0E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E19-19F8-470C-9E64-0912F10D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B829E0-458E-4CEC-869A-2EA8296F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2590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29760" y="51055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m Zyren, 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D27-2801-47CC-B55E-55F768CF332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 powerful and prove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independently selected by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provides excellent performance in multipath and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ing and error coding result in extremely robu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arrier systems do not scale well for very hig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er complexity fatally flawed HiperLAN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repeat this mista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E9D-06D4-4DB8-A832-CC38A62AF0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demand for bandwidth is insat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 Mbps is better, but it is insufficient for many appl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development is raising market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can scale data rates to &gt;54 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bandwidth to remain 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to serve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go through standards process again in two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when consumers demand &gt;20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ew years, consumers will demand 54 Mbps, they don’t care about the frequency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24B1-F541-410A-A887-004CF2EC74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grad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lready used at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OFDM for 2.4 GHz band provides upgrade path to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become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infrastructure does not become str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band remains competitive in terms of data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radio can work regardless of infrastruc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customers, good for suppl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6BE-6957-4E14-AE17-AF1BA33C3A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CC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l systems with &gt;20 Mbps in current channel width have regulatory approval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ublic statements clearly indicate that spectral efficiency is a major iss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CC is publicly considering revision of 15.2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y forum to be held in Jan-Feb time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has requested input from IEEE 802.11/.15/.16 regarding issues to be placed on forum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wants to work with industry to make ALL proposed high rate waveforms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HG has drafted FCC response to be considered at 802.11 plenary tomo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DM on same regulatory footing as other propos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9D9-BA47-44C5-B9CB-4FFA6CD4D8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08992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DON’T pick OFD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body else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chnology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ates are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in multipath and AWGN i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, proprietary solutio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companies are developing OFDM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will not be a leader in 2.4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won’t care about 22 Mbps if 54 Mbps is available from other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oncede the 2.4 GHz band to non-802.11 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F35-355F-496A-A2EF-ADA23136DC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08992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ong-term think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ive years, consumers will be demanding 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 we think 22 Mbps will be competi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do we want to do this again next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ick OFD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 GHz band remains v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oes not “open the door” to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will extend the life of 2.4 GHz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284-512A-4003-8F12-8BFBAF807D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089920" cy="28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not get a high rate (&gt;20 Mbps) solution approved in the 2.4 GHz band without a ru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right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an be in place when FCC gives gree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ultipath and AWG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ath to 5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682-0AF5-4B50-AE0C-C691B41E178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5:48:05Z</dcterms:created>
  <dc:creator>Jim Zyren</dc:creator>
  <dc:description>Jim Zyren, Intersil</dc:description>
  <cp:keywords>November 2000</cp:keywords>
  <dc:language>en-US</dc:language>
  <cp:lastModifiedBy>Harris Semiconductor</cp:lastModifiedBy>
  <cp:lastPrinted>1998-02-10T13:28:06Z</cp:lastPrinted>
  <dcterms:modified xsi:type="dcterms:W3CDTF">2000-11-09T14:32:26Z</dcterms:modified>
  <cp:revision>8</cp:revision>
  <dc:subject/>
  <dc:title>Why OFDM for the High Rate 802.11b Extension</dc:title>
</cp:coreProperties>
</file>