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51C81-2A69-47B1-B05F-07D531C48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C9008-B425-4878-9DA3-613DC5B42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BDE65B-F0D3-4FA6-95E8-83CF98A48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39CE7C-E77D-4250-AE04-0A1C28C6B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895D7-C0EE-466B-BDC1-992EA01D6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73FD-31B7-41E1-93F6-0852F4F24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3FF03-3460-4F7C-9539-087D8D7F9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ED61E-62EF-4E2A-B93F-E04C7203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BE87E-5641-41DA-B160-343D2920F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B7405-62A3-4419-945A-38702F00A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FAFF-1D57-4292-9007-5F273AD4C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A884-004B-40A1-8266-8498D1B4C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8C0675-55A7-4AE6-B290-42D0D42A3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0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ent Policy Review</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g, Chairper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emake@ti.co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A855B85-6FA3-4572-A1A0-F5BE5C71B6AE}"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om IEEE SA Standards Board Bylaws – October 1999</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 Patents</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tandards may include the known use of patent(s), including patent applications, if there is technical justification in the opinion of the standards-developing committee and </a:t>
            </a:r>
            <a:r>
              <a:rPr b="0" lang="en-US" sz="1400" spc="-1" strike="noStrike" u="sng">
                <a:solidFill>
                  <a:srgbClr val="000000"/>
                </a:solidFill>
                <a:uFillTx/>
                <a:latin typeface="Times New Roman"/>
              </a:rPr>
              <a:t>provided the IEEE receives assurance from the patent holder that it will license applicants under reasonable terms and conditions for the purpose of implementing the standard</a:t>
            </a:r>
            <a:r>
              <a:rPr b="0" lang="en-US" sz="1400" spc="-1" strike="noStrike">
                <a:solidFill>
                  <a:srgbClr val="000000"/>
                </a:solidFill>
                <a:latin typeface="Times New Roman"/>
              </a:rPr>
              <a:t>. This assurance shall be provided without coercion and prior to approval of the standard (or reaffirmation when a patent becomes known after initial approval of the standard). This assurance shall be a letter that is in the form of eithe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 general disclaimer to the effect that the patentee will not enforce any of its present or future</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ent(s) whose use would be required to implement the proposed IEEE standard against any</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son or entity using the patent(s) to comply with the standard </a:t>
            </a:r>
            <a:endParaRPr b="0" lang="en-US" sz="1400" spc="-1" strike="noStrike">
              <a:solidFill>
                <a:srgbClr val="000000"/>
              </a:solidFill>
              <a:latin typeface="Times New Roman"/>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A statement that a license will be made available to all applicants without compensation or unde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sonable rates, with reasonable terms and conditions that are demonstrably free of any unfair</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rimination</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E6C8A1D-9403-4472-96AE-61460F5CD3B2}"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685440"/>
            <a:ext cx="9144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om IEEE-SA Standards Board Operations Manual – Approved January 2000</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3.2 Submitt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shall request that known patent holders </a:t>
            </a:r>
            <a:r>
              <a:rPr b="0" lang="en-US" sz="2400" spc="-1" strike="noStrike" u="sng">
                <a:solidFill>
                  <a:srgbClr val="000000"/>
                </a:solidFill>
                <a:uFillTx/>
                <a:latin typeface="Times New Roman"/>
              </a:rPr>
              <a:t>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217BDAD-46C5-47D5-967E-FF6E5637FC4B}"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1-07T18:28:21Z</dcterms:modified>
  <cp:revision>13</cp:revision>
  <dc:subject/>
  <dc:title>No Slide Title</dc:title>
</cp:coreProperties>
</file>