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6DD-420F-48FF-AA21-F5B73352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630-13EB-40DA-BAC3-724BB30C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D14-17C6-4262-8FD4-158DD2EE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B91F-A986-4A87-9840-7DFAC92C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630B-359A-4943-92F6-746A300A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651-C5CD-4D0E-959B-BA65B658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94B-3802-4E09-B99E-C46F6105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645D-10BF-4C2C-9CBC-D545A83E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EA9-5051-4608-9E12-8E9E1483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E7B-FAF0-4A6B-A810-FB2A794A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28B-0510-4D96-924C-2FF539A1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326-871C-4FF3-94D8-8EBC52EF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AA5BB9-CAAD-46BF-9F07-DD0ED5E26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080" y="644688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-fi.org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d-Hoc Marketing StudyGroup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por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,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2A1-56E2-4F0E-AC02-A321A1093C9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work revising doc:00/288 General Presentation on IEEE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Develop WLAN Forecast (units shipp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WECA update….Nov 2-3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Update documents (joint 802.11/802.1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enda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erence articles – 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952-DFF2-4A96-BE49-EEB5A4E80C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ireless LAN Forecas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To generate a 802.11 perspective of the market size in terms of units shi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Survey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/407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ymous Questionnaire Wireless LAN Forecast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LAN Forecast (“Radio” units ship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IEEE 802.11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nterprise, 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prise, 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42A-6C96-4620-8708-AAD37C5C92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ECA Updat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t meeting held Nov 2-3 Santa Rosa, 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: Texas Instr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60 member compa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50 products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Wi-F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rtified (IEEE 802.11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20 different companies with certified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WECA is committed to testing interoperability of IEEE 802.11a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 and Technical sub-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: Hawaii….Feb, 200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www.wi-fi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ECAheader" descr=""/>
          <p:cNvPicPr/>
          <p:nvPr/>
        </p:nvPicPr>
        <p:blipFill>
          <a:blip r:embed="rId2"/>
          <a:stretch/>
        </p:blipFill>
        <p:spPr>
          <a:xfrm>
            <a:off x="1905120" y="5867280"/>
            <a:ext cx="4757760" cy="58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19D-3CC4-444A-BF25-8CF594FEF9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Objectives for January – 01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imar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ining WLAN Forecast Model doc 00/4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survey results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Se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condar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overview presentation, calendar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edback from Comdex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D05-1184-4A9E-9D65-38F5A5F7BB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Al Petrick</dc:creator>
  <dc:description/>
  <dc:language>en-US</dc:language>
  <cp:lastModifiedBy>Al Petrick</cp:lastModifiedBy>
  <cp:lastPrinted>1998-02-10T13:28:06Z</cp:lastPrinted>
  <dcterms:modified xsi:type="dcterms:W3CDTF">2000-11-09T14:39:51Z</dcterms:modified>
  <cp:revision>71</cp:revision>
  <dc:subject/>
  <dc:title>04048Sm-Ad-Hoc Marketing-Study-Group-Report</dc:title>
</cp:coreProperties>
</file>