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E486-446A-4504-A929-DD63420A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8340-7053-4C69-844A-3136F926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7F59-3E16-4D2D-93F3-77F9901B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283-A596-45A5-9C62-04739A11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9CFD-B431-40ED-947A-32CA4A74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910-8180-4C82-B9E5-E11A7F49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DEF-3E3F-434E-9E0B-DFBBEED9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DC9B-226C-4FC2-8A9F-CA94D438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232-9156-4C93-8B05-6993D533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BA91-FC98-4700-B41D-D010D46F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D51-D1E3-44A0-BADE-2FEA824D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35DE-605E-42A4-AABB-630CCE19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07C68C-EA95-4D59-9174-FA4166482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64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ADC-BE8E-47EF-B584-AAA117B02D6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orking Group Liais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429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ce Krae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u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2666880"/>
            <a:ext cx="3733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en Heber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ke McIn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8000" y="1905120"/>
            <a:ext cx="87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802.15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5 to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89C4-057E-4895-BB24-D18977476F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orking Group Lia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4290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hn Kowal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2666880"/>
            <a:ext cx="37335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8000" y="1905120"/>
            <a:ext cx="87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802.16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6 to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1F5-983F-4BAE-B38B-FAF092E51B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ustry Lia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6668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Sk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2666880"/>
            <a:ext cx="373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shi Khun-Ju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4120" y="1905120"/>
            <a:ext cx="823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ETSI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ETSI to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44956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im Zy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6560" y="3733920"/>
            <a:ext cx="41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W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807-87AD-4BA8-8D36-6268FBAFF4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ustry Lia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79520" y="2362320"/>
            <a:ext cx="41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99"/>
                </a:solidFill>
                <a:uFillTx/>
                <a:latin typeface="Times New Roman"/>
              </a:rPr>
              <a:t>From 802.11 to P-13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en Z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749-C7AB-41DA-A6AA-A88F3F9E40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es and Responsi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port status between WG and liaison WGs and Industry forums at each interim and plenary s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tate status update between lia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FD2-8332-4B0B-8BE1-75815D4498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Harry Worstell</cp:lastModifiedBy>
  <cp:lastPrinted>1998-02-10T13:28:06Z</cp:lastPrinted>
  <dcterms:modified xsi:type="dcterms:W3CDTF">2000-11-07T18:33:29Z</dcterms:modified>
  <cp:revision>69</cp:revision>
  <dc:subject/>
  <dc:title>04068W-Liaison-list</dc:title>
</cp:coreProperties>
</file>