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63C-8A3B-4274-8035-761BA2117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D15-FAAF-4528-9DC8-381C26A2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DF1-26AF-4808-A9E9-7CCE4665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D6C-199F-4E81-8816-BF17A83C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F35-6F1F-498B-9F55-6D02E6D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2159-7B9D-498F-AA17-1E5AFE3E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208-7A9D-45A6-BC0F-D94D4C65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F63-71DC-46C6-B0D6-064DEAD9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8B9-77F8-477F-9DA6-39A5DC4A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CF4-22A7-4503-9B17-1513A706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4CF-ECC0-4938-8F34-459B5A3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705-BDD4-4DD7-B29C-6675EA65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329D0D-C775-4177-A512-5A57C72D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3962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268-F4DD-4E7F-B8BA-C49E09AEA42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LAN Market Report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ure Development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st &amp; Sulliv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hners – In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anke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IEEE 802.11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ED11-9059-4A44-9B3B-A9CE78ABF5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Wireless LAN Forecas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216640" cy="332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C54-51F5-4EB5-9490-D7DEF36CE4F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rvey Model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b 2.4G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: 00-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( radio aggregate) 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- Residential,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point, NIC, other(embedd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a 5G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endar: 00- 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( radio aggregate) T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- Residential, Enterpri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point, NIC, other(embedd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8475-98EE-41FA-81E6-F02631B42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1-07T18:37:16Z</dcterms:modified>
  <cp:revision>62</cp:revision>
  <dc:subject/>
  <dc:title>04098Sm-WLAN-Forecast</dc:title>
</cp:coreProperties>
</file>