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4C7-210A-4403-8A38-0FE4D29A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7569-CAAE-44FB-AAEC-E554CBB2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E87-65F8-4B69-8712-03761DEF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245-8E71-4B7E-8E75-577A3A44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E0B-A2F2-41C0-9862-4B42AC60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D360-4A47-4FA4-BDA0-76D47B3A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D7A-833F-479B-9272-29B75690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E95-F2E2-4A82-90B3-06DF327F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1D4-4EF1-45D3-92FC-D661EF2B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593-E115-491E-8D65-B0BF7FC7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7CD-6077-453D-AE1C-0548BCCC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FCA-6CB8-4CAB-91F0-F542AD9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981B5F-6762-41AB-BEE9-C2BA8FABC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00/4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twork Enrollment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can Kitchin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E61-64E0-4EE9-985F-B0A2AE060E7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requires per-node config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 keys,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oo complex for many products and/o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Vs, VCRs, DVD players (no keyboard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s expect these products to work out of the 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im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eatest security flaw we could introduce is making the system too difficult to configure cor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F155-15F8-4479-AEF0-F8C18304C5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 – What the User S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sees “press a button at either end” enroll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as used for garage door openers, cordless phones, cordless mice, keybo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ing a button on the AP makes it temporarily “open for enrollmen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buttons at station, “scan” and “enrol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“illuminates” APs, cycling through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attempts enrollment in last AP illu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148-106F-44AE-B94E-1F7E308EE6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new generic management type &amp; subtype, with action “enroll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action “illuminat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action “enroll reques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action “enroll respons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C27-ACB7-4685-AD3E-C090DEECDB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on determines available APs by existing active or passive scanning, and maintains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time the “scan” button is pressed, sends an enroll/illuminate packet to the next AP on th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P receiving an enroll/illuminate packet emits an audible or visual ind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06E-D656-4D09-8CCC-D35831D9AB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roll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 and AP create a Diffie-Hellman tu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creates DH value, sends to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never advertises that it is open, but accepts an enrollment request if it is and responds with its own DH value and encrypt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unnel is then used by the AP to send back to the st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entials for futur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onfiguration parameters such as 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2FE-4E7F-4F27-9344-EF62C8C02F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00/xxx for generic management fr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/illum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dditional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/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roll/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data, plus encrypted-content security credential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E994-706E-46B0-BFBD-826DF49172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4038480"/>
            <a:ext cx="36576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98108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1240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666880" y="4800600"/>
            <a:ext cx="3657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3200400"/>
            <a:ext cx="3657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2133720"/>
            <a:ext cx="3657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6840" y="205740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roll/illu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6840" y="320040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roll/illu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24480" y="2743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4000" y="262728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40320" y="38498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9840" y="373392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339960" y="4078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9480" y="396252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42440" y="403848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roll/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47040" y="4761000"/>
            <a:ext cx="111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roll/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5AB0-DE16-4116-85C3-A126A9B217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3T16:08:33Z</dcterms:created>
  <dc:creator>Preferred Customer</dc:creator>
  <dc:description/>
  <dc:language>en-US</dc:language>
  <cp:lastModifiedBy>Preferred Customer</cp:lastModifiedBy>
  <cp:lastPrinted>1998-02-10T13:28:06Z</cp:lastPrinted>
  <dcterms:modified xsi:type="dcterms:W3CDTF">2000-11-07T22:28:05Z</dcterms:modified>
  <cp:revision>8</cp:revision>
  <dc:subject/>
  <dc:title>A Network Enrollment Protocol</dc:title>
</cp:coreProperties>
</file>