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F281-99A9-46A4-96AB-321B7EE9D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C06D-B1B1-470C-9DE8-8597ACF0D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DE60-F117-43B6-8860-F21EEAA93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08AD-EC1B-4164-A76B-A487DC0EA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4578-26D5-43C7-8E2B-2C06D5ECB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3A84-A8A4-49CD-B9FB-7C2E45CF8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8BE4-ED84-44E8-8AF4-DB5BE5AE8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D1B9-E5E6-45E2-BFD0-0082AA251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E4E8-2A8A-454F-B50D-0473E7D33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2D33-1C07-430A-B79D-91A2BFA4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44B8-955B-4431-AB04-B496B2A4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1069-868D-4E6E-908D-DAAD91A6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8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28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573B3A8-4C23-48AE-845A-A4051A8D7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00/4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C for Q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ncan Kitchin, Int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uncan Kitchin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31AC-3D0F-4ED2-85F6-E0A32879558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C for Q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C can be used to improve MAC transfer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 bandwidth uti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iminating need for retransmissions could permit multica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uncan Kitchin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4998-0248-4207-B77E-222F08A20CE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sues with FEC in the M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the upper layers in an IP/802 model communicate their requirements to the MAC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ppens when the correction capacity is exceeded? Entire packets can frequently be l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can we deal with decoding latenc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uncan Kitchin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FC08-39DF-4FBB-8334-3A52E8B565D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sed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FEC for correction in multicast streams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not have MAC layer acknowledgements and multicast; natural place for FE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per layers select acknowledgement policy by choice of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leave across packets, and perfor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le packet erasure de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uncan Kitchin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F041-587C-4CAB-B35D-15A82602BAA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sed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81080" y="2590920"/>
            <a:ext cx="762120" cy="3045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2590920"/>
            <a:ext cx="762120" cy="3045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9880" y="2590920"/>
            <a:ext cx="762120" cy="3045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95480" y="2590920"/>
            <a:ext cx="762120" cy="3045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638680" y="2590920"/>
            <a:ext cx="762120" cy="30456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553080" y="2590920"/>
            <a:ext cx="762120" cy="30456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81080" y="3124080"/>
            <a:ext cx="3505320" cy="152640"/>
          </a:xfrm>
          <a:custGeom>
            <a:avLst/>
            <a:gdLst/>
            <a:ahLst/>
            <a:rect l="l" t="t" r="r" b="b"/>
            <a:pathLst>
              <a:path w="2208" h="96">
                <a:moveTo>
                  <a:pt x="0" y="0"/>
                </a:moveTo>
                <a:lnTo>
                  <a:pt x="0" y="96"/>
                </a:lnTo>
                <a:lnTo>
                  <a:pt x="2208" y="96"/>
                </a:lnTo>
                <a:lnTo>
                  <a:pt x="220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38680" y="3124080"/>
            <a:ext cx="1676520" cy="152640"/>
          </a:xfrm>
          <a:custGeom>
            <a:avLst/>
            <a:gdLst/>
            <a:ahLst/>
            <a:rect l="l" t="t" r="r" b="b"/>
            <a:pathLst>
              <a:path w="2208" h="96">
                <a:moveTo>
                  <a:pt x="0" y="0"/>
                </a:moveTo>
                <a:lnTo>
                  <a:pt x="0" y="96"/>
                </a:lnTo>
                <a:lnTo>
                  <a:pt x="2208" y="96"/>
                </a:lnTo>
                <a:lnTo>
                  <a:pt x="220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858640" y="3414600"/>
            <a:ext cx="124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eck Dig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95480" y="2209680"/>
            <a:ext cx="762120" cy="914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895120" y="2209680"/>
            <a:ext cx="762120" cy="914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3276360" y="2895120"/>
            <a:ext cx="228600" cy="1752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435400" y="4761000"/>
            <a:ext cx="201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eat this packet as an era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78280" y="3414600"/>
            <a:ext cx="152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leaved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uncan Kitchin, Inte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7535-11DF-4C86-9B26-3F1132293DF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ns multiple pac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d at the transport layer, not the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leaving can be reduced to span only a few packets, keeping latencies within specified bo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ch work already done in IETF in defining these protocols (reliable multicast transport grou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uncan Kitchin, Int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35FC-9878-4B98-A045-C429846F06D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6T21:21:42Z</dcterms:created>
  <dc:creator>Preferred Customer</dc:creator>
  <dc:description/>
  <dc:language>en-US</dc:language>
  <cp:lastModifiedBy>Preferred Customer</cp:lastModifiedBy>
  <cp:lastPrinted>1998-02-10T13:28:06Z</cp:lastPrinted>
  <dcterms:modified xsi:type="dcterms:W3CDTF">2000-11-07T22:27:04Z</dcterms:modified>
  <cp:revision>5</cp:revision>
  <dc:subject/>
  <dc:title>PowerPoint Presentation</dc:title>
</cp:coreProperties>
</file>