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18B14-51CA-4D25-88DA-EE9B11F3F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E1387-409C-4854-BA1A-322C5E947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2698F-0B85-46EE-B13B-2CA27B473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024E3-EB2E-4491-A783-4B4A7148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9A9E3-C122-40BE-B32F-6F244541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0D020-D9B8-4199-9EEB-14D3140B0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C474D-78CF-4F8B-B8CE-D23C9D17F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EFFF4-74D2-4D3C-A3AB-0A99900A7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6FC16-B744-4FFB-829E-0911E8361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B9E4A-00B9-4EB7-A126-F7900269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A3820-9749-4B7C-B425-2BE46BA86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2289D-E004-4C8D-9F9F-42F9335E3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518080" y="6474960"/>
            <a:ext cx="30924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Kennedy, Compaq Computer Corporati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C28D77-F101-45F4-AEC6-49A128C1A1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37560" y="396000"/>
            <a:ext cx="24267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1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66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5GSG</a:t>
            </a:r>
            <a:br>
              <a:rPr sz="3200"/>
            </a:br>
            <a:r>
              <a:rPr b="0" lang="en-US" sz="3200" spc="-1" strike="noStrike">
                <a:solidFill>
                  <a:srgbClr val="000000"/>
                </a:solidFill>
                <a:latin typeface="Times New Roman"/>
              </a:rPr>
              <a:t>Response to PARs:</a:t>
            </a:r>
            <a:br>
              <a:rPr sz="3200"/>
            </a:br>
            <a:r>
              <a:rPr b="0" lang="en-US" sz="3200" spc="-1" strike="noStrike">
                <a:solidFill>
                  <a:srgbClr val="000000"/>
                </a:solidFill>
                <a:latin typeface="Times New Roman"/>
              </a:rPr>
              <a:t>80216h-00 13r1</a:t>
            </a:r>
            <a:br>
              <a:rPr sz="3200"/>
            </a:br>
            <a:r>
              <a:rPr b="0" lang="en-US" sz="3200" spc="-1" strike="noStrike">
                <a:solidFill>
                  <a:srgbClr val="000000"/>
                </a:solidFill>
                <a:latin typeface="Times New Roman"/>
              </a:rPr>
              <a:t>and</a:t>
            </a:r>
            <a:br>
              <a:rPr sz="3200"/>
            </a:br>
            <a:r>
              <a:rPr b="0" lang="en-US" sz="3200" spc="-1" strike="noStrike">
                <a:solidFill>
                  <a:srgbClr val="000000"/>
                </a:solidFill>
                <a:latin typeface="Times New Roman"/>
                <a:ea typeface="Times New Roman"/>
              </a:rPr>
              <a:t>IEEE P802.15-00/248r3</a:t>
            </a:r>
            <a:r>
              <a:rPr b="0" lang="en-US" sz="4400" spc="-1" strike="noStrike">
                <a:solidFill>
                  <a:srgbClr val="000000"/>
                </a:solidFill>
                <a:latin typeface="Times New Roman"/>
              </a:rPr>
              <a:t> </a:t>
            </a:r>
            <a:br>
              <a:rPr sz="3200"/>
            </a:br>
            <a:br>
              <a:rPr sz="3200"/>
            </a:br>
            <a:br>
              <a:rPr sz="3200"/>
            </a:br>
            <a:r>
              <a:rPr b="0" lang="en-US" sz="2400" spc="-1" strike="noStrike">
                <a:solidFill>
                  <a:srgbClr val="000000"/>
                </a:solidFill>
                <a:latin typeface="Times New Roman"/>
              </a:rPr>
              <a:t>Richard Kennedy</a:t>
            </a:r>
            <a:br>
              <a:rPr sz="2400"/>
            </a:br>
            <a:r>
              <a:rPr b="0" lang="en-US" sz="2400" spc="-1" strike="noStrike">
                <a:solidFill>
                  <a:srgbClr val="000000"/>
                </a:solidFill>
                <a:latin typeface="Times New Roman"/>
              </a:rPr>
              <a:t>Compaq Computer Corpora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C94CD56-0526-4B29-BE35-C79C9BEBD865}" type="slidenum">
              <a:t>1</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to IEEE 802.11 Working Group</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5GSG believes that IEEE 802 should develop a set of coexistence and/or spectrum sharing guidelines to guarantee non-interference amongst its own wireless standards, currently 802.11/15 and 16.  This should be done as soon as possi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fully endorse the work of the IEEE 802 Regulatory Ad Hoc Group in their efforts to achieve global spectrum harmonization, and will offer our help as required.  We would also like to invite the members of that group to attend our joint 5GHz WLAN Globalization group meeting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D852A7A-1766-4262-BB74-DEF675C2BC49}"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ent on the PAR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group believes that the approval of new standards in the 5GHz unlicensed bands should be consistent with the guidel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ally, we have concerns about the compatibility and distinct identity of Wireless HUMAN (802.16.1b), WPAN Low Rate (802.15.4) and WPAN High Rate (802.15.3) to the extent that they will operate in the 5GHz unlicensed ban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coexistence guidelines, the broad market acceptance of all of these standards is threate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7058617-CB39-4D48-A074-234590E983DF}"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9T15:11:06Z</dcterms:created>
  <dc:creator>Richard Kennedy</dc:creator>
  <dc:description/>
  <dc:language>en-US</dc:language>
  <cp:lastModifiedBy>Harry Worstell</cp:lastModifiedBy>
  <cp:lastPrinted>1998-02-10T13:28:06Z</cp:lastPrinted>
  <dcterms:modified xsi:type="dcterms:W3CDTF">2000-11-08T18:57:06Z</dcterms:modified>
  <cp:revision>20</cp:revision>
  <dc:subject/>
  <dc:title>PowerPoint Presentation</dc:title>
</cp:coreProperties>
</file>