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B02-754D-471E-8099-08D0505E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A8B-15AB-4587-BE07-28FB70BE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7CC-A7F1-472C-8BC7-8448E9326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979-D084-4128-9B6D-4545CAE25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FE8-19D6-4841-8331-7D5817C2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CC3-41BB-4F53-959E-14E3D755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FBA-1DC7-490D-A735-32703C52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93D-A67C-4393-B4FF-E69A3498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79CA-2EC3-4EBD-8B1F-C063BC4A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ABD-8899-4811-A941-4BD95E9E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80C-D0F4-49CA-B70D-5802D2DB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1630-E3BB-470C-B448-96E74ACC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18080" y="6474960"/>
            <a:ext cx="30924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Kennedy, Compaq Computer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F92A3E8-D66C-4ABD-ABC0-BDBE25243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37560" y="396000"/>
            <a:ext cx="2426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tems for Discu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OPE OF THIS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TICAL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LEVEL OF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 AL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67B-8BCB-4444-883D-02DFE696CF7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OPERATION and HARMO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1E53-4B11-4FD0-8049-4327989913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AMLESS ROAM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d HANDOF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550-36D7-4C69-8775-2D5650FDC1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45B4-9D3E-4807-A9A7-3C139D9E4F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4ED6-5E8B-403E-8114-CCFA499B6D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C/DLC L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894-EDFB-42E6-86EC-FB4D1741709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HY LAY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9044-7694-4209-AD69-3EBA49ABF1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P802.11/5GS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for the First Meeting of the Joint Globalization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chard Kenne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q Computer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DED-A6C8-4CA7-A661-71769B57779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RITICAL DEFINI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EX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TIBILITY/BACKWARD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PERATION/HAR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MLESS ROAMING/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C/DLC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E5F2-BEFC-4FD3-A959-AC41455AAC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EXIST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fer to definitions established in IEEE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E19-AE7E-4F1F-A40E-5900A80B7C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fer to definitions established in IEEE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EC9-797A-4164-ACAD-FBB5167A2B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VERGEN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Global Standard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a combined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electing one of the existing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nging the three standards closer together; having a degree of interoperability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ng able to coexist 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quo (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80E6-0474-4F8D-9494-F401C8EDD0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RWOR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C9A-E15F-4146-8CEB-BACC8B438D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MPATIBILITY and BACKWARD COMPATI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940-3EFE-4C53-843E-3B2B97A278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B15-0935-4966-916A-EBD35D56DC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15:11:06Z</dcterms:created>
  <dc:creator>Richard Kennedy</dc:creator>
  <dc:description/>
  <dc:language>en-US</dc:language>
  <cp:lastModifiedBy>Harry Worstell</cp:lastModifiedBy>
  <cp:lastPrinted>1998-02-10T13:28:06Z</cp:lastPrinted>
  <dcterms:modified xsi:type="dcterms:W3CDTF">2000-11-08T18:55:20Z</dcterms:modified>
  <cp:revision>21</cp:revision>
  <dc:subject/>
  <dc:title>PowerPoint Presentation</dc:title>
</cp:coreProperties>
</file>