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3F57-6E90-4265-AC99-9A0E685D5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DD9B-7E25-41E8-9C8B-1DDC194B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5322-82D1-40FA-A46B-C18A1B472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7379-33C0-49C6-AAEB-77A892BB0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C273-687E-451B-8D56-9A1938AB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A0DF-4C3A-44E0-BF4C-5A410103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AC45-3126-4592-9015-8CEE5D1D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4EB4-7C65-4945-AEBC-F84473DC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40A1-59F9-49B8-A6BA-E85064F7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5FB5-6E4D-4956-8430-D94E553A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882D-0D3B-484C-8184-4BD2B072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A9A1-5EE0-4072-98C5-77E0A343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11908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18080" y="6474960"/>
            <a:ext cx="30924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ard Kennedy, Compaq Computer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77DDE02-CE9D-4678-9A08-AEF033199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868720" y="396000"/>
            <a:ext cx="2595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41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ems for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PE OF THIS EF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ICAL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D LEVEL OF INTEROPE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TRUM AL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7DCD-77BC-4D96-8F1D-64CD4B06483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WO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bility of two systems to perform a task given that each system implements a different set of rul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he means whereby terminals connected to a telecommunication network may communicate with terminals of another network.  [IEC 199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xpress interactions between networks, between end systems, or between parts thereof, with the aim of providing a functional entity capable of supporting an end-to-end communication.  The interactions required to provide a functional entity rely on functions and on the means to select these functions.  [ITU-T I.510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8783-6384-44B2-8970-D4B30EB708A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TIBILITY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WARD COMPAT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E6DB-337C-4CEC-8C5C-8B20CD5D637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F071-36CD-48AF-B702-1B28ECAFEFF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PERATION and HARMO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ECC3-4531-43DD-84FF-1CD9ECEAAE4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MLESS ROAM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HANDO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7AC1-65E4-47CC-B5BE-1393F3AB650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TY of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F769-FD98-4D79-9D81-5F29CF93EAD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1EFC-60DC-4B1B-A98A-6E1E9C29BB7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/DLC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AA3E-2794-48F9-8CC5-EBF9156BD86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A80F-2EFC-47C3-95F9-D2B820578CD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P802.11/5GS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ation for the First Meeting of the Joint Globalization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chard Kenne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q Computer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5402-1DC2-44A0-BD42-731550ABF90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ICAL DEFINITION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EXIST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TIBILITY/BACKWARD COMPAT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PERATION/HARM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MLESS ROAMING/HAND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/DLC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02D1-94EC-46C7-ABC1-C488A73D9A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EXIST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wireless devices are said to “coexist” if they can be collocated without significantly impacting the performance of any of these devices [IEEE 802.15-99/088r2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bility of one system to perform a task in a given (shared) environment where other systems may or may not be using the same set of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4D0F-1401-4898-90C8-D74A38E7CB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bility of two systems to perform a given task using a single set of ru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3D42-0406-4343-9BDE-C07AFC77EB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ge of CONVERGENCE Objectiv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Global Standard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a combined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selecting one of the existing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inging the three standards closer together; having a degree of interoperability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ing able to coexist (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us quo (9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7044-2D00-43AC-88F8-678B088FF45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587520"/>
            <a:ext cx="777240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grees of CONVERGENCE Definition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21932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a range of convergence options listed below in decreasing desir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Global Standard with complete interoperability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s having a degree of interoperability 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s having a degree of interworking typically involving the use of a transl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two other situations that represent no conver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ing able to coexist 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ing unable to co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10FC-B5A7-4B99-94B8-1813A0FF41A1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587520"/>
            <a:ext cx="777240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 of CONVERGENCE 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21932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s adhering to One Global Standard with complete interoperability that can be used anywhere in the 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s that interoperate but were designed to different standards. The user of each equipment type can communicate transparently with the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: Two standards have common architecture, design, def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operable: Two+ standards have a way of directly communicating together to perform a 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2E63-AD3C-42F7-B7E9-EA53A54349D9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587520"/>
            <a:ext cx="777240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 of Standards CONVERGENCE 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21932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: Two systems have common architecture, design, defin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operable: Two+ systems have a way of directly communicating together to perform a ta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working: Two+ systems can exchange information thru a translating function and work together to perform a ta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transfer: Two+ systems can exchange information thru a translating system to perform their respective tasks. For example HL2 and 11a can communicate via an ethernet backbone. This not considered to be conver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245B-59D8-4DDD-A8E6-54BC01D62E57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9T15:11:06Z</dcterms:created>
  <dc:creator>Richard Kennedy</dc:creator>
  <dc:description/>
  <dc:language>en-US</dc:language>
  <cp:lastModifiedBy>Harry Worstell</cp:lastModifiedBy>
  <cp:lastPrinted>1998-02-10T13:28:06Z</cp:lastPrinted>
  <dcterms:modified xsi:type="dcterms:W3CDTF">2000-11-09T18:12:20Z</dcterms:modified>
  <cp:revision>31</cp:revision>
  <dc:subject/>
  <dc:title>PowerPoint Presentation</dc:title>
</cp:coreProperties>
</file>