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0E1-8CFA-42A9-BD25-F91AFCBF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A3D-A09B-42AF-A25A-1E5D539E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E0F-8BBF-4DCD-BD67-8A8381FF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A15-2C4D-48B7-96A2-C59638D0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AE18-9859-4A38-BC70-76FEAAC1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4CF-3E56-4ECB-AE58-4791725A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DDD-2DCB-45EE-B944-0AA4A858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F68-E896-4826-9C50-8A769DE8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D78-1CD9-4BD4-B92E-53FE62FB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47D-F087-4F1E-BA7C-6BBE88D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BFF-B916-4E4B-AB38-8ADF122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18BC-62CF-49F6-93CF-051ABF62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B2DD5D-FB4F-42B6-A46C-C232D85E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ntribu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wards Harmonization of IEE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a, HiperLAN2 and MM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7242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onn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Sa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is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saam@magisnetwork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DD0-DFDB-4A5D-8CBA-FB2BCF4380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ing uncompromis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Service suppor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, video and computer dat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un-necessar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pplication support in the local area (home and office environ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mobility not an application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7E76-2446-4891-95AB-4D492C773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erLAN2, A High Leve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support for isochronous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FS and 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C Complexity due to wide-area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995-FE86-434C-AB3F-41D3055794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MAC, A High Leve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-of-band ARQ signaling (fast AR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QoS support for isochronous 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28D-CF4F-4273-9F10-2E1621D20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Harmonized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H2 MAC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 beneficial features of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A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r packet size (les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L2-L3 interfa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some bandwidth managemen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oriented at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6E1-A66D-4F9C-BE12-4E0E33701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rdware Abstraction Lay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s a variety of hardware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ion secur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ing sensitive media over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1CA-CF36-4C99-A583-D270F719DC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xtensive legacy infrastructure exists today for either 802.11a or H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approaches are expensive and not justified based on existing market re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lanced and selective approach to 11a/H2 harmonization is more efficient and supports true univer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requirements need to be understood and facrtor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white paper for more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. Conner, Magi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03CD-4F3F-4D0C-BF97-D2EBE3F458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2T18:02:28Z</dcterms:created>
  <dc:creator>Clarence Bruckner</dc:creator>
  <dc:description>D. Conners, Magis Networks</dc:description>
  <dc:language>en-US</dc:language>
  <cp:lastModifiedBy>Harry Worstell</cp:lastModifiedBy>
  <dcterms:modified xsi:type="dcterms:W3CDTF">2000-11-09T15:07:11Z</dcterms:modified>
  <cp:revision>272</cp:revision>
  <dc:subject>Submission</dc:subject>
  <dc:title>Business Development Overview</dc:title>
</cp:coreProperties>
</file>