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421B-AC46-4D82-B14C-351428E4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566-51DF-4369-9868-6743CB1A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3A82-DFD2-421A-971E-488AC664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C37-AD5F-42E1-AF67-7DB0BF693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A26E-DCFA-4986-B854-C430C1C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33F-7D16-43C4-A9EE-022C1148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545-8C11-4DB8-A668-E619DC1B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6E7-62E2-4ACF-9BE5-0BAE581F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4AF1-371C-4F06-A56A-19D806D5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1E1C-8316-4C7E-B7A5-8BBAA2AC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4EB-45B3-49CA-A542-68E4FE0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9593-E459-47BE-9BAA-DB6C6D8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els Van Erven , 3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F4D868-F03D-4A02-941A-9171539B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Approach for          22 Mbps 802.11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iels Van Er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o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vember 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C3B4-181B-4A70-9738-DE99B436C5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1880" y="1828800"/>
            <a:ext cx="5820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mmends an approach to 802.11b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 @ 11Ms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69D2-F608-4865-88BB-3D3CDE4EBDD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9440" y="2257560"/>
            <a:ext cx="6422400" cy="265428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pecial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Msps  (22 Mbps theore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kward-compatibility with existing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le with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common pream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gical extension to the current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7760" y="460044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B5E-B7E5-4B27-B36F-05496B8BDF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7360" y="1828800"/>
            <a:ext cx="559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MAC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or state machin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critical firmware timing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spee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e interference characteristics 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ountered in 802.11b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 QPSK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acent channe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-channel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F PA backoff from 1d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essio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596-2794-4C84-9FF5-079691C08B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Summary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1752480"/>
            <a:ext cx="6186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xity similar to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increased gate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imination / bypassing of corre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valent RF/IF PHY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ified equalizer possible du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rease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oughput almost double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ightly less in order to accommod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issues (preambl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F504-9E69-47DD-AFC1-872B2DF55E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458200" y="62481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752480"/>
            <a:ext cx="6186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regulatory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existence strate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st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industry to leverage exi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earch and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s on existing customer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izes market confusion w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viding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not be an anticipatory drag o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b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98E-D82F-429F-A47C-69404E0B19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457840" y="6095880"/>
            <a:ext cx="152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1752480"/>
            <a:ext cx="6352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uced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problem for al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fficient for hom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deployment of access point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environm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for less interference when wid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reased process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problem for al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eaming video will introduce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ation rates -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38B-D5F5-4DE7-872C-725F7E604D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58200" y="609588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133720"/>
            <a:ext cx="681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mpromise for technology, regulator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ustry and customer ne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imal regulatory imp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coexistence strategy with all 2.4GHz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test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s burgeoning customer need for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e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 playing field for industry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est risk/investment for best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35B-C441-4D98-BD41-0D010B5FBF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</dc:creator>
  <dc:description/>
  <dc:language>en-US</dc:language>
  <cp:lastModifiedBy>Harry Worstell</cp:lastModifiedBy>
  <cp:lastPrinted>2000-11-07T02:53:57Z</cp:lastPrinted>
  <dcterms:modified xsi:type="dcterms:W3CDTF">2000-11-08T18:54:03Z</dcterms:modified>
  <cp:revision>63</cp:revision>
  <dc:subject/>
  <dc:title>Suggest PA Model for 802.11 HRb</dc:title>
</cp:coreProperties>
</file>