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2240" y="701640"/>
            <a:ext cx="461988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C64053-ECAA-4719-8F6D-E3B417EAFB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A9B258-4269-4096-A074-1877824207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BC6948-0DC1-4A46-816F-E8946628DC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E860F5-5420-41F7-8D8A-29A5A4E712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6458C-F0C3-47A1-AA59-14C2B2783C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291C97-282A-4DEF-ACF8-2F2BA9F916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19880" cy="346392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29880" y="4403880"/>
            <a:ext cx="51246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548F29-BCE4-47AE-83CF-59D1AE72CD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412-0D92-4D32-B708-4DE059B05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815-A0F7-4529-B7F2-501CC937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73D-7EDF-4144-9366-E30B1206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7FD-22B7-49DB-8226-A218D568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D66-ABEC-46A2-950D-0D909937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789B-04A7-48E6-8F5A-01861FB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FB8-EAE0-4C91-97A6-15893469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0BCC-F9ED-471C-8D58-EB265EC5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997-52D4-4652-9993-3EBDA2F8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580-A448-4C62-B9BF-D3971AE4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C8B-CDD6-4692-9A14-E5A80D62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A16-1A22-4E4A-89C3-90447493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365498-45E2-49B9-8AC9-C501B5AAB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67800" y="641196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grouper.ieee.org/groups/802/1/pages/802.1x.html" TargetMode="External"/><Relationship Id="rId2" Type="http://schemas.openxmlformats.org/officeDocument/2006/relationships/hyperlink" Target="http://www.ietf.org/rfc/rfc2138.txt" TargetMode="External"/><Relationship Id="rId3" Type="http://schemas.openxmlformats.org/officeDocument/2006/relationships/hyperlink" Target="http://www.ietf.org/rfc/rfc2139.txt" TargetMode="External"/><Relationship Id="rId4" Type="http://schemas.openxmlformats.org/officeDocument/2006/relationships/hyperlink" Target="http://www.ietf.org/rfc/rfc2548.txt" TargetMode="External"/><Relationship Id="rId5" Type="http://schemas.openxmlformats.org/officeDocument/2006/relationships/hyperlink" Target="http://www.ietf.org/rfc/rfc2865.txt" TargetMode="External"/><Relationship Id="rId6" Type="http://schemas.openxmlformats.org/officeDocument/2006/relationships/hyperlink" Target="http://www.ietf.org/rfc/rfc2284.txt" TargetMode="External"/><Relationship Id="rId7" Type="http://schemas.openxmlformats.org/officeDocument/2006/relationships/hyperlink" Target="http://www.ietf.org/rfc/rfc2716.txt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e Security Baseli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Halasz, Stuart Norman, Glen Z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sco Systems, In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nard Aboba, Tim Mo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sse Walker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Beach,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O’Hara, Inform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8B2-B35F-4384-9FE3-7BBE6C4F618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to 802.1X adaptation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609480" cy="924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05120" y="2971800"/>
            <a:ext cx="190476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3809880"/>
            <a:ext cx="190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3809880"/>
            <a:ext cx="205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62120" y="5029200"/>
            <a:ext cx="914400" cy="741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057400" y="5257800"/>
            <a:ext cx="190512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095880"/>
            <a:ext cx="19051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3276720"/>
            <a:ext cx="30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. . .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2590920"/>
            <a:ext cx="30477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IEEE 802.11 physical port becomes 1 to N virtual IEEE 802.1X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802.11 association IDs to the virtual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00A-6D2F-4375-B67D-CDF17A6C6E1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X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391520" y="2666880"/>
            <a:ext cx="788760" cy="83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609480" cy="924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340160" y="3048120"/>
            <a:ext cx="3173400" cy="1159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2971800"/>
            <a:ext cx="190476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05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038480" y="579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6019920"/>
            <a:ext cx="2133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rolled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4495680"/>
            <a:ext cx="2514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controlled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809880"/>
            <a:ext cx="190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19920" y="3809880"/>
            <a:ext cx="2819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3809880"/>
            <a:ext cx="205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1905120"/>
            <a:ext cx="69404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Pieces of the system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32A-ED8C-465F-B7FE-9D9A183993E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391520" y="2666880"/>
            <a:ext cx="788760" cy="836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609480" cy="924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340160" y="3048120"/>
            <a:ext cx="3173400" cy="1159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971800"/>
            <a:ext cx="190476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814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505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4038480" y="55623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6019920"/>
            <a:ext cx="1676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4495680"/>
            <a:ext cx="1981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809880"/>
            <a:ext cx="190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809880"/>
            <a:ext cx="2590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3809880"/>
            <a:ext cx="205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3352680"/>
            <a:ext cx="1600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2.1X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352680"/>
            <a:ext cx="2361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990720"/>
            <a:ext cx="69408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ireless client associaton at 802.11 layer: Data blocked by the A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724280"/>
            <a:ext cx="2895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Point blocks everything except 802.1X to authentication traff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267080"/>
            <a:ext cx="29718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 is allowed to flow. Access point encapsulates 802.1X traffic into authentication server traffic and vice ver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480E-DE88-4E34-A133-57E9CD8E3C4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391520" y="2666880"/>
            <a:ext cx="788760" cy="836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609480" cy="924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40160" y="3048120"/>
            <a:ext cx="3173400" cy="1159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2971800"/>
            <a:ext cx="190476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814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505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038480" y="55623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6019920"/>
            <a:ext cx="1676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4495680"/>
            <a:ext cx="1981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3581280"/>
            <a:ext cx="190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809880"/>
            <a:ext cx="2514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809880"/>
            <a:ext cx="205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3352680"/>
            <a:ext cx="1600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2.1X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3352680"/>
            <a:ext cx="2438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066680"/>
            <a:ext cx="6940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ireless client mutually authenticates with Authentication Ser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952880"/>
            <a:ext cx="28954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Point blocks everything except 802.1X to authentication traff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3962520"/>
            <a:ext cx="29718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the authentication process the supplicant securely obtains a WEP k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342-72D1-4AF2-B191-DFE4E77BD04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391520" y="2666880"/>
            <a:ext cx="788760" cy="836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114800" y="2666880"/>
            <a:ext cx="609480" cy="924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340160" y="3048120"/>
            <a:ext cx="3173400" cy="1159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2971800"/>
            <a:ext cx="190476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5791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5181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8148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5320" y="5791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579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6019920"/>
            <a:ext cx="16765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rmal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4495680"/>
            <a:ext cx="19810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809880"/>
            <a:ext cx="19047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3809880"/>
            <a:ext cx="25146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3809880"/>
            <a:ext cx="2057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3352680"/>
            <a:ext cx="16002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02.1X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352680"/>
            <a:ext cx="24382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thentication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914400"/>
            <a:ext cx="69408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ireless client and AP use WEP key, AP allows traffic to flo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952880"/>
            <a:ext cx="2895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fter successful EAP authentication, the Access Point allows all traffic to the Wireless lapto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495680"/>
            <a:ext cx="2971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Wireless laptop sets the WEP keys through the MLME interface. (e.g. NIC dri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FA02-397E-4C53-BF77-15E2C36FE1E0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provides a flexible link layer secur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encapsulation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dependency on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K/NAK, no wind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fragmentation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w link layer assum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run over any link layer (PPP, 802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es not assume physically secure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s provide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es no re-ord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run over lossy or lossless 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ransmission responsibility of authenticator (not needed for 802.1X or 802.1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methods based on IETF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Level Security (TLS) (supported in Windows 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S_API (including Kerbe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75B4-02C7-4522-A7D8-63C4DCA04CC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91880" y="3657600"/>
            <a:ext cx="10926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7000" y="1752480"/>
            <a:ext cx="1446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304812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360" y="5187960"/>
            <a:ext cx="1647720" cy="984240"/>
          </a:xfrm>
          <a:prstGeom prst="rect">
            <a:avLst/>
          </a:prstGeom>
          <a:gradFill rotWithShape="0">
            <a:gsLst>
              <a:gs pos="0">
                <a:srgbClr val="008d6a"/>
              </a:gs>
              <a:gs pos="50000">
                <a:srgbClr val="00cc99"/>
              </a:gs>
              <a:gs pos="100000">
                <a:srgbClr val="008d6a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3200400"/>
            <a:ext cx="6820200" cy="160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d8db1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49560" y="2457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68560" y="5410080"/>
            <a:ext cx="11505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4572000"/>
            <a:ext cx="144792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2666880"/>
            <a:ext cx="1143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495288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648080" cy="984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a8db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6a8d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54864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67280" y="54864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29200" y="1676520"/>
            <a:ext cx="2133720" cy="11570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50000">
                <a:srgbClr val="6a2346"/>
              </a:gs>
              <a:gs pos="100000">
                <a:srgbClr val="993366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b16a8d"/>
              </a:gs>
              <a:gs pos="100000">
                <a:srgbClr val="ff99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S_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051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3DBB-0159-4214-A180-52B38AC54B7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-GSS and IAKE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-GSS (draft-aboba-pppext-eapgss-02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GSS_API authentication methods within 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will NOT use SP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Kerb (draft-ietf-cat-iakberb-05.tx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S-API method enabling proxy Ker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not able to talk to KDC directly prior to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KERB enables STA to obtain TGT, Ticket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cket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1E8-E31B-4A37-89B9-537E6DE0BC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0" y="2438280"/>
            <a:ext cx="304920" cy="3886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2438280"/>
            <a:ext cx="2971800" cy="38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2438280"/>
            <a:ext cx="3352680" cy="3886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905120" y="2590920"/>
            <a:ext cx="2286000" cy="307080"/>
            <a:chOff x="1905120" y="2590920"/>
            <a:chExt cx="2286000" cy="307080"/>
          </a:xfrm>
        </p:grpSpPr>
        <p:sp>
          <p:nvSpPr>
            <p:cNvPr id="196" name=""/>
            <p:cNvSpPr/>
            <p:nvPr/>
          </p:nvSpPr>
          <p:spPr>
            <a:xfrm>
              <a:off x="1905120" y="281952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10040" y="25909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ssoc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905120" y="2819520"/>
            <a:ext cx="2209680" cy="307080"/>
            <a:chOff x="1905120" y="2819520"/>
            <a:chExt cx="2209680" cy="307080"/>
          </a:xfrm>
        </p:grpSpPr>
        <p:sp>
          <p:nvSpPr>
            <p:cNvPr id="199" name=""/>
            <p:cNvSpPr/>
            <p:nvPr/>
          </p:nvSpPr>
          <p:spPr>
            <a:xfrm flipH="1">
              <a:off x="1905120" y="3047760"/>
              <a:ext cx="22096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360" y="2819520"/>
              <a:ext cx="182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981080" y="3048120"/>
            <a:ext cx="2286000" cy="307080"/>
            <a:chOff x="1981080" y="3048120"/>
            <a:chExt cx="2286000" cy="307080"/>
          </a:xfrm>
        </p:grpSpPr>
        <p:sp>
          <p:nvSpPr>
            <p:cNvPr id="202" name=""/>
            <p:cNvSpPr/>
            <p:nvPr/>
          </p:nvSpPr>
          <p:spPr>
            <a:xfrm>
              <a:off x="1981080" y="327672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400" y="30481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80720" y="3352680"/>
            <a:ext cx="2286360" cy="307080"/>
            <a:chOff x="1980720" y="3352680"/>
            <a:chExt cx="2286360" cy="307080"/>
          </a:xfrm>
        </p:grpSpPr>
        <p:sp>
          <p:nvSpPr>
            <p:cNvPr id="205" name=""/>
            <p:cNvSpPr/>
            <p:nvPr/>
          </p:nvSpPr>
          <p:spPr>
            <a:xfrm flipH="1">
              <a:off x="1980720" y="35812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57400" y="33526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GSS Request (Empt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47920" y="3657600"/>
            <a:ext cx="6248160" cy="383040"/>
            <a:chOff x="1447920" y="3657600"/>
            <a:chExt cx="6248160" cy="383040"/>
          </a:xfrm>
        </p:grpSpPr>
        <p:grpSp>
          <p:nvGrpSpPr>
            <p:cNvPr id="208" name=""/>
            <p:cNvGrpSpPr/>
            <p:nvPr/>
          </p:nvGrpSpPr>
          <p:grpSpPr>
            <a:xfrm>
              <a:off x="1447920" y="3657600"/>
              <a:ext cx="3200400" cy="307080"/>
              <a:chOff x="1447920" y="3657600"/>
              <a:chExt cx="3200400" cy="307080"/>
            </a:xfrm>
          </p:grpSpPr>
          <p:sp>
            <p:nvSpPr>
              <p:cNvPr id="209" name=""/>
              <p:cNvSpPr/>
              <p:nvPr/>
            </p:nvSpPr>
            <p:spPr>
              <a:xfrm>
                <a:off x="1981080" y="3962160"/>
                <a:ext cx="228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447920" y="3657600"/>
                <a:ext cx="320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P-GSS Response (IAKERB: AS_REQ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495680" y="3733560"/>
              <a:ext cx="3200400" cy="307080"/>
              <a:chOff x="4495680" y="3733560"/>
              <a:chExt cx="3200400" cy="307080"/>
            </a:xfrm>
          </p:grpSpPr>
          <p:sp>
            <p:nvSpPr>
              <p:cNvPr id="212" name=""/>
              <p:cNvSpPr/>
              <p:nvPr/>
            </p:nvSpPr>
            <p:spPr>
              <a:xfrm>
                <a:off x="5029200" y="3961800"/>
                <a:ext cx="228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95680" y="3733560"/>
                <a:ext cx="320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_RE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1523880" y="4038480"/>
            <a:ext cx="6248520" cy="307080"/>
            <a:chOff x="1523880" y="4038480"/>
            <a:chExt cx="6248520" cy="307080"/>
          </a:xfrm>
        </p:grpSpPr>
        <p:grpSp>
          <p:nvGrpSpPr>
            <p:cNvPr id="215" name=""/>
            <p:cNvGrpSpPr/>
            <p:nvPr/>
          </p:nvGrpSpPr>
          <p:grpSpPr>
            <a:xfrm>
              <a:off x="1523880" y="4038480"/>
              <a:ext cx="3276720" cy="307080"/>
              <a:chOff x="1523880" y="4038480"/>
              <a:chExt cx="3276720" cy="307080"/>
            </a:xfrm>
          </p:grpSpPr>
          <p:sp>
            <p:nvSpPr>
              <p:cNvPr id="216" name=""/>
              <p:cNvSpPr/>
              <p:nvPr/>
            </p:nvSpPr>
            <p:spPr>
              <a:xfrm flipH="1">
                <a:off x="1980720" y="4343040"/>
                <a:ext cx="221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523880" y="403848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P-GSS Request (IAKERB: AS_REP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495680" y="4038480"/>
              <a:ext cx="3276720" cy="307080"/>
              <a:chOff x="4495680" y="4038480"/>
              <a:chExt cx="3276720" cy="30708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4952520" y="4266720"/>
                <a:ext cx="221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5680" y="403848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S_RE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1371600" y="4419720"/>
            <a:ext cx="6324480" cy="383400"/>
            <a:chOff x="1371600" y="4419720"/>
            <a:chExt cx="6324480" cy="383400"/>
          </a:xfrm>
        </p:grpSpPr>
        <p:grpSp>
          <p:nvGrpSpPr>
            <p:cNvPr id="222" name=""/>
            <p:cNvGrpSpPr/>
            <p:nvPr/>
          </p:nvGrpSpPr>
          <p:grpSpPr>
            <a:xfrm>
              <a:off x="1371600" y="4419720"/>
              <a:ext cx="3276720" cy="307080"/>
              <a:chOff x="1371600" y="4419720"/>
              <a:chExt cx="3276720" cy="307080"/>
            </a:xfrm>
          </p:grpSpPr>
          <p:sp>
            <p:nvSpPr>
              <p:cNvPr id="223" name=""/>
              <p:cNvSpPr/>
              <p:nvPr/>
            </p:nvSpPr>
            <p:spPr>
              <a:xfrm>
                <a:off x="1981080" y="4724640"/>
                <a:ext cx="228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71600" y="441972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P-GSS Response (IAKERB: TGS_REQ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4495680" y="4496040"/>
              <a:ext cx="3200400" cy="307080"/>
              <a:chOff x="4495680" y="4496040"/>
              <a:chExt cx="3200400" cy="307080"/>
            </a:xfrm>
          </p:grpSpPr>
          <p:sp>
            <p:nvSpPr>
              <p:cNvPr id="226" name=""/>
              <p:cNvSpPr/>
              <p:nvPr/>
            </p:nvSpPr>
            <p:spPr>
              <a:xfrm>
                <a:off x="5029200" y="4724640"/>
                <a:ext cx="228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495680" y="4496040"/>
                <a:ext cx="3200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GS_REQ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1523880" y="4800600"/>
            <a:ext cx="6248520" cy="383400"/>
            <a:chOff x="1523880" y="4800600"/>
            <a:chExt cx="6248520" cy="383400"/>
          </a:xfrm>
        </p:grpSpPr>
        <p:grpSp>
          <p:nvGrpSpPr>
            <p:cNvPr id="229" name=""/>
            <p:cNvGrpSpPr/>
            <p:nvPr/>
          </p:nvGrpSpPr>
          <p:grpSpPr>
            <a:xfrm>
              <a:off x="1523880" y="4800600"/>
              <a:ext cx="3276720" cy="307080"/>
              <a:chOff x="1523880" y="4800600"/>
              <a:chExt cx="3276720" cy="30708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980720" y="5105520"/>
                <a:ext cx="221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523880" y="480060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AP-GSS Request (IAKERB: TGS_REP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495680" y="4876920"/>
              <a:ext cx="3276720" cy="307080"/>
              <a:chOff x="4495680" y="4876920"/>
              <a:chExt cx="3276720" cy="307080"/>
            </a:xfrm>
          </p:grpSpPr>
          <p:sp>
            <p:nvSpPr>
              <p:cNvPr id="233" name=""/>
              <p:cNvSpPr/>
              <p:nvPr/>
            </p:nvSpPr>
            <p:spPr>
              <a:xfrm flipH="1">
                <a:off x="4952520" y="5105520"/>
                <a:ext cx="2210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95680" y="4876920"/>
                <a:ext cx="327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GS_RE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1828800" y="5181480"/>
            <a:ext cx="2590920" cy="307080"/>
            <a:chOff x="1828800" y="5181480"/>
            <a:chExt cx="2590920" cy="307080"/>
          </a:xfrm>
        </p:grpSpPr>
        <p:sp>
          <p:nvSpPr>
            <p:cNvPr id="236" name=""/>
            <p:cNvSpPr/>
            <p:nvPr/>
          </p:nvSpPr>
          <p:spPr>
            <a:xfrm>
              <a:off x="1981080" y="548604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28800" y="51814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AKERB Response (Empt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980720" y="5486400"/>
            <a:ext cx="2286360" cy="307080"/>
            <a:chOff x="1980720" y="5486400"/>
            <a:chExt cx="2286360" cy="307080"/>
          </a:xfrm>
        </p:grpSpPr>
        <p:sp>
          <p:nvSpPr>
            <p:cNvPr id="239" name=""/>
            <p:cNvSpPr/>
            <p:nvPr/>
          </p:nvSpPr>
          <p:spPr>
            <a:xfrm flipH="1">
              <a:off x="1980720" y="57150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57400" y="548640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Su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828800" y="5715000"/>
            <a:ext cx="2590920" cy="307080"/>
            <a:chOff x="1828800" y="5715000"/>
            <a:chExt cx="2590920" cy="307080"/>
          </a:xfrm>
        </p:grpSpPr>
        <p:sp>
          <p:nvSpPr>
            <p:cNvPr id="242" name=""/>
            <p:cNvSpPr/>
            <p:nvPr/>
          </p:nvSpPr>
          <p:spPr>
            <a:xfrm>
              <a:off x="1981080" y="601956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8800" y="57150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980720" y="6019920"/>
            <a:ext cx="2286360" cy="307080"/>
            <a:chOff x="1980720" y="6019920"/>
            <a:chExt cx="2286360" cy="307080"/>
          </a:xfrm>
        </p:grpSpPr>
        <p:sp>
          <p:nvSpPr>
            <p:cNvPr id="245" name=""/>
            <p:cNvSpPr/>
            <p:nvPr/>
          </p:nvSpPr>
          <p:spPr>
            <a:xfrm flipH="1">
              <a:off x="1980720" y="624816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57400" y="601992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609480" cy="923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7440480" y="144792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572000" y="1752480"/>
            <a:ext cx="2941560" cy="763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ff66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1905120"/>
            <a:ext cx="251460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1965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01000" y="21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54864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802.1X is Un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943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802.11 is Un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905120" y="2286000"/>
            <a:ext cx="2286000" cy="459000"/>
            <a:chOff x="1905120" y="2286000"/>
            <a:chExt cx="2286000" cy="459000"/>
          </a:xfrm>
        </p:grpSpPr>
        <p:sp>
          <p:nvSpPr>
            <p:cNvPr id="258" name=""/>
            <p:cNvSpPr/>
            <p:nvPr/>
          </p:nvSpPr>
          <p:spPr>
            <a:xfrm>
              <a:off x="1905120" y="25146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10040" y="22860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robe Request/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59C-7B39-46AF-A21B-FDBF8BAAFA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al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 method defaults to IAKE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can attempt SPNE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 can choose IAKERB if it doesn’t support anything e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-Key packets passed up and down via driver interface and 802.11 S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STA, GSS_API implementation needs to be able to generate AP_REQ, send it down to 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P, need ability to validate received AP_REQ, force 802.1X controlled port into authorize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encryption turned on after AP_REQ/AP_REP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 turns on encryption after sending AP_R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 turns on encryption after receiving AP_R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EAP-Key exchange occurs prior to completion of 802.1X, then part of the 802.1X exchange may be encrypt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C09-7640-49E7-8F18-89FEE2FE47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,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Manag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f 802.1X and 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ex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top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802.11 and 802.1X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5D3-4F15-40AB-AE26-06825DC27A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f client to KDC (TGS_RE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DATA typically NOT used with AS_REQ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f KDC to client (AS_REP, TGS_R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 key for client-AP communication (TGS_REP, AP_RE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T, Session key for client-KDC communication (AS_R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f client to AP (AP_RE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of AP to client (AP_RE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C27-8E40-4B60-9851-2C208CFC6EE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0" y="2438280"/>
            <a:ext cx="304920" cy="3886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2438280"/>
            <a:ext cx="2971800" cy="38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19320" y="2438280"/>
            <a:ext cx="3352680" cy="3886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ming Within Rea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81080" y="2895480"/>
            <a:ext cx="2286000" cy="307080"/>
            <a:chOff x="1981080" y="2895480"/>
            <a:chExt cx="2286000" cy="307080"/>
          </a:xfrm>
        </p:grpSpPr>
        <p:sp>
          <p:nvSpPr>
            <p:cNvPr id="269" name=""/>
            <p:cNvSpPr/>
            <p:nvPr/>
          </p:nvSpPr>
          <p:spPr>
            <a:xfrm>
              <a:off x="1981080" y="312408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86000" y="28954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ssoc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980720" y="3962520"/>
            <a:ext cx="2210040" cy="307080"/>
            <a:chOff x="1980720" y="3962520"/>
            <a:chExt cx="2210040" cy="307080"/>
          </a:xfrm>
        </p:grpSpPr>
        <p:sp>
          <p:nvSpPr>
            <p:cNvPr id="272" name=""/>
            <p:cNvSpPr/>
            <p:nvPr/>
          </p:nvSpPr>
          <p:spPr>
            <a:xfrm flipH="1">
              <a:off x="1980720" y="419076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09680" y="39625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quest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981080" y="4343400"/>
            <a:ext cx="2286000" cy="307080"/>
            <a:chOff x="1981080" y="4343400"/>
            <a:chExt cx="2286000" cy="307080"/>
          </a:xfrm>
        </p:grpSpPr>
        <p:sp>
          <p:nvSpPr>
            <p:cNvPr id="275" name=""/>
            <p:cNvSpPr/>
            <p:nvPr/>
          </p:nvSpPr>
          <p:spPr>
            <a:xfrm>
              <a:off x="1981080" y="45720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434340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 Identity Response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980720" y="4724280"/>
            <a:ext cx="2286360" cy="307080"/>
            <a:chOff x="1980720" y="4724280"/>
            <a:chExt cx="2286360" cy="307080"/>
          </a:xfrm>
        </p:grpSpPr>
        <p:sp>
          <p:nvSpPr>
            <p:cNvPr id="278" name=""/>
            <p:cNvSpPr/>
            <p:nvPr/>
          </p:nvSpPr>
          <p:spPr>
            <a:xfrm flipH="1">
              <a:off x="1980720" y="49528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57400" y="4724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Su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828800" y="3200400"/>
            <a:ext cx="2590920" cy="307080"/>
            <a:chOff x="1828800" y="3200400"/>
            <a:chExt cx="2590920" cy="307080"/>
          </a:xfrm>
        </p:grpSpPr>
        <p:sp>
          <p:nvSpPr>
            <p:cNvPr id="281" name=""/>
            <p:cNvSpPr/>
            <p:nvPr/>
          </p:nvSpPr>
          <p:spPr>
            <a:xfrm>
              <a:off x="1981080" y="350496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28800" y="320040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Q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980720" y="3581280"/>
            <a:ext cx="2286360" cy="307080"/>
            <a:chOff x="1980720" y="3581280"/>
            <a:chExt cx="2286360" cy="307080"/>
          </a:xfrm>
        </p:grpSpPr>
        <p:sp>
          <p:nvSpPr>
            <p:cNvPr id="284" name=""/>
            <p:cNvSpPr/>
            <p:nvPr/>
          </p:nvSpPr>
          <p:spPr>
            <a:xfrm flipH="1">
              <a:off x="1980720" y="380988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57400" y="3581280"/>
              <a:ext cx="220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EAP-Key (AP_RE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914400" cy="7412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609480" cy="9237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7440480" y="1447920"/>
            <a:ext cx="789120" cy="836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4572000" y="1752480"/>
            <a:ext cx="2941560" cy="76320"/>
          </a:xfrm>
          <a:custGeom>
            <a:avLst/>
            <a:gdLst/>
            <a:ahLst/>
            <a:rect l="l" t="t" r="r" b="b"/>
            <a:pathLst>
              <a:path w="1999" h="73">
                <a:moveTo>
                  <a:pt x="0" y="73"/>
                </a:moveTo>
                <a:lnTo>
                  <a:pt x="0" y="0"/>
                </a:lnTo>
                <a:lnTo>
                  <a:pt x="1999" y="0"/>
                </a:lnTo>
              </a:path>
            </a:pathLst>
          </a:custGeom>
          <a:noFill/>
          <a:ln w="25560">
            <a:solidFill>
              <a:srgbClr val="ff66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52480" y="1905120"/>
            <a:ext cx="2514600" cy="1522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0000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4920" y="227016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965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01000" y="21337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505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95680" y="46483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802.1X is Un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35812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802.11  is Unbloc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81080" y="2438280"/>
            <a:ext cx="2286000" cy="459000"/>
            <a:chOff x="1981080" y="2438280"/>
            <a:chExt cx="2286000" cy="459000"/>
          </a:xfrm>
        </p:grpSpPr>
        <p:sp>
          <p:nvSpPr>
            <p:cNvPr id="297" name=""/>
            <p:cNvSpPr/>
            <p:nvPr/>
          </p:nvSpPr>
          <p:spPr>
            <a:xfrm>
              <a:off x="1981080" y="266688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0" y="24382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Probe Request/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306-CC48-46D2-AF7F-2494A5CC1F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ming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the STA discover the AP realm, principal na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m, Principal name placed in Probe Response if asked for by the 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es the AP obtain the authorizations for the supplica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ntact RADIUS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s an extra round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authorization-only message in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 with backend server undesi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tickets are reusable, don’t require KDC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server typically unable to validate the AP_REQ, since it won’t have access to the AP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ing backend server contact reduces 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izations included in Authorization data of AP ti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orizations obtained by KDC from RADIUS server on initial contact and plumbed by the AP on ticket/authenticator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59B-923B-458F-BEA1-52E69490AE1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DIUS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219320" y="4638600"/>
            <a:ext cx="758520" cy="619200"/>
            <a:chOff x="1219320" y="4638600"/>
            <a:chExt cx="758520" cy="619200"/>
          </a:xfrm>
        </p:grpSpPr>
        <p:grpSp>
          <p:nvGrpSpPr>
            <p:cNvPr id="303" name=""/>
            <p:cNvGrpSpPr/>
            <p:nvPr/>
          </p:nvGrpSpPr>
          <p:grpSpPr>
            <a:xfrm>
              <a:off x="1219320" y="4638600"/>
              <a:ext cx="758520" cy="619200"/>
              <a:chOff x="1219320" y="4638600"/>
              <a:chExt cx="758520" cy="619200"/>
            </a:xfrm>
          </p:grpSpPr>
          <p:sp>
            <p:nvSpPr>
              <p:cNvPr id="304" name=""/>
              <p:cNvSpPr/>
              <p:nvPr/>
            </p:nvSpPr>
            <p:spPr>
              <a:xfrm>
                <a:off x="1222200" y="4680000"/>
                <a:ext cx="88920" cy="357120"/>
              </a:xfrm>
              <a:custGeom>
                <a:avLst/>
                <a:gdLst/>
                <a:ahLst/>
                <a:rect l="l" t="t" r="r" b="b"/>
                <a:pathLst>
                  <a:path w="56" h="225">
                    <a:moveTo>
                      <a:pt x="52" y="10"/>
                    </a:moveTo>
                    <a:lnTo>
                      <a:pt x="55" y="224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52" y="10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219320" y="4680000"/>
                <a:ext cx="412560" cy="27000"/>
              </a:xfrm>
              <a:custGeom>
                <a:avLst/>
                <a:gdLst/>
                <a:ahLst/>
                <a:rect l="l" t="t" r="r" b="b"/>
                <a:pathLst>
                  <a:path w="260" h="17">
                    <a:moveTo>
                      <a:pt x="259" y="16"/>
                    </a:moveTo>
                    <a:lnTo>
                      <a:pt x="53" y="16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59" y="1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86000" y="5094360"/>
                <a:ext cx="396720" cy="34920"/>
              </a:xfrm>
              <a:custGeom>
                <a:avLst/>
                <a:gdLst/>
                <a:ahLst/>
                <a:rect l="l" t="t" r="r" b="b"/>
                <a:pathLst>
                  <a:path w="250" h="22">
                    <a:moveTo>
                      <a:pt x="0" y="21"/>
                    </a:moveTo>
                    <a:lnTo>
                      <a:pt x="249" y="21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314360" y="5024520"/>
                <a:ext cx="459000" cy="7452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288" y="46"/>
                    </a:moveTo>
                    <a:lnTo>
                      <a:pt x="49" y="46"/>
                    </a:lnTo>
                    <a:lnTo>
                      <a:pt x="0" y="0"/>
                    </a:lnTo>
                    <a:lnTo>
                      <a:pt x="238" y="0"/>
                    </a:lnTo>
                    <a:lnTo>
                      <a:pt x="288" y="4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316160" y="5021280"/>
                <a:ext cx="82440" cy="114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1" y="46"/>
                    </a:moveTo>
                    <a:lnTo>
                      <a:pt x="51" y="7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1" y="46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278000" y="4638600"/>
                <a:ext cx="527040" cy="58680"/>
              </a:xfrm>
              <a:custGeom>
                <a:avLst/>
                <a:gdLst/>
                <a:ahLst/>
                <a:rect l="l" t="t" r="r" b="b"/>
                <a:pathLst>
                  <a:path w="332" h="37">
                    <a:moveTo>
                      <a:pt x="331" y="36"/>
                    </a:moveTo>
                    <a:lnTo>
                      <a:pt x="35" y="36"/>
                    </a:lnTo>
                    <a:lnTo>
                      <a:pt x="0" y="0"/>
                    </a:lnTo>
                    <a:lnTo>
                      <a:pt x="291" y="0"/>
                    </a:lnTo>
                    <a:lnTo>
                      <a:pt x="331" y="3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279440" y="4638600"/>
                <a:ext cx="58680" cy="432000"/>
              </a:xfrm>
              <a:custGeom>
                <a:avLst/>
                <a:gdLst/>
                <a:ahLst/>
                <a:rect l="l" t="t" r="r" b="b"/>
                <a:pathLst>
                  <a:path w="37" h="272">
                    <a:moveTo>
                      <a:pt x="36" y="31"/>
                    </a:moveTo>
                    <a:lnTo>
                      <a:pt x="36" y="271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36" y="31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32000" y="4691160"/>
                <a:ext cx="469800" cy="379440"/>
              </a:xfrm>
              <a:custGeom>
                <a:avLst/>
                <a:gdLst/>
                <a:ahLst/>
                <a:rect l="l" t="t" r="r" b="b"/>
                <a:pathLst>
                  <a:path w="296" h="239">
                    <a:moveTo>
                      <a:pt x="0" y="238"/>
                    </a:moveTo>
                    <a:lnTo>
                      <a:pt x="295" y="238"/>
                    </a:lnTo>
                    <a:lnTo>
                      <a:pt x="295" y="0"/>
                    </a:lnTo>
                    <a:lnTo>
                      <a:pt x="0" y="0"/>
                    </a:lnTo>
                    <a:lnTo>
                      <a:pt x="0" y="23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220760" y="5106960"/>
                <a:ext cx="95400" cy="150840"/>
              </a:xfrm>
              <a:custGeom>
                <a:avLst/>
                <a:gdLst/>
                <a:ahLst/>
                <a:rect l="l" t="t" r="r" b="b"/>
                <a:pathLst>
                  <a:path w="60" h="95">
                    <a:moveTo>
                      <a:pt x="59" y="75"/>
                    </a:moveTo>
                    <a:lnTo>
                      <a:pt x="59" y="9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9" y="75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309680" y="5224320"/>
                <a:ext cx="668160" cy="30240"/>
              </a:xfrm>
              <a:custGeom>
                <a:avLst/>
                <a:gdLst/>
                <a:ahLst/>
                <a:rect l="l" t="t" r="r" b="b"/>
                <a:pathLst>
                  <a:path w="421" h="19">
                    <a:moveTo>
                      <a:pt x="0" y="18"/>
                    </a:moveTo>
                    <a:lnTo>
                      <a:pt x="420" y="18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1384200" y="4729320"/>
                <a:ext cx="373320" cy="295200"/>
                <a:chOff x="1384200" y="4729320"/>
                <a:chExt cx="373320" cy="2952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384200" y="4732200"/>
                  <a:ext cx="373320" cy="289080"/>
                </a:xfrm>
                <a:custGeom>
                  <a:avLst/>
                  <a:gdLst/>
                  <a:ahLst/>
                  <a:rect l="l" t="t" r="r" b="b"/>
                  <a:pathLst>
                    <a:path w="235" h="182">
                      <a:moveTo>
                        <a:pt x="0" y="0"/>
                      </a:moveTo>
                      <a:lnTo>
                        <a:pt x="234" y="181"/>
                      </a:lnTo>
                      <a:lnTo>
                        <a:pt x="0" y="18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384200" y="4729320"/>
                  <a:ext cx="373320" cy="295200"/>
                </a:xfrm>
                <a:custGeom>
                  <a:avLst/>
                  <a:gdLst/>
                  <a:ahLst/>
                  <a:rect l="l" t="t" r="r" b="b"/>
                  <a:pathLst>
                    <a:path w="235" h="186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234" y="18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59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1219320" y="5110200"/>
                <a:ext cx="757080" cy="120600"/>
              </a:xfrm>
              <a:custGeom>
                <a:avLst/>
                <a:gdLst/>
                <a:ahLst/>
                <a:rect l="l" t="t" r="r" b="b"/>
                <a:pathLst>
                  <a:path w="477" h="76">
                    <a:moveTo>
                      <a:pt x="476" y="75"/>
                    </a:moveTo>
                    <a:lnTo>
                      <a:pt x="56" y="75"/>
                    </a:lnTo>
                    <a:lnTo>
                      <a:pt x="0" y="0"/>
                    </a:lnTo>
                    <a:lnTo>
                      <a:pt x="418" y="0"/>
                    </a:lnTo>
                    <a:lnTo>
                      <a:pt x="476" y="75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278000" y="4643640"/>
                <a:ext cx="0" cy="37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1400040" y="4743360"/>
              <a:ext cx="341280" cy="26676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0" y="167"/>
                  </a:moveTo>
                  <a:lnTo>
                    <a:pt x="214" y="167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038480" y="3537000"/>
            <a:ext cx="1074600" cy="425520"/>
            <a:chOff x="4038480" y="3537000"/>
            <a:chExt cx="1074600" cy="425520"/>
          </a:xfrm>
        </p:grpSpPr>
        <p:grpSp>
          <p:nvGrpSpPr>
            <p:cNvPr id="321" name=""/>
            <p:cNvGrpSpPr/>
            <p:nvPr/>
          </p:nvGrpSpPr>
          <p:grpSpPr>
            <a:xfrm>
              <a:off x="4038480" y="3537000"/>
              <a:ext cx="1074600" cy="425520"/>
              <a:chOff x="4038480" y="3537000"/>
              <a:chExt cx="1074600" cy="425520"/>
            </a:xfrm>
          </p:grpSpPr>
          <p:sp>
            <p:nvSpPr>
              <p:cNvPr id="322" name=""/>
              <p:cNvSpPr/>
              <p:nvPr/>
            </p:nvSpPr>
            <p:spPr>
              <a:xfrm>
                <a:off x="4038480" y="3537000"/>
                <a:ext cx="77760" cy="425520"/>
              </a:xfrm>
              <a:custGeom>
                <a:avLst/>
                <a:gdLst/>
                <a:ahLst/>
                <a:rect l="l" t="t" r="r" b="b"/>
                <a:pathLst>
                  <a:path w="49" h="268">
                    <a:moveTo>
                      <a:pt x="48" y="92"/>
                    </a:moveTo>
                    <a:lnTo>
                      <a:pt x="48" y="267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48" y="92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109760" y="3699000"/>
                <a:ext cx="1000080" cy="249120"/>
              </a:xfrm>
              <a:custGeom>
                <a:avLst/>
                <a:gdLst/>
                <a:ahLst/>
                <a:rect l="l" t="t" r="r" b="b"/>
                <a:pathLst>
                  <a:path w="630" h="157">
                    <a:moveTo>
                      <a:pt x="0" y="156"/>
                    </a:moveTo>
                    <a:lnTo>
                      <a:pt x="629" y="156"/>
                    </a:lnTo>
                    <a:lnTo>
                      <a:pt x="629" y="0"/>
                    </a:lnTo>
                    <a:lnTo>
                      <a:pt x="0" y="0"/>
                    </a:lnTo>
                    <a:lnTo>
                      <a:pt x="0" y="15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046400" y="3543480"/>
                <a:ext cx="1066680" cy="153720"/>
              </a:xfrm>
              <a:custGeom>
                <a:avLst/>
                <a:gdLst/>
                <a:ahLst/>
                <a:rect l="l" t="t" r="r" b="b"/>
                <a:pathLst>
                  <a:path w="672" h="97">
                    <a:moveTo>
                      <a:pt x="671" y="96"/>
                    </a:moveTo>
                    <a:lnTo>
                      <a:pt x="40" y="96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71" y="9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144680" y="3776760"/>
                <a:ext cx="168120" cy="66600"/>
              </a:xfrm>
              <a:custGeom>
                <a:avLst/>
                <a:gdLst/>
                <a:ahLst/>
                <a:rect l="l" t="t" r="r" b="b"/>
                <a:pathLst>
                  <a:path w="106" h="42">
                    <a:moveTo>
                      <a:pt x="0" y="0"/>
                    </a:moveTo>
                    <a:lnTo>
                      <a:pt x="105" y="0"/>
                    </a:lnTo>
                    <a:lnTo>
                      <a:pt x="105" y="41"/>
                    </a:lnTo>
                    <a:lnTo>
                      <a:pt x="0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32080" y="374508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0" y="0"/>
                    </a:moveTo>
                    <a:lnTo>
                      <a:pt x="31" y="0"/>
                    </a:lnTo>
                    <a:lnTo>
                      <a:pt x="31" y="55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27240" y="3848040"/>
                <a:ext cx="268200" cy="604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4143240" y="3855960"/>
                <a:ext cx="645840" cy="57240"/>
                <a:chOff x="4143240" y="3855960"/>
                <a:chExt cx="645840" cy="572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14324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2192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296960" y="3855960"/>
                  <a:ext cx="2880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371840" y="3855960"/>
                  <a:ext cx="3312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4496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52736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603320" y="3855960"/>
                  <a:ext cx="334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682880" y="3855960"/>
                  <a:ext cx="3024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75920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4190760" y="3711600"/>
              <a:ext cx="844560" cy="19224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114800" y="4114800"/>
            <a:ext cx="17845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 Access Po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53244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91120" y="20574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43360" y="2057400"/>
            <a:ext cx="21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79480" y="2057400"/>
            <a:ext cx="2446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-Public Network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29320" y="3598920"/>
            <a:ext cx="1471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io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7273800" y="2286000"/>
            <a:ext cx="345960" cy="812520"/>
            <a:chOff x="7273800" y="2286000"/>
            <a:chExt cx="345960" cy="812520"/>
          </a:xfrm>
        </p:grpSpPr>
        <p:sp>
          <p:nvSpPr>
            <p:cNvPr id="346" name=""/>
            <p:cNvSpPr/>
            <p:nvPr/>
          </p:nvSpPr>
          <p:spPr>
            <a:xfrm>
              <a:off x="7273800" y="2289240"/>
              <a:ext cx="83880" cy="803160"/>
            </a:xfrm>
            <a:custGeom>
              <a:avLst/>
              <a:gdLst/>
              <a:ahLst/>
              <a:rect l="l" t="t" r="r" b="b"/>
              <a:pathLst>
                <a:path w="53" h="506">
                  <a:moveTo>
                    <a:pt x="52" y="41"/>
                  </a:moveTo>
                  <a:lnTo>
                    <a:pt x="52" y="505"/>
                  </a:lnTo>
                  <a:lnTo>
                    <a:pt x="0" y="463"/>
                  </a:lnTo>
                  <a:lnTo>
                    <a:pt x="0" y="0"/>
                  </a:lnTo>
                  <a:lnTo>
                    <a:pt x="52" y="41"/>
                  </a:lnTo>
                </a:path>
              </a:pathLst>
            </a:custGeom>
            <a:solidFill>
              <a:srgbClr val="7d7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56240" y="2351160"/>
              <a:ext cx="263520" cy="747360"/>
            </a:xfrm>
            <a:custGeom>
              <a:avLst/>
              <a:gdLst/>
              <a:ahLst/>
              <a:rect l="l" t="t" r="r" b="b"/>
              <a:pathLst>
                <a:path w="166" h="471">
                  <a:moveTo>
                    <a:pt x="0" y="470"/>
                  </a:moveTo>
                  <a:lnTo>
                    <a:pt x="165" y="47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470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81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5783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387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8800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44192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990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79920" y="2286000"/>
              <a:ext cx="339840" cy="71280"/>
            </a:xfrm>
            <a:custGeom>
              <a:avLst/>
              <a:gdLst/>
              <a:ahLst/>
              <a:rect l="l" t="t" r="r" b="b"/>
              <a:pathLst>
                <a:path w="214" h="45">
                  <a:moveTo>
                    <a:pt x="213" y="44"/>
                  </a:moveTo>
                  <a:lnTo>
                    <a:pt x="47" y="44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213" y="44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135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7381440" y="2419200"/>
              <a:ext cx="98640" cy="190440"/>
              <a:chOff x="7381440" y="2419200"/>
              <a:chExt cx="98640" cy="1904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7386480" y="2423880"/>
                <a:ext cx="93600" cy="185760"/>
                <a:chOff x="7386480" y="2423880"/>
                <a:chExt cx="93600" cy="1857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7381440" y="2419200"/>
                <a:ext cx="98640" cy="190440"/>
                <a:chOff x="7381440" y="2419200"/>
                <a:chExt cx="98640" cy="19044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1" name=""/>
            <p:cNvSpPr/>
            <p:nvPr/>
          </p:nvSpPr>
          <p:spPr>
            <a:xfrm>
              <a:off x="7356240" y="26510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56240" y="268272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60920" y="2954160"/>
              <a:ext cx="2570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56240" y="30146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248520" y="3048120"/>
            <a:ext cx="865080" cy="279360"/>
            <a:chOff x="6248520" y="3048120"/>
            <a:chExt cx="865080" cy="279360"/>
          </a:xfrm>
        </p:grpSpPr>
        <p:grpSp>
          <p:nvGrpSpPr>
            <p:cNvPr id="366" name=""/>
            <p:cNvGrpSpPr/>
            <p:nvPr/>
          </p:nvGrpSpPr>
          <p:grpSpPr>
            <a:xfrm>
              <a:off x="6248520" y="3048120"/>
              <a:ext cx="865080" cy="279360"/>
              <a:chOff x="6248520" y="3048120"/>
              <a:chExt cx="865080" cy="279360"/>
            </a:xfrm>
          </p:grpSpPr>
          <p:sp>
            <p:nvSpPr>
              <p:cNvPr id="367" name=""/>
              <p:cNvSpPr/>
              <p:nvPr/>
            </p:nvSpPr>
            <p:spPr>
              <a:xfrm flipV="1">
                <a:off x="6629400" y="304812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6248520" y="309852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flipH="1">
              <a:off x="6629400" y="309888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V="1">
            <a:off x="1752480" y="3809520"/>
            <a:ext cx="213372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029200" y="2666520"/>
            <a:ext cx="198108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37280" y="2286000"/>
            <a:ext cx="201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20505000">
            <a:off x="1500120" y="3695400"/>
            <a:ext cx="332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Wireless (EAP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20350800">
            <a:off x="4952520" y="2819160"/>
            <a:ext cx="183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105520" y="3429000"/>
            <a:ext cx="865080" cy="279360"/>
            <a:chOff x="5105520" y="3429000"/>
            <a:chExt cx="865080" cy="279360"/>
          </a:xfrm>
        </p:grpSpPr>
        <p:grpSp>
          <p:nvGrpSpPr>
            <p:cNvPr id="376" name=""/>
            <p:cNvGrpSpPr/>
            <p:nvPr/>
          </p:nvGrpSpPr>
          <p:grpSpPr>
            <a:xfrm>
              <a:off x="5105520" y="3429000"/>
              <a:ext cx="865080" cy="279360"/>
              <a:chOff x="5105520" y="3429000"/>
              <a:chExt cx="865080" cy="279360"/>
            </a:xfrm>
          </p:grpSpPr>
          <p:sp>
            <p:nvSpPr>
              <p:cNvPr id="377" name=""/>
              <p:cNvSpPr/>
              <p:nvPr/>
            </p:nvSpPr>
            <p:spPr>
              <a:xfrm flipV="1">
                <a:off x="5486400" y="342900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5105520" y="347940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 flipH="1">
              <a:off x="5486400" y="347976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715000" y="3200400"/>
            <a:ext cx="762120" cy="457200"/>
          </a:xfrm>
          <a:prstGeom prst="cloudCallout">
            <a:avLst>
              <a:gd name="adj1" fmla="val 8541"/>
              <a:gd name="adj2" fmla="val 36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19320" y="472428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1120" y="365760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03848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796" y="187"/>
                </a:lnTo>
                <a:lnTo>
                  <a:pt x="672" y="331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638-175F-473E-8066-9BAEEDC99E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219320" y="4638600"/>
            <a:ext cx="758520" cy="619200"/>
            <a:chOff x="1219320" y="4638600"/>
            <a:chExt cx="758520" cy="619200"/>
          </a:xfrm>
        </p:grpSpPr>
        <p:grpSp>
          <p:nvGrpSpPr>
            <p:cNvPr id="386" name=""/>
            <p:cNvGrpSpPr/>
            <p:nvPr/>
          </p:nvGrpSpPr>
          <p:grpSpPr>
            <a:xfrm>
              <a:off x="1219320" y="4638600"/>
              <a:ext cx="758520" cy="619200"/>
              <a:chOff x="1219320" y="4638600"/>
              <a:chExt cx="758520" cy="619200"/>
            </a:xfrm>
          </p:grpSpPr>
          <p:sp>
            <p:nvSpPr>
              <p:cNvPr id="387" name=""/>
              <p:cNvSpPr/>
              <p:nvPr/>
            </p:nvSpPr>
            <p:spPr>
              <a:xfrm>
                <a:off x="1222200" y="4680000"/>
                <a:ext cx="88920" cy="357120"/>
              </a:xfrm>
              <a:custGeom>
                <a:avLst/>
                <a:gdLst/>
                <a:ahLst/>
                <a:rect l="l" t="t" r="r" b="b"/>
                <a:pathLst>
                  <a:path w="56" h="225">
                    <a:moveTo>
                      <a:pt x="52" y="10"/>
                    </a:moveTo>
                    <a:lnTo>
                      <a:pt x="55" y="224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52" y="10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219320" y="4680000"/>
                <a:ext cx="412560" cy="27000"/>
              </a:xfrm>
              <a:custGeom>
                <a:avLst/>
                <a:gdLst/>
                <a:ahLst/>
                <a:rect l="l" t="t" r="r" b="b"/>
                <a:pathLst>
                  <a:path w="260" h="17">
                    <a:moveTo>
                      <a:pt x="259" y="16"/>
                    </a:moveTo>
                    <a:lnTo>
                      <a:pt x="53" y="16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59" y="1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86000" y="5094360"/>
                <a:ext cx="396720" cy="34920"/>
              </a:xfrm>
              <a:custGeom>
                <a:avLst/>
                <a:gdLst/>
                <a:ahLst/>
                <a:rect l="l" t="t" r="r" b="b"/>
                <a:pathLst>
                  <a:path w="250" h="22">
                    <a:moveTo>
                      <a:pt x="0" y="21"/>
                    </a:moveTo>
                    <a:lnTo>
                      <a:pt x="249" y="21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14360" y="5024520"/>
                <a:ext cx="459000" cy="7452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288" y="46"/>
                    </a:moveTo>
                    <a:lnTo>
                      <a:pt x="49" y="46"/>
                    </a:lnTo>
                    <a:lnTo>
                      <a:pt x="0" y="0"/>
                    </a:lnTo>
                    <a:lnTo>
                      <a:pt x="238" y="0"/>
                    </a:lnTo>
                    <a:lnTo>
                      <a:pt x="288" y="4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16160" y="5021280"/>
                <a:ext cx="82440" cy="114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1" y="46"/>
                    </a:moveTo>
                    <a:lnTo>
                      <a:pt x="51" y="7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1" y="46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278000" y="4638600"/>
                <a:ext cx="527040" cy="58680"/>
              </a:xfrm>
              <a:custGeom>
                <a:avLst/>
                <a:gdLst/>
                <a:ahLst/>
                <a:rect l="l" t="t" r="r" b="b"/>
                <a:pathLst>
                  <a:path w="332" h="37">
                    <a:moveTo>
                      <a:pt x="331" y="36"/>
                    </a:moveTo>
                    <a:lnTo>
                      <a:pt x="35" y="36"/>
                    </a:lnTo>
                    <a:lnTo>
                      <a:pt x="0" y="0"/>
                    </a:lnTo>
                    <a:lnTo>
                      <a:pt x="291" y="0"/>
                    </a:lnTo>
                    <a:lnTo>
                      <a:pt x="331" y="3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279440" y="4638600"/>
                <a:ext cx="58680" cy="432000"/>
              </a:xfrm>
              <a:custGeom>
                <a:avLst/>
                <a:gdLst/>
                <a:ahLst/>
                <a:rect l="l" t="t" r="r" b="b"/>
                <a:pathLst>
                  <a:path w="37" h="272">
                    <a:moveTo>
                      <a:pt x="36" y="31"/>
                    </a:moveTo>
                    <a:lnTo>
                      <a:pt x="36" y="271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36" y="31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32000" y="4691160"/>
                <a:ext cx="469800" cy="379440"/>
              </a:xfrm>
              <a:custGeom>
                <a:avLst/>
                <a:gdLst/>
                <a:ahLst/>
                <a:rect l="l" t="t" r="r" b="b"/>
                <a:pathLst>
                  <a:path w="296" h="239">
                    <a:moveTo>
                      <a:pt x="0" y="238"/>
                    </a:moveTo>
                    <a:lnTo>
                      <a:pt x="295" y="238"/>
                    </a:lnTo>
                    <a:lnTo>
                      <a:pt x="295" y="0"/>
                    </a:lnTo>
                    <a:lnTo>
                      <a:pt x="0" y="0"/>
                    </a:lnTo>
                    <a:lnTo>
                      <a:pt x="0" y="23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20760" y="5106960"/>
                <a:ext cx="95400" cy="150840"/>
              </a:xfrm>
              <a:custGeom>
                <a:avLst/>
                <a:gdLst/>
                <a:ahLst/>
                <a:rect l="l" t="t" r="r" b="b"/>
                <a:pathLst>
                  <a:path w="60" h="95">
                    <a:moveTo>
                      <a:pt x="59" y="75"/>
                    </a:moveTo>
                    <a:lnTo>
                      <a:pt x="59" y="9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9" y="75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309680" y="5224320"/>
                <a:ext cx="668160" cy="30240"/>
              </a:xfrm>
              <a:custGeom>
                <a:avLst/>
                <a:gdLst/>
                <a:ahLst/>
                <a:rect l="l" t="t" r="r" b="b"/>
                <a:pathLst>
                  <a:path w="421" h="19">
                    <a:moveTo>
                      <a:pt x="0" y="18"/>
                    </a:moveTo>
                    <a:lnTo>
                      <a:pt x="420" y="18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7" name=""/>
              <p:cNvGrpSpPr/>
              <p:nvPr/>
            </p:nvGrpSpPr>
            <p:grpSpPr>
              <a:xfrm>
                <a:off x="1384200" y="4729320"/>
                <a:ext cx="373320" cy="295200"/>
                <a:chOff x="1384200" y="4729320"/>
                <a:chExt cx="373320" cy="2952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1384200" y="4732200"/>
                  <a:ext cx="373320" cy="289080"/>
                </a:xfrm>
                <a:custGeom>
                  <a:avLst/>
                  <a:gdLst/>
                  <a:ahLst/>
                  <a:rect l="l" t="t" r="r" b="b"/>
                  <a:pathLst>
                    <a:path w="235" h="182">
                      <a:moveTo>
                        <a:pt x="0" y="0"/>
                      </a:moveTo>
                      <a:lnTo>
                        <a:pt x="234" y="181"/>
                      </a:lnTo>
                      <a:lnTo>
                        <a:pt x="0" y="18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1384200" y="4729320"/>
                  <a:ext cx="373320" cy="295200"/>
                </a:xfrm>
                <a:custGeom>
                  <a:avLst/>
                  <a:gdLst/>
                  <a:ahLst/>
                  <a:rect l="l" t="t" r="r" b="b"/>
                  <a:pathLst>
                    <a:path w="235" h="186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234" y="18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59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1219320" y="5110200"/>
                <a:ext cx="757080" cy="120600"/>
              </a:xfrm>
              <a:custGeom>
                <a:avLst/>
                <a:gdLst/>
                <a:ahLst/>
                <a:rect l="l" t="t" r="r" b="b"/>
                <a:pathLst>
                  <a:path w="477" h="76">
                    <a:moveTo>
                      <a:pt x="476" y="75"/>
                    </a:moveTo>
                    <a:lnTo>
                      <a:pt x="56" y="75"/>
                    </a:lnTo>
                    <a:lnTo>
                      <a:pt x="0" y="0"/>
                    </a:lnTo>
                    <a:lnTo>
                      <a:pt x="418" y="0"/>
                    </a:lnTo>
                    <a:lnTo>
                      <a:pt x="476" y="75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78000" y="4643640"/>
                <a:ext cx="0" cy="37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1400040" y="4743360"/>
              <a:ext cx="341280" cy="26676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0" y="167"/>
                  </a:moveTo>
                  <a:lnTo>
                    <a:pt x="214" y="167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038480" y="3537000"/>
            <a:ext cx="1074600" cy="425520"/>
            <a:chOff x="4038480" y="3537000"/>
            <a:chExt cx="1074600" cy="425520"/>
          </a:xfrm>
        </p:grpSpPr>
        <p:grpSp>
          <p:nvGrpSpPr>
            <p:cNvPr id="404" name=""/>
            <p:cNvGrpSpPr/>
            <p:nvPr/>
          </p:nvGrpSpPr>
          <p:grpSpPr>
            <a:xfrm>
              <a:off x="4038480" y="3537000"/>
              <a:ext cx="1074600" cy="425520"/>
              <a:chOff x="4038480" y="3537000"/>
              <a:chExt cx="1074600" cy="425520"/>
            </a:xfrm>
          </p:grpSpPr>
          <p:sp>
            <p:nvSpPr>
              <p:cNvPr id="405" name=""/>
              <p:cNvSpPr/>
              <p:nvPr/>
            </p:nvSpPr>
            <p:spPr>
              <a:xfrm>
                <a:off x="4038480" y="3537000"/>
                <a:ext cx="77760" cy="425520"/>
              </a:xfrm>
              <a:custGeom>
                <a:avLst/>
                <a:gdLst/>
                <a:ahLst/>
                <a:rect l="l" t="t" r="r" b="b"/>
                <a:pathLst>
                  <a:path w="49" h="268">
                    <a:moveTo>
                      <a:pt x="48" y="92"/>
                    </a:moveTo>
                    <a:lnTo>
                      <a:pt x="48" y="267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48" y="92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109760" y="3699000"/>
                <a:ext cx="1000080" cy="249120"/>
              </a:xfrm>
              <a:custGeom>
                <a:avLst/>
                <a:gdLst/>
                <a:ahLst/>
                <a:rect l="l" t="t" r="r" b="b"/>
                <a:pathLst>
                  <a:path w="630" h="157">
                    <a:moveTo>
                      <a:pt x="0" y="156"/>
                    </a:moveTo>
                    <a:lnTo>
                      <a:pt x="629" y="156"/>
                    </a:lnTo>
                    <a:lnTo>
                      <a:pt x="629" y="0"/>
                    </a:lnTo>
                    <a:lnTo>
                      <a:pt x="0" y="0"/>
                    </a:lnTo>
                    <a:lnTo>
                      <a:pt x="0" y="15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046400" y="3543480"/>
                <a:ext cx="1066680" cy="153720"/>
              </a:xfrm>
              <a:custGeom>
                <a:avLst/>
                <a:gdLst/>
                <a:ahLst/>
                <a:rect l="l" t="t" r="r" b="b"/>
                <a:pathLst>
                  <a:path w="672" h="97">
                    <a:moveTo>
                      <a:pt x="671" y="96"/>
                    </a:moveTo>
                    <a:lnTo>
                      <a:pt x="40" y="96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71" y="9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144680" y="3776760"/>
                <a:ext cx="168120" cy="66600"/>
              </a:xfrm>
              <a:custGeom>
                <a:avLst/>
                <a:gdLst/>
                <a:ahLst/>
                <a:rect l="l" t="t" r="r" b="b"/>
                <a:pathLst>
                  <a:path w="106" h="42">
                    <a:moveTo>
                      <a:pt x="0" y="0"/>
                    </a:moveTo>
                    <a:lnTo>
                      <a:pt x="105" y="0"/>
                    </a:lnTo>
                    <a:lnTo>
                      <a:pt x="105" y="41"/>
                    </a:lnTo>
                    <a:lnTo>
                      <a:pt x="0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32080" y="374508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0" y="0"/>
                    </a:moveTo>
                    <a:lnTo>
                      <a:pt x="31" y="0"/>
                    </a:lnTo>
                    <a:lnTo>
                      <a:pt x="31" y="55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827240" y="3848040"/>
                <a:ext cx="268200" cy="604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4143240" y="3855960"/>
                <a:ext cx="645840" cy="57240"/>
                <a:chOff x="4143240" y="3855960"/>
                <a:chExt cx="645840" cy="57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414324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2192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296960" y="3855960"/>
                  <a:ext cx="2880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371840" y="3855960"/>
                  <a:ext cx="3312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4496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52736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603320" y="3855960"/>
                  <a:ext cx="334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682880" y="3855960"/>
                  <a:ext cx="3024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5920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4190760" y="3711600"/>
              <a:ext cx="844560" cy="19224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4114800" y="4114800"/>
            <a:ext cx="17845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 Access Po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53244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91120" y="20574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2057400"/>
            <a:ext cx="21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779480" y="2057400"/>
            <a:ext cx="2446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-Public Network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0" y="3276720"/>
            <a:ext cx="1471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io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7273800" y="2286000"/>
            <a:ext cx="345960" cy="812520"/>
            <a:chOff x="7273800" y="2286000"/>
            <a:chExt cx="345960" cy="812520"/>
          </a:xfrm>
        </p:grpSpPr>
        <p:sp>
          <p:nvSpPr>
            <p:cNvPr id="429" name=""/>
            <p:cNvSpPr/>
            <p:nvPr/>
          </p:nvSpPr>
          <p:spPr>
            <a:xfrm>
              <a:off x="7273800" y="2289240"/>
              <a:ext cx="83880" cy="803160"/>
            </a:xfrm>
            <a:custGeom>
              <a:avLst/>
              <a:gdLst/>
              <a:ahLst/>
              <a:rect l="l" t="t" r="r" b="b"/>
              <a:pathLst>
                <a:path w="53" h="506">
                  <a:moveTo>
                    <a:pt x="52" y="41"/>
                  </a:moveTo>
                  <a:lnTo>
                    <a:pt x="52" y="505"/>
                  </a:lnTo>
                  <a:lnTo>
                    <a:pt x="0" y="463"/>
                  </a:lnTo>
                  <a:lnTo>
                    <a:pt x="0" y="0"/>
                  </a:lnTo>
                  <a:lnTo>
                    <a:pt x="52" y="41"/>
                  </a:lnTo>
                </a:path>
              </a:pathLst>
            </a:custGeom>
            <a:solidFill>
              <a:srgbClr val="7d7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356240" y="2351160"/>
              <a:ext cx="263520" cy="747360"/>
            </a:xfrm>
            <a:custGeom>
              <a:avLst/>
              <a:gdLst/>
              <a:ahLst/>
              <a:rect l="l" t="t" r="r" b="b"/>
              <a:pathLst>
                <a:path w="166" h="471">
                  <a:moveTo>
                    <a:pt x="0" y="470"/>
                  </a:moveTo>
                  <a:lnTo>
                    <a:pt x="165" y="47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470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81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783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387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8800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44192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990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79920" y="2286000"/>
              <a:ext cx="339840" cy="71280"/>
            </a:xfrm>
            <a:custGeom>
              <a:avLst/>
              <a:gdLst/>
              <a:ahLst/>
              <a:rect l="l" t="t" r="r" b="b"/>
              <a:pathLst>
                <a:path w="214" h="45">
                  <a:moveTo>
                    <a:pt x="213" y="44"/>
                  </a:moveTo>
                  <a:lnTo>
                    <a:pt x="47" y="44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213" y="44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135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7381440" y="2419200"/>
              <a:ext cx="98640" cy="190440"/>
              <a:chOff x="7381440" y="2419200"/>
              <a:chExt cx="98640" cy="19044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386480" y="2423880"/>
                <a:ext cx="93600" cy="185760"/>
                <a:chOff x="7386480" y="2423880"/>
                <a:chExt cx="93600" cy="185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7381440" y="2419200"/>
                <a:ext cx="98640" cy="190440"/>
                <a:chOff x="7381440" y="2419200"/>
                <a:chExt cx="98640" cy="19044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4" name=""/>
            <p:cNvSpPr/>
            <p:nvPr/>
          </p:nvSpPr>
          <p:spPr>
            <a:xfrm>
              <a:off x="7356240" y="26510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56240" y="268272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360920" y="2954160"/>
              <a:ext cx="2570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56240" y="30146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248520" y="3048120"/>
            <a:ext cx="865080" cy="279360"/>
            <a:chOff x="6248520" y="3048120"/>
            <a:chExt cx="865080" cy="279360"/>
          </a:xfrm>
        </p:grpSpPr>
        <p:grpSp>
          <p:nvGrpSpPr>
            <p:cNvPr id="449" name=""/>
            <p:cNvGrpSpPr/>
            <p:nvPr/>
          </p:nvGrpSpPr>
          <p:grpSpPr>
            <a:xfrm>
              <a:off x="6248520" y="3048120"/>
              <a:ext cx="865080" cy="279360"/>
              <a:chOff x="6248520" y="3048120"/>
              <a:chExt cx="865080" cy="279360"/>
            </a:xfrm>
          </p:grpSpPr>
          <p:sp>
            <p:nvSpPr>
              <p:cNvPr id="450" name=""/>
              <p:cNvSpPr/>
              <p:nvPr/>
            </p:nvSpPr>
            <p:spPr>
              <a:xfrm flipV="1">
                <a:off x="6629400" y="304812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6248520" y="309852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 flipH="1">
              <a:off x="6629400" y="309888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 flipV="1">
            <a:off x="1752480" y="3809520"/>
            <a:ext cx="213372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029200" y="2666520"/>
            <a:ext cx="198108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2362320"/>
            <a:ext cx="228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20505000">
            <a:off x="1477440" y="3500280"/>
            <a:ext cx="332280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Wireless (EAP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-GSS with IAKE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20350800">
            <a:off x="5181120" y="2666520"/>
            <a:ext cx="183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b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105520" y="3429000"/>
            <a:ext cx="865080" cy="279360"/>
            <a:chOff x="5105520" y="3429000"/>
            <a:chExt cx="865080" cy="279360"/>
          </a:xfrm>
        </p:grpSpPr>
        <p:grpSp>
          <p:nvGrpSpPr>
            <p:cNvPr id="459" name=""/>
            <p:cNvGrpSpPr/>
            <p:nvPr/>
          </p:nvGrpSpPr>
          <p:grpSpPr>
            <a:xfrm>
              <a:off x="5105520" y="3429000"/>
              <a:ext cx="865080" cy="279360"/>
              <a:chOff x="5105520" y="3429000"/>
              <a:chExt cx="865080" cy="279360"/>
            </a:xfrm>
          </p:grpSpPr>
          <p:sp>
            <p:nvSpPr>
              <p:cNvPr id="460" name=""/>
              <p:cNvSpPr/>
              <p:nvPr/>
            </p:nvSpPr>
            <p:spPr>
              <a:xfrm flipV="1">
                <a:off x="5486400" y="342900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105520" y="347940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 flipH="1">
              <a:off x="5486400" y="347976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5715000" y="3200400"/>
            <a:ext cx="762120" cy="457200"/>
          </a:xfrm>
          <a:prstGeom prst="cloudCallout">
            <a:avLst>
              <a:gd name="adj1" fmla="val 8541"/>
              <a:gd name="adj2" fmla="val 36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472428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91120" y="365760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28800" y="403848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796" y="187"/>
                </a:lnTo>
                <a:lnTo>
                  <a:pt x="672" y="331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B68-B273-4794-A1E7-BB223232CD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DIUS with EAP-GSS Top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219320" y="4638600"/>
            <a:ext cx="758520" cy="619200"/>
            <a:chOff x="1219320" y="4638600"/>
            <a:chExt cx="758520" cy="619200"/>
          </a:xfrm>
        </p:grpSpPr>
        <p:grpSp>
          <p:nvGrpSpPr>
            <p:cNvPr id="469" name=""/>
            <p:cNvGrpSpPr/>
            <p:nvPr/>
          </p:nvGrpSpPr>
          <p:grpSpPr>
            <a:xfrm>
              <a:off x="1219320" y="4638600"/>
              <a:ext cx="758520" cy="619200"/>
              <a:chOff x="1219320" y="4638600"/>
              <a:chExt cx="758520" cy="619200"/>
            </a:xfrm>
          </p:grpSpPr>
          <p:sp>
            <p:nvSpPr>
              <p:cNvPr id="470" name=""/>
              <p:cNvSpPr/>
              <p:nvPr/>
            </p:nvSpPr>
            <p:spPr>
              <a:xfrm>
                <a:off x="1222200" y="4680000"/>
                <a:ext cx="88920" cy="357120"/>
              </a:xfrm>
              <a:custGeom>
                <a:avLst/>
                <a:gdLst/>
                <a:ahLst/>
                <a:rect l="l" t="t" r="r" b="b"/>
                <a:pathLst>
                  <a:path w="56" h="225">
                    <a:moveTo>
                      <a:pt x="52" y="10"/>
                    </a:moveTo>
                    <a:lnTo>
                      <a:pt x="55" y="224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52" y="10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219320" y="4680000"/>
                <a:ext cx="412560" cy="27000"/>
              </a:xfrm>
              <a:custGeom>
                <a:avLst/>
                <a:gdLst/>
                <a:ahLst/>
                <a:rect l="l" t="t" r="r" b="b"/>
                <a:pathLst>
                  <a:path w="260" h="17">
                    <a:moveTo>
                      <a:pt x="259" y="16"/>
                    </a:moveTo>
                    <a:lnTo>
                      <a:pt x="53" y="16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59" y="1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86000" y="5094360"/>
                <a:ext cx="396720" cy="34920"/>
              </a:xfrm>
              <a:custGeom>
                <a:avLst/>
                <a:gdLst/>
                <a:ahLst/>
                <a:rect l="l" t="t" r="r" b="b"/>
                <a:pathLst>
                  <a:path w="250" h="22">
                    <a:moveTo>
                      <a:pt x="0" y="21"/>
                    </a:moveTo>
                    <a:lnTo>
                      <a:pt x="249" y="21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314360" y="5024520"/>
                <a:ext cx="459000" cy="7452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288" y="46"/>
                    </a:moveTo>
                    <a:lnTo>
                      <a:pt x="49" y="46"/>
                    </a:lnTo>
                    <a:lnTo>
                      <a:pt x="0" y="0"/>
                    </a:lnTo>
                    <a:lnTo>
                      <a:pt x="238" y="0"/>
                    </a:lnTo>
                    <a:lnTo>
                      <a:pt x="288" y="4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316160" y="5021280"/>
                <a:ext cx="82440" cy="114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1" y="46"/>
                    </a:moveTo>
                    <a:lnTo>
                      <a:pt x="51" y="7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1" y="46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278000" y="4638600"/>
                <a:ext cx="527040" cy="58680"/>
              </a:xfrm>
              <a:custGeom>
                <a:avLst/>
                <a:gdLst/>
                <a:ahLst/>
                <a:rect l="l" t="t" r="r" b="b"/>
                <a:pathLst>
                  <a:path w="332" h="37">
                    <a:moveTo>
                      <a:pt x="331" y="36"/>
                    </a:moveTo>
                    <a:lnTo>
                      <a:pt x="35" y="36"/>
                    </a:lnTo>
                    <a:lnTo>
                      <a:pt x="0" y="0"/>
                    </a:lnTo>
                    <a:lnTo>
                      <a:pt x="291" y="0"/>
                    </a:lnTo>
                    <a:lnTo>
                      <a:pt x="331" y="3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279440" y="4638600"/>
                <a:ext cx="58680" cy="432000"/>
              </a:xfrm>
              <a:custGeom>
                <a:avLst/>
                <a:gdLst/>
                <a:ahLst/>
                <a:rect l="l" t="t" r="r" b="b"/>
                <a:pathLst>
                  <a:path w="37" h="272">
                    <a:moveTo>
                      <a:pt x="36" y="31"/>
                    </a:moveTo>
                    <a:lnTo>
                      <a:pt x="36" y="271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36" y="31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332000" y="4691160"/>
                <a:ext cx="469800" cy="379440"/>
              </a:xfrm>
              <a:custGeom>
                <a:avLst/>
                <a:gdLst/>
                <a:ahLst/>
                <a:rect l="l" t="t" r="r" b="b"/>
                <a:pathLst>
                  <a:path w="296" h="239">
                    <a:moveTo>
                      <a:pt x="0" y="238"/>
                    </a:moveTo>
                    <a:lnTo>
                      <a:pt x="295" y="238"/>
                    </a:lnTo>
                    <a:lnTo>
                      <a:pt x="295" y="0"/>
                    </a:lnTo>
                    <a:lnTo>
                      <a:pt x="0" y="0"/>
                    </a:lnTo>
                    <a:lnTo>
                      <a:pt x="0" y="23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20760" y="5106960"/>
                <a:ext cx="95400" cy="150840"/>
              </a:xfrm>
              <a:custGeom>
                <a:avLst/>
                <a:gdLst/>
                <a:ahLst/>
                <a:rect l="l" t="t" r="r" b="b"/>
                <a:pathLst>
                  <a:path w="60" h="95">
                    <a:moveTo>
                      <a:pt x="59" y="75"/>
                    </a:moveTo>
                    <a:lnTo>
                      <a:pt x="59" y="9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9" y="75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309680" y="5224320"/>
                <a:ext cx="668160" cy="30240"/>
              </a:xfrm>
              <a:custGeom>
                <a:avLst/>
                <a:gdLst/>
                <a:ahLst/>
                <a:rect l="l" t="t" r="r" b="b"/>
                <a:pathLst>
                  <a:path w="421" h="19">
                    <a:moveTo>
                      <a:pt x="0" y="18"/>
                    </a:moveTo>
                    <a:lnTo>
                      <a:pt x="420" y="18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0" name=""/>
              <p:cNvGrpSpPr/>
              <p:nvPr/>
            </p:nvGrpSpPr>
            <p:grpSpPr>
              <a:xfrm>
                <a:off x="1384200" y="4729320"/>
                <a:ext cx="373320" cy="295200"/>
                <a:chOff x="1384200" y="4729320"/>
                <a:chExt cx="373320" cy="2952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384200" y="4732200"/>
                  <a:ext cx="373320" cy="289080"/>
                </a:xfrm>
                <a:custGeom>
                  <a:avLst/>
                  <a:gdLst/>
                  <a:ahLst/>
                  <a:rect l="l" t="t" r="r" b="b"/>
                  <a:pathLst>
                    <a:path w="235" h="182">
                      <a:moveTo>
                        <a:pt x="0" y="0"/>
                      </a:moveTo>
                      <a:lnTo>
                        <a:pt x="234" y="181"/>
                      </a:lnTo>
                      <a:lnTo>
                        <a:pt x="0" y="18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384200" y="4729320"/>
                  <a:ext cx="373320" cy="295200"/>
                </a:xfrm>
                <a:custGeom>
                  <a:avLst/>
                  <a:gdLst/>
                  <a:ahLst/>
                  <a:rect l="l" t="t" r="r" b="b"/>
                  <a:pathLst>
                    <a:path w="235" h="186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234" y="18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59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219320" y="5110200"/>
                <a:ext cx="757080" cy="120600"/>
              </a:xfrm>
              <a:custGeom>
                <a:avLst/>
                <a:gdLst/>
                <a:ahLst/>
                <a:rect l="l" t="t" r="r" b="b"/>
                <a:pathLst>
                  <a:path w="477" h="76">
                    <a:moveTo>
                      <a:pt x="476" y="75"/>
                    </a:moveTo>
                    <a:lnTo>
                      <a:pt x="56" y="75"/>
                    </a:lnTo>
                    <a:lnTo>
                      <a:pt x="0" y="0"/>
                    </a:lnTo>
                    <a:lnTo>
                      <a:pt x="418" y="0"/>
                    </a:lnTo>
                    <a:lnTo>
                      <a:pt x="476" y="75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278000" y="4643640"/>
                <a:ext cx="0" cy="37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1400040" y="4743360"/>
              <a:ext cx="341280" cy="26676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0" y="167"/>
                  </a:moveTo>
                  <a:lnTo>
                    <a:pt x="214" y="167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038480" y="3537000"/>
            <a:ext cx="1074600" cy="425520"/>
            <a:chOff x="4038480" y="3537000"/>
            <a:chExt cx="1074600" cy="425520"/>
          </a:xfrm>
        </p:grpSpPr>
        <p:grpSp>
          <p:nvGrpSpPr>
            <p:cNvPr id="487" name=""/>
            <p:cNvGrpSpPr/>
            <p:nvPr/>
          </p:nvGrpSpPr>
          <p:grpSpPr>
            <a:xfrm>
              <a:off x="4038480" y="3537000"/>
              <a:ext cx="1074600" cy="425520"/>
              <a:chOff x="4038480" y="3537000"/>
              <a:chExt cx="1074600" cy="425520"/>
            </a:xfrm>
          </p:grpSpPr>
          <p:sp>
            <p:nvSpPr>
              <p:cNvPr id="488" name=""/>
              <p:cNvSpPr/>
              <p:nvPr/>
            </p:nvSpPr>
            <p:spPr>
              <a:xfrm>
                <a:off x="4038480" y="3537000"/>
                <a:ext cx="77760" cy="425520"/>
              </a:xfrm>
              <a:custGeom>
                <a:avLst/>
                <a:gdLst/>
                <a:ahLst/>
                <a:rect l="l" t="t" r="r" b="b"/>
                <a:pathLst>
                  <a:path w="49" h="268">
                    <a:moveTo>
                      <a:pt x="48" y="92"/>
                    </a:moveTo>
                    <a:lnTo>
                      <a:pt x="48" y="267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48" y="92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109760" y="3699000"/>
                <a:ext cx="1000080" cy="249120"/>
              </a:xfrm>
              <a:custGeom>
                <a:avLst/>
                <a:gdLst/>
                <a:ahLst/>
                <a:rect l="l" t="t" r="r" b="b"/>
                <a:pathLst>
                  <a:path w="630" h="157">
                    <a:moveTo>
                      <a:pt x="0" y="156"/>
                    </a:moveTo>
                    <a:lnTo>
                      <a:pt x="629" y="156"/>
                    </a:lnTo>
                    <a:lnTo>
                      <a:pt x="629" y="0"/>
                    </a:lnTo>
                    <a:lnTo>
                      <a:pt x="0" y="0"/>
                    </a:lnTo>
                    <a:lnTo>
                      <a:pt x="0" y="15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46400" y="3543480"/>
                <a:ext cx="1066680" cy="153720"/>
              </a:xfrm>
              <a:custGeom>
                <a:avLst/>
                <a:gdLst/>
                <a:ahLst/>
                <a:rect l="l" t="t" r="r" b="b"/>
                <a:pathLst>
                  <a:path w="672" h="97">
                    <a:moveTo>
                      <a:pt x="671" y="96"/>
                    </a:moveTo>
                    <a:lnTo>
                      <a:pt x="40" y="96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71" y="9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144680" y="3776760"/>
                <a:ext cx="168120" cy="66600"/>
              </a:xfrm>
              <a:custGeom>
                <a:avLst/>
                <a:gdLst/>
                <a:ahLst/>
                <a:rect l="l" t="t" r="r" b="b"/>
                <a:pathLst>
                  <a:path w="106" h="42">
                    <a:moveTo>
                      <a:pt x="0" y="0"/>
                    </a:moveTo>
                    <a:lnTo>
                      <a:pt x="105" y="0"/>
                    </a:lnTo>
                    <a:lnTo>
                      <a:pt x="105" y="41"/>
                    </a:lnTo>
                    <a:lnTo>
                      <a:pt x="0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032080" y="374508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0" y="0"/>
                    </a:moveTo>
                    <a:lnTo>
                      <a:pt x="31" y="0"/>
                    </a:lnTo>
                    <a:lnTo>
                      <a:pt x="31" y="55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827240" y="3848040"/>
                <a:ext cx="268200" cy="604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4143240" y="3855960"/>
                <a:ext cx="645840" cy="57240"/>
                <a:chOff x="4143240" y="3855960"/>
                <a:chExt cx="645840" cy="5724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414324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42192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296960" y="3855960"/>
                  <a:ext cx="2880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371840" y="3855960"/>
                  <a:ext cx="3312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4496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52736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603320" y="3855960"/>
                  <a:ext cx="334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682880" y="3855960"/>
                  <a:ext cx="3024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75920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4190760" y="3711600"/>
              <a:ext cx="844560" cy="19224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4114800" y="4114800"/>
            <a:ext cx="17845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 Access Po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90720" y="53244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91120" y="20574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43360" y="2057400"/>
            <a:ext cx="21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79480" y="2057400"/>
            <a:ext cx="2446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-Public Network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529320" y="3598920"/>
            <a:ext cx="1471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io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273800" y="2286000"/>
            <a:ext cx="345960" cy="812520"/>
            <a:chOff x="7273800" y="2286000"/>
            <a:chExt cx="345960" cy="812520"/>
          </a:xfrm>
        </p:grpSpPr>
        <p:sp>
          <p:nvSpPr>
            <p:cNvPr id="512" name=""/>
            <p:cNvSpPr/>
            <p:nvPr/>
          </p:nvSpPr>
          <p:spPr>
            <a:xfrm>
              <a:off x="7273800" y="2289240"/>
              <a:ext cx="83880" cy="803160"/>
            </a:xfrm>
            <a:custGeom>
              <a:avLst/>
              <a:gdLst/>
              <a:ahLst/>
              <a:rect l="l" t="t" r="r" b="b"/>
              <a:pathLst>
                <a:path w="53" h="506">
                  <a:moveTo>
                    <a:pt x="52" y="41"/>
                  </a:moveTo>
                  <a:lnTo>
                    <a:pt x="52" y="505"/>
                  </a:lnTo>
                  <a:lnTo>
                    <a:pt x="0" y="463"/>
                  </a:lnTo>
                  <a:lnTo>
                    <a:pt x="0" y="0"/>
                  </a:lnTo>
                  <a:lnTo>
                    <a:pt x="52" y="41"/>
                  </a:lnTo>
                </a:path>
              </a:pathLst>
            </a:custGeom>
            <a:solidFill>
              <a:srgbClr val="7d7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356240" y="2351160"/>
              <a:ext cx="263520" cy="747360"/>
            </a:xfrm>
            <a:custGeom>
              <a:avLst/>
              <a:gdLst/>
              <a:ahLst/>
              <a:rect l="l" t="t" r="r" b="b"/>
              <a:pathLst>
                <a:path w="166" h="471">
                  <a:moveTo>
                    <a:pt x="0" y="470"/>
                  </a:moveTo>
                  <a:lnTo>
                    <a:pt x="165" y="47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470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81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783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387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48800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4192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3990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79920" y="2286000"/>
              <a:ext cx="339840" cy="71280"/>
            </a:xfrm>
            <a:custGeom>
              <a:avLst/>
              <a:gdLst/>
              <a:ahLst/>
              <a:rect l="l" t="t" r="r" b="b"/>
              <a:pathLst>
                <a:path w="214" h="45">
                  <a:moveTo>
                    <a:pt x="213" y="44"/>
                  </a:moveTo>
                  <a:lnTo>
                    <a:pt x="47" y="44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213" y="44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135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7381440" y="2419200"/>
              <a:ext cx="98640" cy="190440"/>
              <a:chOff x="7381440" y="2419200"/>
              <a:chExt cx="98640" cy="19044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7386480" y="2423880"/>
                <a:ext cx="93600" cy="185760"/>
                <a:chOff x="7386480" y="2423880"/>
                <a:chExt cx="93600" cy="1857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381440" y="2419200"/>
                <a:ext cx="98640" cy="190440"/>
                <a:chOff x="7381440" y="2419200"/>
                <a:chExt cx="98640" cy="19044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7356240" y="26510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56240" y="268272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60920" y="2954160"/>
              <a:ext cx="2570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56240" y="30146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48520" y="3048120"/>
            <a:ext cx="865080" cy="279360"/>
            <a:chOff x="6248520" y="3048120"/>
            <a:chExt cx="865080" cy="279360"/>
          </a:xfrm>
        </p:grpSpPr>
        <p:grpSp>
          <p:nvGrpSpPr>
            <p:cNvPr id="532" name=""/>
            <p:cNvGrpSpPr/>
            <p:nvPr/>
          </p:nvGrpSpPr>
          <p:grpSpPr>
            <a:xfrm>
              <a:off x="6248520" y="3048120"/>
              <a:ext cx="865080" cy="279360"/>
              <a:chOff x="6248520" y="3048120"/>
              <a:chExt cx="865080" cy="27936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6629400" y="304812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6248520" y="309852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5" name=""/>
            <p:cNvSpPr/>
            <p:nvPr/>
          </p:nvSpPr>
          <p:spPr>
            <a:xfrm flipH="1">
              <a:off x="6629400" y="309888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 flipV="1">
            <a:off x="1752480" y="3809520"/>
            <a:ext cx="213372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029200" y="2666520"/>
            <a:ext cx="198108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37280" y="2286000"/>
            <a:ext cx="201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20505000">
            <a:off x="1447560" y="3581280"/>
            <a:ext cx="332244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Wireless (EAP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-GSS with IAKE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20350800">
            <a:off x="4549680" y="2892240"/>
            <a:ext cx="2255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-GSS Over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105520" y="3429000"/>
            <a:ext cx="865080" cy="279360"/>
            <a:chOff x="5105520" y="3429000"/>
            <a:chExt cx="865080" cy="279360"/>
          </a:xfrm>
        </p:grpSpPr>
        <p:grpSp>
          <p:nvGrpSpPr>
            <p:cNvPr id="542" name=""/>
            <p:cNvGrpSpPr/>
            <p:nvPr/>
          </p:nvGrpSpPr>
          <p:grpSpPr>
            <a:xfrm>
              <a:off x="5105520" y="3429000"/>
              <a:ext cx="865080" cy="279360"/>
              <a:chOff x="5105520" y="3429000"/>
              <a:chExt cx="865080" cy="279360"/>
            </a:xfrm>
          </p:grpSpPr>
          <p:sp>
            <p:nvSpPr>
              <p:cNvPr id="543" name=""/>
              <p:cNvSpPr/>
              <p:nvPr/>
            </p:nvSpPr>
            <p:spPr>
              <a:xfrm flipV="1">
                <a:off x="5486400" y="342900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5105520" y="347940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"/>
            <p:cNvSpPr/>
            <p:nvPr/>
          </p:nvSpPr>
          <p:spPr>
            <a:xfrm flipH="1">
              <a:off x="5486400" y="347976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5715000" y="3200400"/>
            <a:ext cx="762120" cy="457200"/>
          </a:xfrm>
          <a:prstGeom prst="cloudCallout">
            <a:avLst>
              <a:gd name="adj1" fmla="val 8541"/>
              <a:gd name="adj2" fmla="val 36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472428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191120" y="365760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28800" y="403848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796" y="187"/>
                </a:lnTo>
                <a:lnTo>
                  <a:pt x="672" y="331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8077320" y="2286000"/>
            <a:ext cx="345960" cy="812520"/>
            <a:chOff x="8077320" y="2286000"/>
            <a:chExt cx="345960" cy="812520"/>
          </a:xfrm>
        </p:grpSpPr>
        <p:sp>
          <p:nvSpPr>
            <p:cNvPr id="551" name=""/>
            <p:cNvSpPr/>
            <p:nvPr/>
          </p:nvSpPr>
          <p:spPr>
            <a:xfrm>
              <a:off x="8077320" y="2289240"/>
              <a:ext cx="83880" cy="803160"/>
            </a:xfrm>
            <a:custGeom>
              <a:avLst/>
              <a:gdLst/>
              <a:ahLst/>
              <a:rect l="l" t="t" r="r" b="b"/>
              <a:pathLst>
                <a:path w="53" h="506">
                  <a:moveTo>
                    <a:pt x="52" y="41"/>
                  </a:moveTo>
                  <a:lnTo>
                    <a:pt x="52" y="505"/>
                  </a:lnTo>
                  <a:lnTo>
                    <a:pt x="0" y="463"/>
                  </a:lnTo>
                  <a:lnTo>
                    <a:pt x="0" y="0"/>
                  </a:lnTo>
                  <a:lnTo>
                    <a:pt x="52" y="41"/>
                  </a:lnTo>
                </a:path>
              </a:pathLst>
            </a:custGeom>
            <a:solidFill>
              <a:srgbClr val="7d7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159760" y="2351160"/>
              <a:ext cx="263520" cy="747360"/>
            </a:xfrm>
            <a:custGeom>
              <a:avLst/>
              <a:gdLst/>
              <a:ahLst/>
              <a:rect l="l" t="t" r="r" b="b"/>
              <a:pathLst>
                <a:path w="166" h="471">
                  <a:moveTo>
                    <a:pt x="0" y="470"/>
                  </a:moveTo>
                  <a:lnTo>
                    <a:pt x="165" y="47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470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81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3818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422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9152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824544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20260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83440" y="2286000"/>
              <a:ext cx="339840" cy="71280"/>
            </a:xfrm>
            <a:custGeom>
              <a:avLst/>
              <a:gdLst/>
              <a:ahLst/>
              <a:rect l="l" t="t" r="r" b="b"/>
              <a:pathLst>
                <a:path w="214" h="45">
                  <a:moveTo>
                    <a:pt x="213" y="44"/>
                  </a:moveTo>
                  <a:lnTo>
                    <a:pt x="47" y="44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213" y="44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135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8184960" y="2419200"/>
              <a:ext cx="98640" cy="190440"/>
              <a:chOff x="8184960" y="2419200"/>
              <a:chExt cx="98640" cy="19044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8190000" y="2423880"/>
                <a:ext cx="93600" cy="185760"/>
                <a:chOff x="8190000" y="2423880"/>
                <a:chExt cx="93600" cy="1857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819000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819000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8184960" y="2419200"/>
                <a:ext cx="98640" cy="190440"/>
                <a:chOff x="8184960" y="2419200"/>
                <a:chExt cx="98640" cy="19044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818496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818496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6" name=""/>
            <p:cNvSpPr/>
            <p:nvPr/>
          </p:nvSpPr>
          <p:spPr>
            <a:xfrm>
              <a:off x="8159760" y="26510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59760" y="268272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164440" y="2954160"/>
              <a:ext cx="2570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159760" y="30146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8534520" y="2362320"/>
            <a:ext cx="228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0120" y="2666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351-468B-4A1F-B43A-FCF8D6A6CB3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adcast Ke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cast key(s) gets securely delivered to the station via IEEE 802.1X EAPOL-Ke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L-Key message encrypted using session key obtained in AP_REQ/AP_REP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server timer gets configured to re-authenticate/re-key the cl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67E-5465-42BD-8761-2D242DE20D5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ing WEP 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lems with 802.11 use of W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erm fixes to W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ES as new privacy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CC6-6C0C-4358-8442-4DE0D92762A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P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EP encapsulation suffers from 3 major design fla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 too small (generic fla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packet key construction by concatenating IV to key (generic fla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eak-key avoidance (RC4 specific fla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gether these problems render WEP privacy meaningless at any key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1BF0-02BE-42C0-95FE-9F0815DAC2A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 term fix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 the too-small IV with a 128-bi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i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-packet keys to avoid definition of an IV avoidanc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 per packet key in a new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 IV with bas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le with existing RC4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packet format requi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C9F6-7E83-4F08-995F-C4C0A2A607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resents merger of proposals 163, 362, and 38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MAC security negotiation mechan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Kerberos V for authentication and fast hand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802.1X and EAP as authentication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 shortcomings of WEP/RC4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ith Kerberos KDC and (optionally) RADIUS authentication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4C2-4311-44B0-AA63-FDCB45D402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rt Term WEP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1143000" y="2362320"/>
            <a:ext cx="6705360" cy="761760"/>
            <a:chOff x="1143000" y="2362320"/>
            <a:chExt cx="6705360" cy="761760"/>
          </a:xfrm>
        </p:grpSpPr>
        <p:grpSp>
          <p:nvGrpSpPr>
            <p:cNvPr id="582" name=""/>
            <p:cNvGrpSpPr/>
            <p:nvPr/>
          </p:nvGrpSpPr>
          <p:grpSpPr>
            <a:xfrm>
              <a:off x="1143000" y="2362320"/>
              <a:ext cx="1218960" cy="761760"/>
              <a:chOff x="1143000" y="2362320"/>
              <a:chExt cx="1218960" cy="761760"/>
            </a:xfrm>
          </p:grpSpPr>
          <p:sp>
            <p:nvSpPr>
              <p:cNvPr id="583" name=""/>
              <p:cNvSpPr/>
              <p:nvPr/>
            </p:nvSpPr>
            <p:spPr>
              <a:xfrm>
                <a:off x="1143000" y="2362320"/>
                <a:ext cx="1218960" cy="7617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295280" y="2452680"/>
                <a:ext cx="914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802.11 Hd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2361960" y="2362320"/>
              <a:ext cx="990720" cy="761760"/>
              <a:chOff x="2361960" y="2362320"/>
              <a:chExt cx="990720" cy="761760"/>
            </a:xfrm>
          </p:grpSpPr>
          <p:sp>
            <p:nvSpPr>
              <p:cNvPr id="586" name=""/>
              <p:cNvSpPr/>
              <p:nvPr/>
            </p:nvSpPr>
            <p:spPr>
              <a:xfrm>
                <a:off x="2361960" y="2362320"/>
                <a:ext cx="990720" cy="761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38280" y="2452680"/>
                <a:ext cx="8380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28-bit I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352680" y="2362320"/>
              <a:ext cx="3429000" cy="761760"/>
              <a:chOff x="3352680" y="2362320"/>
              <a:chExt cx="3429000" cy="761760"/>
            </a:xfrm>
          </p:grpSpPr>
          <p:sp>
            <p:nvSpPr>
              <p:cNvPr id="589" name=""/>
              <p:cNvSpPr/>
              <p:nvPr/>
            </p:nvSpPr>
            <p:spPr>
              <a:xfrm>
                <a:off x="3352680" y="2362320"/>
                <a:ext cx="3429000" cy="7617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610160" y="257508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6781680" y="2362320"/>
              <a:ext cx="1066680" cy="761760"/>
              <a:chOff x="6781680" y="2362320"/>
              <a:chExt cx="1066680" cy="761760"/>
            </a:xfrm>
          </p:grpSpPr>
          <p:sp>
            <p:nvSpPr>
              <p:cNvPr id="592" name=""/>
              <p:cNvSpPr/>
              <p:nvPr/>
            </p:nvSpPr>
            <p:spPr>
              <a:xfrm>
                <a:off x="6781680" y="2362320"/>
                <a:ext cx="1066680" cy="76176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895800" y="2452680"/>
                <a:ext cx="8384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WEP ICV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1143000" y="4572000"/>
            <a:ext cx="1218960" cy="761760"/>
            <a:chOff x="1143000" y="4572000"/>
            <a:chExt cx="1218960" cy="761760"/>
          </a:xfrm>
        </p:grpSpPr>
        <p:sp>
          <p:nvSpPr>
            <p:cNvPr id="595" name=""/>
            <p:cNvSpPr/>
            <p:nvPr/>
          </p:nvSpPr>
          <p:spPr>
            <a:xfrm>
              <a:off x="1143000" y="4572000"/>
              <a:ext cx="1218960" cy="761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95280" y="46623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02.11 H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2362320" y="4572000"/>
            <a:ext cx="990360" cy="761760"/>
            <a:chOff x="2362320" y="4572000"/>
            <a:chExt cx="990360" cy="761760"/>
          </a:xfrm>
        </p:grpSpPr>
        <p:sp>
          <p:nvSpPr>
            <p:cNvPr id="598" name=""/>
            <p:cNvSpPr/>
            <p:nvPr/>
          </p:nvSpPr>
          <p:spPr>
            <a:xfrm>
              <a:off x="2362320" y="4572000"/>
              <a:ext cx="990360" cy="7617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38280" y="4662360"/>
              <a:ext cx="837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8-bit 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3276720" y="3352680"/>
            <a:ext cx="1218960" cy="990720"/>
            <a:chOff x="3276720" y="3352680"/>
            <a:chExt cx="1218960" cy="990720"/>
          </a:xfrm>
        </p:grpSpPr>
        <p:sp>
          <p:nvSpPr>
            <p:cNvPr id="601" name=""/>
            <p:cNvSpPr/>
            <p:nvPr/>
          </p:nvSpPr>
          <p:spPr>
            <a:xfrm>
              <a:off x="4495680" y="3352680"/>
              <a:ext cx="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76720" y="35053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cry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5943600" y="3352680"/>
            <a:ext cx="1219320" cy="914400"/>
            <a:chOff x="5943600" y="3352680"/>
            <a:chExt cx="1219320" cy="914400"/>
          </a:xfrm>
        </p:grpSpPr>
        <p:sp>
          <p:nvSpPr>
            <p:cNvPr id="604" name=""/>
            <p:cNvSpPr/>
            <p:nvPr/>
          </p:nvSpPr>
          <p:spPr>
            <a:xfrm flipV="1">
              <a:off x="5943600" y="335268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436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ecry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352680" y="4572000"/>
            <a:ext cx="4495680" cy="762120"/>
            <a:chOff x="3352680" y="4572000"/>
            <a:chExt cx="4495680" cy="762120"/>
          </a:xfrm>
        </p:grpSpPr>
        <p:sp>
          <p:nvSpPr>
            <p:cNvPr id="607" name=""/>
            <p:cNvSpPr/>
            <p:nvPr/>
          </p:nvSpPr>
          <p:spPr>
            <a:xfrm>
              <a:off x="3352680" y="4572000"/>
              <a:ext cx="4495680" cy="762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001120" y="4784760"/>
              <a:ext cx="1198800" cy="337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678168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934320" y="4724280"/>
            <a:ext cx="8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P I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D7F-9D5B-4FFC-B29D-34FB6413F5F6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term s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ES-128 as the new cryptographic prim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ES in Offset Codebook Mode OCB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8-bit sess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packet 128-bit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provides both privacy and data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2 passes over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session sequence number to avoid re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base key to sess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CB mode tag to compute session key, to minimize number of cryptographic primitives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45CC-FC34-4478-8B90-5846CD45C3A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ng Term WEP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762120" y="2362320"/>
            <a:ext cx="1218960" cy="761760"/>
            <a:chOff x="762120" y="2362320"/>
            <a:chExt cx="1218960" cy="761760"/>
          </a:xfrm>
        </p:grpSpPr>
        <p:sp>
          <p:nvSpPr>
            <p:cNvPr id="615" name=""/>
            <p:cNvSpPr/>
            <p:nvPr/>
          </p:nvSpPr>
          <p:spPr>
            <a:xfrm>
              <a:off x="762120" y="2362320"/>
              <a:ext cx="1218960" cy="761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45268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02.11 H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981080" y="2362320"/>
            <a:ext cx="990720" cy="761760"/>
            <a:chOff x="1981080" y="2362320"/>
            <a:chExt cx="990720" cy="761760"/>
          </a:xfrm>
        </p:grpSpPr>
        <p:sp>
          <p:nvSpPr>
            <p:cNvPr id="618" name=""/>
            <p:cNvSpPr/>
            <p:nvPr/>
          </p:nvSpPr>
          <p:spPr>
            <a:xfrm>
              <a:off x="1981080" y="2362320"/>
              <a:ext cx="990720" cy="7617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057400" y="2452680"/>
              <a:ext cx="83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8-bit 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2971800" y="2362320"/>
            <a:ext cx="4267080" cy="761760"/>
            <a:chOff x="2971800" y="2362320"/>
            <a:chExt cx="4267080" cy="761760"/>
          </a:xfrm>
        </p:grpSpPr>
        <p:grpSp>
          <p:nvGrpSpPr>
            <p:cNvPr id="621" name=""/>
            <p:cNvGrpSpPr/>
            <p:nvPr/>
          </p:nvGrpSpPr>
          <p:grpSpPr>
            <a:xfrm>
              <a:off x="2971800" y="2362320"/>
              <a:ext cx="838080" cy="761760"/>
              <a:chOff x="2971800" y="2362320"/>
              <a:chExt cx="838080" cy="761760"/>
            </a:xfrm>
          </p:grpSpPr>
          <p:sp>
            <p:nvSpPr>
              <p:cNvPr id="622" name=""/>
              <p:cNvSpPr/>
              <p:nvPr/>
            </p:nvSpPr>
            <p:spPr>
              <a:xfrm>
                <a:off x="2971800" y="2362320"/>
                <a:ext cx="838080" cy="7617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48120" y="2452680"/>
                <a:ext cx="685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q N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09880" y="2362320"/>
              <a:ext cx="3429000" cy="761760"/>
              <a:chOff x="3809880" y="2362320"/>
              <a:chExt cx="3429000" cy="761760"/>
            </a:xfrm>
          </p:grpSpPr>
          <p:sp>
            <p:nvSpPr>
              <p:cNvPr id="625" name=""/>
              <p:cNvSpPr/>
              <p:nvPr/>
            </p:nvSpPr>
            <p:spPr>
              <a:xfrm>
                <a:off x="3809880" y="2362320"/>
                <a:ext cx="3429000" cy="7617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067360" y="2575080"/>
                <a:ext cx="91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7" name=""/>
          <p:cNvGrpSpPr/>
          <p:nvPr/>
        </p:nvGrpSpPr>
        <p:grpSpPr>
          <a:xfrm>
            <a:off x="7238880" y="2362320"/>
            <a:ext cx="1066680" cy="761760"/>
            <a:chOff x="7238880" y="2362320"/>
            <a:chExt cx="1066680" cy="761760"/>
          </a:xfrm>
        </p:grpSpPr>
        <p:sp>
          <p:nvSpPr>
            <p:cNvPr id="628" name=""/>
            <p:cNvSpPr/>
            <p:nvPr/>
          </p:nvSpPr>
          <p:spPr>
            <a:xfrm>
              <a:off x="7238880" y="2362320"/>
              <a:ext cx="1066680" cy="7617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53000" y="2452680"/>
              <a:ext cx="83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8-bit 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971800" y="4572000"/>
            <a:ext cx="4267080" cy="762120"/>
            <a:chOff x="2971800" y="4572000"/>
            <a:chExt cx="4267080" cy="762120"/>
          </a:xfrm>
        </p:grpSpPr>
        <p:grpSp>
          <p:nvGrpSpPr>
            <p:cNvPr id="631" name=""/>
            <p:cNvGrpSpPr/>
            <p:nvPr/>
          </p:nvGrpSpPr>
          <p:grpSpPr>
            <a:xfrm>
              <a:off x="2971800" y="4572000"/>
              <a:ext cx="838080" cy="761760"/>
              <a:chOff x="2971800" y="4572000"/>
              <a:chExt cx="838080" cy="761760"/>
            </a:xfrm>
          </p:grpSpPr>
          <p:sp>
            <p:nvSpPr>
              <p:cNvPr id="632" name=""/>
              <p:cNvSpPr/>
              <p:nvPr/>
            </p:nvSpPr>
            <p:spPr>
              <a:xfrm>
                <a:off x="2971800" y="4572000"/>
                <a:ext cx="838080" cy="7617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048120" y="4662360"/>
                <a:ext cx="685800" cy="5806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eq Nu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3809880" y="4572000"/>
              <a:ext cx="3429000" cy="762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067360" y="4784760"/>
              <a:ext cx="914400" cy="3373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762120" y="4572000"/>
            <a:ext cx="1218960" cy="761760"/>
            <a:chOff x="762120" y="4572000"/>
            <a:chExt cx="1218960" cy="761760"/>
          </a:xfrm>
        </p:grpSpPr>
        <p:sp>
          <p:nvSpPr>
            <p:cNvPr id="637" name=""/>
            <p:cNvSpPr/>
            <p:nvPr/>
          </p:nvSpPr>
          <p:spPr>
            <a:xfrm>
              <a:off x="762120" y="4572000"/>
              <a:ext cx="1218960" cy="76176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4400" y="4662360"/>
              <a:ext cx="914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802.11 Hd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981080" y="4572000"/>
            <a:ext cx="990720" cy="761760"/>
            <a:chOff x="1981080" y="4572000"/>
            <a:chExt cx="990720" cy="761760"/>
          </a:xfrm>
        </p:grpSpPr>
        <p:sp>
          <p:nvSpPr>
            <p:cNvPr id="640" name=""/>
            <p:cNvSpPr/>
            <p:nvPr/>
          </p:nvSpPr>
          <p:spPr>
            <a:xfrm>
              <a:off x="1981080" y="4572000"/>
              <a:ext cx="990720" cy="76176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057400" y="4662360"/>
              <a:ext cx="83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8-bit I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38880" y="4572000"/>
            <a:ext cx="1066680" cy="761760"/>
            <a:chOff x="7238880" y="4572000"/>
            <a:chExt cx="1066680" cy="761760"/>
          </a:xfrm>
        </p:grpSpPr>
        <p:sp>
          <p:nvSpPr>
            <p:cNvPr id="643" name=""/>
            <p:cNvSpPr/>
            <p:nvPr/>
          </p:nvSpPr>
          <p:spPr>
            <a:xfrm>
              <a:off x="7238880" y="4572000"/>
              <a:ext cx="1066680" cy="76176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53000" y="4662360"/>
              <a:ext cx="83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8-bit 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3809880" y="33526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362320" y="3581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5943600" y="33526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9436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y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888F-A7B8-413D-BDE4-D6AAFFE2982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s to 802.1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OL-Key message used to carry AP_REQ/AP_REP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OL-Key message needs to go from Supplicant (STA) to Authenticator (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XD8 spec only supports sending EAPOL-Key from Authenticator to Suppl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C62-6B96-4E2C-A2D6-4EF0E30F07B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 (4.1.1): satisfied by Kerbero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modation with QoS (4.2.1): satisfied by Kerberos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(4.2.2): GSS-API can be integrated into 802.11 access contro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derivation (4.4.1): satisfied by all GSS-API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 negotiations (4.5.1): satisfied by EAP or  SPNEGO pseudo-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ility (4.5.2):  extensibility via EAP or GSS-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596-219C-41D6-B24A-5BB0C55838C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andatory-to-implement algorithm (4.5.3): Kerberos V only mandatory-to-implement securit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 to all 802.11 environments (4.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tory to implement mechanisms support Enterprise, So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INIT for ad hoc supp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ramework must protect network traffic from eavesdropping:  satisfied by RC4 Fixes/AES (4.3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ramework must allow for authentication of the source of each packet: satisfied by AES with sequence number (4.3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5C4-D6B1-44FF-9B2E-7D2417E67D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Further Inves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 of AES computational 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ming author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 negotiation and support for additional authentication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 of 802.1X and 802.11 stat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E69-2D53-4BE3-908D-C0415636644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posal will promote multi-vendor interoperability by making authentication an upper layer function based on 802.1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ly based on existing protocols with minor changes to 802.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to 802.1X specification should be made to enable transmission of keys from STA to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to the IEEE 802.11 specification should be made to allow for mixed WEP cells and for more secure WEP data pa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EB6-2D8E-4C4F-8C2A-E26030F062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or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nist.gov/a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grouper.ieee.org/groups/802/1/pages/802.1x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rberos/GSS-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1510.txt (Kerberos 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2743.txt (GSS-AP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cat-iakerb-05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etf.org/rfc/rfc2138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ietf.org/rfc/rfc2139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ietf.org/rfc/rfc2548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ietf.org/rfc/rfc2865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2866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2867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2868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rfc/rfc2869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http://www.ietf.org/rfc/rfc2284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http://www.ietf.org/rfc/rfc2716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ietf.org/internet-drafts/draft-aboba-pppext-eapgss-02.tx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38A-6F6C-4528-B612-C349C5A5DE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done at higher layer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session ke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ote multi-vendor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changes to IEEE 802.11, 802.1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mandatory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hand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 RC4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add new authentication methods easily (without changing 802.1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FCD-CE98-447C-AC10-53DDE3DF35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existing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beros V (RFC 15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S-API (RFC 274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KERB (draft-ietf-cat-iakerb-05.t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-GSS (draft-aboba-pppext-eapgss-02.t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/EAP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 (RFC 228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securit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model for authentication/association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privacy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2A7-EC7B-4C8B-A730-D2598A28DA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Security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ans to register security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, Shared, Upper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ans to distribute security configuration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principal name, real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ans to discover and select MAC level security op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 privacy algorithm, messag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1009-296C-4A45-9027-ED3D731514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ering Security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ans to register a new security algorithm with IEEE 802 and obtain unique identifier for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initial algorithm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ones: Open and Sh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ne: Upper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can be added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E09-6B0C-4BFD-9ED4-214F97141C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vertising Security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ed on “supported rat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advertises security options in probe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d in probe response only if STA requests it in probe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s collect this information prior to associations and can make association and roaming decisions based upon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6DC-7498-49B5-8595-EC74943DCFC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ing security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 requests security options in association request from available options contained in probe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accepts/rejects association based on request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dditional protocol handshakes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mpact on roaming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Halasz et al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DB6-DABB-45A5-8013-513EED21133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TGe</dc:creator>
  <dc:description/>
  <dc:language>en-US</dc:language>
  <cp:lastModifiedBy>Harry Worstell</cp:lastModifiedBy>
  <cp:lastPrinted>2000-08-12T19:25:02Z</cp:lastPrinted>
  <dcterms:modified xsi:type="dcterms:W3CDTF">2000-11-08T22:46:32Z</dcterms:modified>
  <cp:revision>171</cp:revision>
  <dc:subject/>
  <dc:title>04198E-TGe Security Base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55163116</vt:r8>
  </property>
  <property fmtid="{D5CDD505-2E9C-101B-9397-08002B2CF9AE}" pid="3" name="_AuthorEmail">
    <vt:lpwstr>timmoore@Exchange.Microsoft.com</vt:lpwstr>
  </property>
  <property fmtid="{D5CDD505-2E9C-101B-9397-08002B2CF9AE}" pid="4" name="_AuthorEmailDisplayName">
    <vt:lpwstr>Tim Moore</vt:lpwstr>
  </property>
  <property fmtid="{D5CDD505-2E9C-101B-9397-08002B2CF9AE}" pid="5" name="_EmailSubject">
    <vt:lpwstr>Current updated slides</vt:lpwstr>
  </property>
</Properties>
</file>