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37F6-53D7-4B56-BD63-6C1DEF3C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B265-D5FC-47D7-AE80-1BAE19C5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65B1-AE3E-41EA-9D64-C4E10FE44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3706-81BB-40F2-A3A9-CE21FBAAC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79B3-781F-45AD-9A1E-FFD1D8B9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3A57-6F18-4C45-9585-2991E7E5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1FAC-A3DB-4A57-8A78-2E28E7C3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327A-C3E3-45FB-8947-79915AD6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4590-F15C-49DD-AC71-B3531227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FFBA-5DA5-4224-88CB-6BD440FA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B257-0A3A-4E3A-BB54-93E06FBA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B4F0-059A-41A6-8290-68EA3313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11908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B. Shoemake, Texas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2F4FA54-A832-42C9-8E50-50D4E1E70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4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hoemake@ti.com" TargetMode="External"/><Relationship Id="rId2" Type="http://schemas.openxmlformats.org/officeDocument/2006/relationships/hyperlink" Target="mailto:shoemake@ti.com" TargetMode="External"/><Relationship Id="rId3" Type="http://schemas.openxmlformats.org/officeDocument/2006/relationships/hyperlink" Target="mailto:shoemake@ti.com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802.11 Task Group G Repo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IEEE 802.11 Working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hew B. Shoemake, Ph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g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hoemake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ti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 8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B8D1-9E05-4298-9A10-C549D5B675E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election Procedu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teps at November 2000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completed steps 6 through 9 of Selection Procedure (doc. 00/209r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ep 9 hear the following submiss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ster, et.al. – Inters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s. 00/388-3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’Farrell, et.al. – Superg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s. 00/366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n Erven, et.al. – 3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s. 00/4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egard, et.al. – Texas Instr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s. 00/384, 00/38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048E-22BA-48D1-9CB4-63A9285FCC1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aining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election Procedu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teps for November 2000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0 – Comparison Criteria Matrix will go on server this afternoon (doc. 00/422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1 – Open questioning of prese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2 – Final statements by prese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3 – Low hurdle elimination v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ill not go to Step 14 until the January 2000 Session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3C8E-1666-4DC9-B4F6-F2A934A5F10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Matthew B. Shoemake</dc:creator>
  <dc:description/>
  <dc:language>en-US</dc:language>
  <cp:lastModifiedBy>shoemake</cp:lastModifiedBy>
  <cp:lastPrinted>1998-02-10T13:28:06Z</cp:lastPrinted>
  <dcterms:modified xsi:type="dcterms:W3CDTF">2000-11-08T18:10:05Z</dcterms:modified>
  <cp:revision>20</cp:revision>
  <dc:subject/>
  <dc:title>No Slide Title</dc:title>
</cp:coreProperties>
</file>