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64FB-3914-4C09-A5CA-060B6123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CF6A-015A-4D21-BC4C-4B3A5516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B85-39AB-4C95-B700-26F30138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5112-C612-48CE-A2B4-404FDB8F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884-3EA5-4500-B964-9D9FB136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23C-145C-4A89-874C-0DDFDEE5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1E0-4026-4598-954A-4AA46F1A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F323-68F6-47DC-9011-351F74E1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698-BA9E-4573-A0A4-2EA41176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685-87DD-4C42-9E8E-25A6F4F7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E71-F629-44D0-BBF6-B3AB722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308-BF38-4EEF-8CC5-38557A89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1463E3-E564-46C5-BB09-02A0DF83A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23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hoemake@ti.com" TargetMode="External"/><Relationship Id="rId2" Type="http://schemas.openxmlformats.org/officeDocument/2006/relationships/hyperlink" Target="mailto:shoemake@ti.com" TargetMode="External"/><Relationship Id="rId3" Type="http://schemas.openxmlformats.org/officeDocument/2006/relationships/hyperlink" Target="mailto:shoemake@ti.com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Task Group G Repor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IEEE 802.11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thew B. Shoemake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g Chair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hoemake@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i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8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7AB-DA06-436A-9F10-71C46D24A6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at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ompleted steps 6 through 9 of Selection Procedure (doc. 00/209r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ep 9 hear the following sub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ster, et.al. – Inters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8-3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’Farrell, et.al. – Superg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66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 Erven, et.al. – 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4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egard, et.al. – 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s. 00/384, 00/38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D4A-2ACC-4A78-B071-285310B6B5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ining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election Procedu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teps for November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0 – Comparison Criteria Matrix will go on server this afternoon (doc. 00/42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1 – Open questioning of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2 – Final statements by pres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 13 – Low hurdle elimination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ll not go to Step 14 until the January 2001 Session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9E3-B9EF-4A2E-AC4C-D14B2AE65F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atthew B. Shoemake</dc:creator>
  <dc:description/>
  <dc:language>en-US</dc:language>
  <cp:lastModifiedBy>shoemake</cp:lastModifiedBy>
  <cp:lastPrinted>1998-02-10T13:28:06Z</cp:lastPrinted>
  <dcterms:modified xsi:type="dcterms:W3CDTF">2000-11-08T21:28:07Z</dcterms:modified>
  <cp:revision>22</cp:revision>
  <dc:subject/>
  <dc:title>No Slide Title</dc:title>
</cp:coreProperties>
</file>