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65E476-F1E4-403F-9563-C3A49E227E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0A4FD-A394-467D-94CF-4C539375C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D8A37-8F0C-494E-ABA7-DE239EEEE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4EA54-6CF6-4E53-97C9-8B68CBC9A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5D733-A4A1-4C89-94FF-10B7154AA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F2E52-60E2-42EC-973D-FAD375841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F4439-812B-4B6B-9F16-656390B75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B9962-EAAB-4E1D-A9E9-2BBD66215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8C538-EDC9-4FDC-BD01-76D3102E8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E8B1F-5D6B-4549-BBB4-0687AC41E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33DD0-C164-4DEF-AA47-98174981B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0827D-6CA5-41A5-9198-2E825544C5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182520"/>
            <a:ext cx="119088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971680" y="6474960"/>
            <a:ext cx="263844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hew Sherman, AT&amp;T Labs - Research</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571640" y="64767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2774924-453D-423C-BA3D-D2DE13A0E1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6067080" y="396000"/>
            <a:ext cx="23979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425</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8680" y="6475320"/>
            <a:ext cx="3740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ed Modification to Document 00-360R1 on 11-8-2000</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63400" y="1066680"/>
            <a:ext cx="80172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ed Baseline Modific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y definition of level 1 ESTAs such that they will accept a QoS CF-Poll.  The ESTA s will utilize the TxOP limit field, and only respond with a data frame if it can accommodate that size.  If not, the ESTA will respond with a QoS Null frame, which will include the priority of the highest occupied queue {, and the size of that queue or size of the frame at the head of that queue - TBD}.  In addition, level 1 ESTAs will </a:t>
            </a:r>
            <a:r>
              <a:rPr b="1" lang="en-US" sz="2400" spc="-1" strike="noStrike">
                <a:solidFill>
                  <a:srgbClr val="000000"/>
                </a:solidFill>
                <a:latin typeface="Times New Roman"/>
              </a:rPr>
              <a:t>not</a:t>
            </a:r>
            <a:r>
              <a:rPr b="0" lang="en-US" sz="2400" spc="-1" strike="noStrike">
                <a:solidFill>
                  <a:srgbClr val="000000"/>
                </a:solidFill>
                <a:latin typeface="Times New Roman"/>
              </a:rPr>
              <a:t> need to recognize piggybacked Ack’s.   Instead an Ack will be used by the EAP for ESTAs that are level 1.   However, the ability to do so will be indicated by the ESTA during association.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John Doe, His Company</a:t>
            </a:r>
          </a:p>
        </p:txBody>
      </p:sp>
      <p:sp>
        <p:nvSpPr>
          <p:cNvPr id="3" name="PlaceHolder 2"/>
          <p:cNvSpPr>
            <a:spLocks noGrp="1"/>
          </p:cNvSpPr>
          <p:nvPr>
            <p:ph type="sldNum" idx="3"/>
          </p:nvPr>
        </p:nvSpPr>
        <p:spPr/>
        <p:txBody>
          <a:bodyPr/>
          <a:p>
            <a:fld id="{289751D0-97A0-4C07-AE00-F818169899BB}" type="slidenum">
              <a:t>1</a:t>
            </a:fld>
          </a:p>
        </p:txBody>
      </p:sp>
      <p:sp>
        <p:nvSpPr>
          <p:cNvPr id="4" name="PlaceHolder 3"/>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0T01:50:24Z</dcterms:created>
  <dc:creator>mjsherman</dc:creator>
  <dc:description/>
  <dc:language>en-US</dc:language>
  <cp:lastModifiedBy>Harry Worstell</cp:lastModifiedBy>
  <cp:lastPrinted>1998-02-10T13:28:06Z</cp:lastPrinted>
  <dcterms:modified xsi:type="dcterms:W3CDTF">2000-11-09T14:01:38Z</dcterms:modified>
  <cp:revision>37</cp:revision>
  <dc:subject/>
  <dc:title>PowerPoint Presentation</dc:title>
</cp:coreProperties>
</file>