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B15D1D-52CF-42EF-AA9A-080FBE525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2F27EB-E84B-45FD-9770-D0E88DBE7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30429C-81CD-4312-9AC1-D76FB511F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434B9C-1EB8-45CD-904B-487FC7666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A754801-510D-45D2-9C05-7339A319B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9B66075-7B0C-491A-B23E-F74E87B21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556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91D-AC6E-4DDF-8E0D-C1CE4571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054-3489-40E7-BF28-281E78A5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F32-0559-448E-B519-C2B2492F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FAA-F0E8-44CC-BFA8-3F9A6E64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7681-AEF2-461A-A790-7C5BAB95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7E6-3229-4BE4-AD55-E246800B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B120-2507-4DA5-AC2D-1225D0E6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64B-3525-409D-8117-5549B1A9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185A-49FE-4C2E-96A2-F45F4022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C78-4295-4B70-B495-00D86685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203-276D-48F9-B3EB-6E4AA696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6EF6-3DDF-4D7E-921F-826513D8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4DC0A7-954B-4CC0-8CF0-EC811A48C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2000/4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 Report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oup that got no respect this week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respect" descr=""/>
          <p:cNvPicPr/>
          <p:nvPr/>
        </p:nvPicPr>
        <p:blipFill>
          <a:blip r:embed="rId1"/>
          <a:stretch/>
        </p:blipFill>
        <p:spPr>
          <a:xfrm>
            <a:off x="3657600" y="3276720"/>
            <a:ext cx="1839960" cy="17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A62-6FB9-4567-B982-9E415F10AC4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rget 11F Schedule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n of record prior to today – now obsole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1st TG mtg, IAPP history review, task framing –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unctional determination, proposals – Jul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1st Draft written, review starts – Nov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Cut off for additional DS environment i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rst internal .11 ballot – Nov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ut need a draft to ballot…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chedule now slip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fork issue decision – Jan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11E progress or start external ballots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EB1-CEB4-4066-8BBD-98BEC402C9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 B”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5371-FBE4-42FA-B7AE-CBFCAFF95CA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F work recovery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Attempt recovery by offering interested parties a venue for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 H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n-binding) session to work out a base proposal/draft. Resulting draft to be brought to Jan mtg for consideration as candidate for first (internal) L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tative Mtg target week 12/3 (2 days?); location TBD; will be announced on reflector; mtg facilities will be provided; on your own for ho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tep 1 successful, proceed to LB in Jan/Mar with Ad-Hoc mtg draft (if approved in J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tep 1 not successful, recognize that re have people resource conflicts and re-sched work to be dependent on  11e settling down and freeing people up (schedule impact unknown at this d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340-BDF3-4013-BD72-ABFDF7D9DB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ised 802.11F Schedu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ssuming ad-hoc mtg progres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1st TG mtg, IAPP history review, task framing –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unctional determination, proposals – Jul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Cut off for additional DS environment inclusion. – Nov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-Hoc drafting recovery mtg Dec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st Draft available, review starts – Jan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ternal .11 ballot – Mar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fork issue decision – May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11E progress or start external ballots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B3B-9068-4809-B7F2-C69D713E97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parallel meeting 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 802.11 has multiple Open active PARs, all of which need to make progress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) The set of members needed to make progress on both have significant people in common between 11E &amp; 11F topics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) When 802.11E and 802.11F were setup, 802.11 committed that E&amp;F mtgs would not be in parallel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) an experiment in scheduling was tried this week where E&amp;F mtgs were overlapping, and this resulted in a significant negative impact to 802.11F progres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d: 802.11F moves that future 802.11 meetings not repeat the experiment of scheduling overlapping 802.11E and 802.11F meetings s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739-E830-45B3-8E86-45EC698E9D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of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4FC-B98E-45D9-93B4-708C5507E1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etween Sept &amp; Nov mtg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-Hoc discussions by interested parties will continue up to Nov mt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was to derive common proposal text for further consideration in Nov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calls schedu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happened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ed but no one atten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1E03-2587-41BD-ADEC-1B782CC0DB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 mtg progress prevented by over scheduling of mee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11E &amp; F were first set up, the agreement was that they would not be run in parallel (at the request of the .11 membersh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as changed this week due to the establishment of multiple E sub groups, resulting in an experiment with parallel E&amp;F ses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F chair expressed concern over this prior to mtg week, experiment went ahead over obje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has impacted 11Fs ability to get work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nday – 9 people, 3 voters + chair; Tuesday – 12 people, 4 voters + chair; Thurs: 4 people, 1 voter + ch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evel of industry interest in IAPP is not implied by attendance, what is implied is that WLAN brains are a scarce physical resource that can’t be in multiple physical locations simultaneously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6DE-47E9-4970-99E4-6AFDFFE507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 2000 802.11 F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 St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s for M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s &amp;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CDB6-FCD0-47B4-9C83-5DA3186482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min Stu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: Mahes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Venkatram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for this mtg only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 from S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where it started, we couldn’t get minutes approved from Sep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d: Bob Oh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: none… (Other voter had not read them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te: n/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9918-AEF6-44D2-A8C7-F2EF0180F7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v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raft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internal .11 ballot after Nov mt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all depends on the amount of effort volunteered between now and Nov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B96-475A-4918-8722-99047BD902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ved Target 11F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1st TG mtg, IAPP history review, task framing –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Functional determination, proposals – Jul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69696"/>
                </a:solidFill>
                <a:latin typeface="Times New Roman"/>
              </a:rPr>
              <a:t>1st Draft written, review starts – Nov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Cut off for additional DS environment i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rst internal .11 ballot – Nov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ut need a draft to ballot…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chedule now slip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fork issue decision – Jan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 for 11E progress or start external ballots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CDC6-A255-4A8E-B8F3-B59A2C05B9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 new, discussed 345R1 on Tues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AB72-D053-4187-A991-00B1872E35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F Motion: Recess &amp; Re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d: That 802.11F recess until the scheduled Thurs morn session. In the meantime the Chair (with the input of any interested parties) is to figure out a proposal for continuing work in light of the 802.11 scheduling issues; this will be discussed with 11F on Thurs morn with the intent that 11F decide and recommend to the Plenary on Thurs afternoon a revised work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d: Bob O’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Gary Spi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e: unanimous (2,0,0…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vid Bagb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90E2-3418-4F22-B542-2874069CA0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18:12:22Z</dcterms:created>
  <dc:creator>David Bagby</dc:creator>
  <dc:description/>
  <dc:language>en-US</dc:language>
  <cp:lastModifiedBy>Harry Worstell</cp:lastModifiedBy>
  <cp:lastPrinted>1998-02-10T13:28:06Z</cp:lastPrinted>
  <dcterms:modified xsi:type="dcterms:W3CDTF">2000-11-09T14:44:45Z</dcterms:modified>
  <cp:revision>71</cp:revision>
  <dc:subject/>
  <dc:title>May 2000 802.11F  IAPP RP TG Agenda</dc:title>
</cp:coreProperties>
</file>