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DB5673-3C9E-4A8F-8F7E-D1FEC1C92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6D130-C26D-4E51-8B73-E36591E76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2A4A6-D682-472F-A8DB-9921C850F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47B26-1172-4044-BC9D-68D77441A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BEA96-B93F-4E88-9018-1B8E5429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4ABB-7642-4D7D-92CC-A074A8CC3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BE57C-FDA7-4913-A54B-91AA64F3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E78C7-C2A2-4EBA-AE0E-2C9FF5B6B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C07E3-C160-4134-AE6A-20E01CA9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30E96-7D28-4DF8-B7B2-DF0A9E4F3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E8EF8-F50D-41E1-9F93-0BA4D9591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D0002-17AA-488C-B132-317E326EE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2DB08A-8CEE-42BA-AF43-18707100A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2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2640" y="2666520"/>
            <a:ext cx="6705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Update from November 2000 Meeting (mid-week)</a:t>
            </a:r>
            <a:r>
              <a:rPr b="0" lang="en-US" sz="4400" spc="-1" strike="noStrike">
                <a:solidFill>
                  <a:srgbClr val="000000"/>
                </a:solidFill>
                <a:latin typeface="Times New Roman"/>
              </a:rPr>
              <a:t>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F59078E-9129-49A7-98DB-44E952C05484}"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ed Office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ce Kraemer (Intersil), Vice-ch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rth Hillman (AMD), Secretar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tical Definitions has become the primary focus of this ses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done for 802.15 (doc.#99114r0 802.15) can serve as the basis, but will need modifications and additions to address 802.11a / HIPERLAN/2 / MMAC issu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 to be completed by the end of this ses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will be presented to the Joint Globalization Group in Sophia Antipolis on Wednesday, November 2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9C25563-A75E-408B-9823-D0C3149F4C4E}"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 (cont’d)</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ments document still needs work</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hold informal discussions at the joint meeting to establish a global format for user scenarios / require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bring the joint document to the January 2001 meeting in Monterrey, C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PARs anticipated until requirements document is approved by al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7B32FE1-7FF3-439C-A959-6158172EFC2B}"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Preserve Spectrum Coexistence</a:t>
            </a:r>
            <a:endParaRPr b="0" lang="en-US" sz="3200" spc="-1" strike="noStrike">
              <a:solidFill>
                <a:srgbClr val="000000"/>
              </a:solidFill>
              <a:latin typeface="Times New Roman"/>
            </a:endParaRPr>
          </a:p>
        </p:txBody>
      </p:sp>
      <p:sp>
        <p:nvSpPr>
          <p:cNvPr id="51"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d 21/0/1</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1228B1D-7638-4458-8C21-2ECCD6E98375}"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t>
            </a:r>
            <a:r>
              <a:rPr b="0" lang="en-US" sz="2400" spc="-1" strike="noStrike" u="sng">
                <a:solidFill>
                  <a:srgbClr val="000000"/>
                </a:solidFill>
                <a:uFillTx/>
                <a:latin typeface="Times New Roman"/>
              </a:rPr>
              <a:t>all</a:t>
            </a:r>
            <a:r>
              <a:rPr b="0" lang="en-US" sz="2400" spc="-1" strike="noStrike">
                <a:solidFill>
                  <a:srgbClr val="000000"/>
                </a:solidFill>
                <a:latin typeface="Times New Roman"/>
              </a:rPr>
              <a:t>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773A392-898C-443A-B52F-6B23A9E7BF27}"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8T22:03:57Z</dcterms:modified>
  <cp:revision>27</cp:revision>
  <dc:subject/>
  <dc:title>PowerPoint Presentation</dc:title>
</cp:coreProperties>
</file>