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E69EC-B97B-4422-BCF2-5EBABE575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7FE4F-2071-4419-8206-A378E7A6E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585CD-5138-4A55-8DE4-CAFE6FF67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A46AB-EA99-479C-A0FC-BB6035775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45574-180C-4D88-8DFC-BB2380A5B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0FA7A-7450-4EB6-9081-F3CE1AA7C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CC1E8-B220-4FA8-B687-E21E77FD9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84E37-7697-4499-B14D-9839454E5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A5926-8DB9-48AE-8108-52745D81F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BAD65-F70D-4808-A6D9-AC480389C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22F09-380A-429A-8379-1B43092D8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05707-8280-488B-B45A-B3D637DED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190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B. Shoemake,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FEC9A0-8AA1-4053-9496-7D10869886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3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hoemake@ti.com"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Gg Ballot for </a:t>
            </a:r>
            <a:r>
              <a:rPr b="0" i="1" lang="en-US" sz="4400" spc="-1" strike="noStrike">
                <a:solidFill>
                  <a:srgbClr val="000000"/>
                </a:solidFill>
                <a:latin typeface="Times New Roman"/>
              </a:rPr>
              <a:t>Selection Procedure </a:t>
            </a:r>
            <a:r>
              <a:rPr b="0" lang="en-US" sz="4400" spc="-1" strike="noStrike">
                <a:solidFill>
                  <a:srgbClr val="000000"/>
                </a:solidFill>
                <a:latin typeface="Times New Roman"/>
              </a:rPr>
              <a:t>Step 13</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thew B. Shoemak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g Chairpers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mber 8, 2000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shoemake@ti.co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B1B23C7-A947-419A-AAD1-94D037F5486A}"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llot</a:t>
            </a:r>
            <a:br>
              <a:rPr sz="4400"/>
            </a:br>
            <a:r>
              <a:rPr b="0" lang="en-US" sz="2400" spc="-1" strike="noStrike">
                <a:solidFill>
                  <a:srgbClr val="000000"/>
                </a:solidFill>
                <a:latin typeface="Times New Roman"/>
              </a:rPr>
              <a:t>TGg Selection Procedure Step 13</a:t>
            </a:r>
            <a:endParaRPr b="0" lang="en-US" sz="2400" spc="-1" strike="noStrike">
              <a:solidFill>
                <a:srgbClr val="000000"/>
              </a:solidFill>
              <a:latin typeface="Times New Roman"/>
            </a:endParaRPr>
          </a:p>
        </p:txBody>
      </p:sp>
      <p:sp>
        <p:nvSpPr>
          <p:cNvPr id="48" name="PlaceHolder 2"/>
          <p:cNvSpPr>
            <a:spLocks noGrp="1"/>
          </p:cNvSpPr>
          <p:nvPr>
            <p:ph/>
          </p:nvPr>
        </p:nvSpPr>
        <p:spPr>
          <a:xfrm>
            <a:off x="304920" y="1676520"/>
            <a:ext cx="8534160" cy="4419360"/>
          </a:xfrm>
          <a:prstGeom prst="rect">
            <a:avLst/>
          </a:prstGeom>
          <a:noFill/>
          <a:ln w="0">
            <a:noFill/>
          </a:ln>
        </p:spPr>
        <p:txBody>
          <a:bodyPr lIns="92160" rIns="92160" tIns="46080" bIns="4608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s:  Only voting members that are present in the meeting may take part in the ballot. Voters must complete all six items below, otherwise the ballot will be declared invalid and not counted. All proposals that do not receive at least 25% YES’s will be eliminated from further consideration by TGg.</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 Member Name: __________________________________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 Member Initials: _________</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Webster, et al. (Intersil)                      Yes         No        Abstain</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O’Farrell, et al. (Supergold)               Yes         No         Abstain</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Heegard, et al. (Texas Instruments)   Yes         No         Abstain</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Tan, et al. (3COM)                             Yes         No         Abstain</a:t>
            </a:r>
            <a:endParaRPr b="0" lang="en-US" sz="2000" spc="-1" strike="noStrike">
              <a:solidFill>
                <a:srgbClr val="000000"/>
              </a:solidFill>
              <a:latin typeface="Times New Roman"/>
            </a:endParaRPr>
          </a:p>
        </p:txBody>
      </p:sp>
      <p:grpSp>
        <p:nvGrpSpPr>
          <p:cNvPr id="49" name=""/>
          <p:cNvGrpSpPr/>
          <p:nvPr/>
        </p:nvGrpSpPr>
        <p:grpSpPr>
          <a:xfrm>
            <a:off x="5257800" y="5257800"/>
            <a:ext cx="2438280" cy="228600"/>
            <a:chOff x="5257800" y="5257800"/>
            <a:chExt cx="2438280" cy="228600"/>
          </a:xfrm>
        </p:grpSpPr>
        <p:sp>
          <p:nvSpPr>
            <p:cNvPr id="50" name=""/>
            <p:cNvSpPr/>
            <p:nvPr/>
          </p:nvSpPr>
          <p:spPr>
            <a:xfrm>
              <a:off x="5257800" y="525780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95880" y="525780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467480" y="525780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5257800" y="4876920"/>
            <a:ext cx="2438280" cy="228600"/>
            <a:chOff x="5257800" y="4876920"/>
            <a:chExt cx="2438280" cy="228600"/>
          </a:xfrm>
        </p:grpSpPr>
        <p:sp>
          <p:nvSpPr>
            <p:cNvPr id="54" name=""/>
            <p:cNvSpPr/>
            <p:nvPr/>
          </p:nvSpPr>
          <p:spPr>
            <a:xfrm>
              <a:off x="5257800" y="487692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095880" y="487692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467480" y="487692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257800" y="4524480"/>
            <a:ext cx="2438280" cy="228600"/>
            <a:chOff x="5257800" y="4524480"/>
            <a:chExt cx="2438280" cy="228600"/>
          </a:xfrm>
        </p:grpSpPr>
        <p:sp>
          <p:nvSpPr>
            <p:cNvPr id="58" name=""/>
            <p:cNvSpPr/>
            <p:nvPr/>
          </p:nvSpPr>
          <p:spPr>
            <a:xfrm>
              <a:off x="5257800" y="452448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095880" y="452448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467480" y="452448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5257800" y="4143240"/>
            <a:ext cx="2438280" cy="228600"/>
            <a:chOff x="5257800" y="4143240"/>
            <a:chExt cx="2438280" cy="228600"/>
          </a:xfrm>
        </p:grpSpPr>
        <p:sp>
          <p:nvSpPr>
            <p:cNvPr id="62" name=""/>
            <p:cNvSpPr/>
            <p:nvPr/>
          </p:nvSpPr>
          <p:spPr>
            <a:xfrm>
              <a:off x="5257800" y="414324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095880" y="414324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467480" y="414324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EEDC7BF-FD96-419F-A450-95F428AB29B3}"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Matthew B. Shoemake</dc:creator>
  <dc:description/>
  <dc:language>en-US</dc:language>
  <cp:lastModifiedBy>shoemake</cp:lastModifiedBy>
  <cp:lastPrinted>1998-02-10T13:28:06Z</cp:lastPrinted>
  <dcterms:modified xsi:type="dcterms:W3CDTF">2000-11-09T14:28:18Z</dcterms:modified>
  <cp:revision>26</cp:revision>
  <dc:subject/>
  <dc:title>No Slide Title</dc:title>
</cp:coreProperties>
</file>