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70CC-8DED-4018-B97B-E48008B4E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B2A4-B3B5-4FC4-9750-AD33BF76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41A0-62AA-4245-9CBE-A68FC78B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054F-8D91-41B9-AFCA-4D44839E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9A0C-A08E-4904-A74A-2393F13D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9397-7615-452E-B7AD-4A8696A9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251B-00C5-4CDE-B70C-2081AB34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C700-3EEA-4173-BD8B-9542F8DC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3BD8-045D-42C2-AA69-68F94492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2A88-FD22-4F64-9529-449890FD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4BDF-3D0E-4C95-B2A5-AC099364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2314-25C8-429E-98A2-BEF3A11A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11908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71680" y="6474960"/>
            <a:ext cx="2638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Sherman, AT&amp;T Labs -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232F4B0-31D9-437A-BD99-3390E4C3D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080" y="6475320"/>
            <a:ext cx="2846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2.11 PCF Modeling Observations Nov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Modeling Observ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27432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thew Sher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&amp;T Labs -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0 Park Aven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rham Park, NJ  079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73-236-67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jsherman@at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57150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November 9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40280" y="31240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ho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3581280"/>
            <a:ext cx="2743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b Mi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&amp;T Labs -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0 Park Aven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rham Park, NJ  079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73-236-69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rm@at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D3AB-E953-4F47-984C-724E57C9F83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el Results - Some Observ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 demonstrates only availability of a tool for evaluating E-MAC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not meant to demonstrate efficacy of any particular MAC (y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s why “Native” PCF can be effective in QoS applications compared to “Native” D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DB63-840D-426E-8E28-79186F1C32F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el Use for Optimization / Compari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added sophistication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P/IP, which lowers throughput, impacts streams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s to be valida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another model and/or operating hardware data, if possible (current model throughputs are not realisti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QoS”, not just “QoS”, with many users, many media types, many protocols should be goal--- need scenarios which differentiate “Basic PCF” from “QoS PCF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3823-6AC6-47C4-BCA3-C93D1283AE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642600"/>
            <a:ext cx="5791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opted QoS Req’ts from IEEE 802.11-00245r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oS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1.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rrections and enhancements to the PCF that may be required to best meet QoS performance objectives must be incorpor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2.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fferential handling of MSDUs supplied to the MAC with additional priorities and classes of servi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3.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ounded delay, prioritized acess, and bounded latency per MDSU (allocatable services), power management bypass mechanisms (which has priority in iBSS and BSS may need a mechanism for separable handset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4.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C SAP support for 802.1D/802.1q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5.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upport for multiple simultaneous streams with differing priority and class require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6.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ransmit Power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7.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 provide the hooks in the MAC to obtain remote channel inform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6760" y="178272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97640" y="5973840"/>
            <a:ext cx="46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5120" y="2362320"/>
            <a:ext cx="76176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47F5-9551-4E21-94F5-7A910608620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01:50:24Z</dcterms:created>
  <dc:creator>mjsherman</dc:creator>
  <dc:description/>
  <dc:language>en-US</dc:language>
  <cp:lastModifiedBy>R. R. Miller</cp:lastModifiedBy>
  <cp:lastPrinted>1998-02-10T13:28:06Z</cp:lastPrinted>
  <dcterms:modified xsi:type="dcterms:W3CDTF">2000-11-09T15:40:19Z</dcterms:modified>
  <cp:revision>39</cp:revision>
  <dc:subject/>
  <dc:title>PowerPoint Presentation</dc:title>
</cp:coreProperties>
</file>