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A813-2A3E-44C7-B1B1-0640344C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9B0D-64FD-4DCD-A0CC-D9187942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597-3397-4257-9D80-B54CE861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E620-5E2A-4F64-93FB-6DEE20D3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79A-7D10-4D3D-82AE-DD4FAA2F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1F5-DA73-4C8D-893D-F579A199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BF0-2407-42A3-8259-BD64787A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493-140E-43F2-812E-08B4050B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3B9-7AD9-46C2-B63D-A09EEB7E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DA3A-FC01-42E6-8198-91AB0286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F5EE-5E54-472E-810F-C95A35B4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1BDC-E386-4FC2-BC92-1DAC2756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41B8CFD-5D4F-413B-8191-B284BE820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00/4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4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hat the specific definition of scheduling algorithm and channel access method to be used in level 1 QoS be temporarily replaced with a text placeholder in the baseline document; further to reiterate that as of the November 2000 meeting the call for QoS baseline proposals is closed, and text to replace the placeholder be based on existing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881-E6BE-4E22-A40E-910B5276ECB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21:44:30Z</dcterms:created>
  <dc:creator>Preferred Customer</dc:creator>
  <dc:description/>
  <dc:language>en-US</dc:language>
  <cp:lastModifiedBy>Harry Worstell</cp:lastModifiedBy>
  <cp:lastPrinted>1998-02-10T13:28:06Z</cp:lastPrinted>
  <dcterms:modified xsi:type="dcterms:W3CDTF">2000-11-09T14:54:54Z</dcterms:modified>
  <cp:revision>2</cp:revision>
  <dc:subject/>
  <dc:title>PowerPoint Presentation</dc:title>
</cp:coreProperties>
</file>