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7A373-B5E4-431A-AB63-6C3DEA90B9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D1945-8933-4382-9356-AED4590CC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2131D-A21E-434D-B7BF-56A1AEAFC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2D876-7B56-460E-A95C-BE2C3B3438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3C599-17B6-4ADF-AB54-7DAE7B50B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71F52-4E57-40AC-8AB9-25E07697C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321AC-E7F5-4D21-BBD8-7DC423A10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802196-3818-43E3-8CBF-14F0F4E2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0F2C4-C1F9-474B-979E-8F6EAE511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58652-EF42-48D2-809A-1E4902DA3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0AA47-4785-41B9-AA92-9F9D719D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6ABC-5BD5-40A6-B4D3-96D8EA33AA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518080" y="6474960"/>
            <a:ext cx="30924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Kennedy, Compaq Computer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39D21A-6B2F-49DE-9A96-937BAC291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37560" y="396000"/>
            <a:ext cx="24267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3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266652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5GSG</a:t>
            </a:r>
            <a:br>
              <a:rPr sz="3200"/>
            </a:br>
            <a:r>
              <a:rPr b="0" lang="en-US" sz="3200" spc="-1" strike="noStrike">
                <a:solidFill>
                  <a:srgbClr val="000000"/>
                </a:solidFill>
                <a:latin typeface="Times New Roman"/>
              </a:rPr>
              <a:t>Update from November 2000 Meeting </a:t>
            </a:r>
            <a:br>
              <a:rPr sz="3200"/>
            </a:br>
            <a:br>
              <a:rPr sz="3200"/>
            </a:br>
            <a:br>
              <a:rPr sz="3200"/>
            </a:br>
            <a:r>
              <a:rPr b="0" lang="en-US" sz="2400" spc="-1" strike="noStrike">
                <a:solidFill>
                  <a:srgbClr val="000000"/>
                </a:solidFill>
                <a:latin typeface="Times New Roman"/>
              </a:rPr>
              <a:t>Richard Kennedy</a:t>
            </a:r>
            <a:br>
              <a:rPr sz="2400"/>
            </a:br>
            <a:r>
              <a:rPr b="0" lang="en-US" sz="2400" spc="-1" strike="noStrike">
                <a:solidFill>
                  <a:srgbClr val="000000"/>
                </a:solidFill>
                <a:latin typeface="Times New Roman"/>
              </a:rPr>
              <a:t>Compaq Computer Corpor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C021690C-D479-4DDF-BAB6-DDE446A52FBA}" type="slidenum">
              <a:t>1</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 for the Week</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ed Officer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uce Kraemer (Intersil), Vice-chai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rth Hillman (AMD), Secretary</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Definitions was the primary focus of this session</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done for 802.15 (doc.#99114r0 802.15) served as the basis, but needs modifications and additions to address 802.11a / HIPERLAN/2 / MMAC issu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was not completed by the end of this session.  Group members will use document 415r1, and provide final changes via email to the chai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ubset of the group will attend (as an ad hoc group) the Joint Globalization Group meeting in Sophia Antipolis, France on November 2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47DD023-5296-4FD3-B3C9-A47DF12B6387}"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gress (cont’d)</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ponded to PARs relating to the 5GHz unlicensed bands for Wireless HUMAN (802.16) and Wireless PAN (802.15) as requested by the P802.11 Working Grou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d responses back indicating that both groups have modified the language of the PARs to include the coexistence requiremen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midweek plenary, the position written by the 5GSG group was affirmed as the position of IEEE P802.11(x-x-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o empower the continued work of the 5GSG (5GHz Globalization Study Group) through the close of the next 802 Plenary, in March of 200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B0B384E-1B15-4774-A839-1BAE746B080B}"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to Preserve Spectrum Coexistence</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GSG believes that IEEE 802 should develop a set of coexistence and/or spectrum sharing guidelines to guarantee non-interference amongst its own wireless standards, currently 802.11/15 and 16.  This should be done as soon as possibl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ully endorse the work of the IEEE 802 Regulatory Ad Hoc Group in their efforts to achieve global spectrum harmonization, and will offer our help as required.  We would also like to invite the members of that group to attend our joint 5GHz WLAN Globalization group meeting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d 21/0/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91A3C1E-BF84-46DD-A885-0ADB67A08D40}"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 on the PA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roup believes that the approval of new standards in the 5GHz unlicensed bands should be consistent with the guidel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lly, we have concerns about the compatibility and distinct identity of Wireless HUMAN (802.16.1b), WPAN Low Rate (802.15.4) and WPAN High Rate (802.15.3) to the extent that they will operate in the 5GHz unlicensed ba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coexistence guidelines, the broad market acceptance of </a:t>
            </a:r>
            <a:r>
              <a:rPr b="0" lang="en-US" sz="2400" spc="-1" strike="noStrike" u="sng">
                <a:solidFill>
                  <a:srgbClr val="000000"/>
                </a:solidFill>
                <a:uFillTx/>
                <a:latin typeface="Times New Roman"/>
              </a:rPr>
              <a:t>all</a:t>
            </a:r>
            <a:r>
              <a:rPr b="0" lang="en-US" sz="2400" spc="-1" strike="noStrike">
                <a:solidFill>
                  <a:srgbClr val="000000"/>
                </a:solidFill>
                <a:latin typeface="Times New Roman"/>
              </a:rPr>
              <a:t> of these standards is threate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43C619E-47D0-4B64-87C5-0B3F1B525C35}"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5:11:06Z</dcterms:created>
  <dc:creator>Richard Kennedy</dc:creator>
  <dc:description/>
  <dc:language>en-US</dc:language>
  <cp:lastModifiedBy>Harry Worstell</cp:lastModifiedBy>
  <cp:lastPrinted>1998-02-10T13:28:06Z</cp:lastPrinted>
  <dcterms:modified xsi:type="dcterms:W3CDTF">2000-11-09T18:15:26Z</dcterms:modified>
  <cp:revision>31</cp:revision>
  <dc:subject/>
  <dc:title>PowerPoint Presentation</dc:title>
</cp:coreProperties>
</file>