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FC48-5D1F-4404-8088-C4DF324EE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8EF7-E778-4CEC-8458-9981C733C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39B8-F738-4186-B408-76D5161A6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9F11-2D51-400C-B8E3-F8269354D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1681-5FC6-42EA-9AC9-8F4472526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2999-F178-44C3-8320-2874A8CCA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DAD3-240B-4DAA-BEEA-49BD6B8B4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5EEC-E183-4C52-9DDE-BDAAF0EEE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0ADF-6FFC-4540-A7A3-6C23B344C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FCD3-65BF-4F15-907D-6DCD031BF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E10D-EC21-4C2B-A81D-0DD0EC9A3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19F2-6B14-4D0F-A82B-E82FE099A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B8670EA-E4CE-47AF-B419-B3D84FAEA8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44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ort on Thursday, November 9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2000 ExCom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 attendance - 926 total. Growth in reserve by 40K mainly due to free social.  Probable reduction in fees to limit further grow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2.11 Spectrum Managed 802.11a PAR passed 11/0/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2.15.4 PAR passed 10/0/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2.16 Wireless HUMAN PAR passed 10/0/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2 Position Statement to the FCC passed 7/0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uart J. Kerry, Philips Semiconductors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58FF-4710-40BE-A3C8-2C7257D7356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ort on Thursday, November 9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2000 ExCom Meeting (Con’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2.17 RPR PAR passed 11/0/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ke Takefman appointed Chair of 802.17 through March 2001 Plen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-Standards for Free- passed 10/1/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 PDF’s commencing 6 months from Standards Board appr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nue loss offset by $75/head fee from 802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Jan 1,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uart J. Kerry, Philips Semiconductors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F589-5AD2-42C7-86CB-33EF531EC6B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ort on Thursday, November 9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2000 ExCom Meeting (Con’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hernet in the last Mile SG approved 11/0/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sed $15k for ongoing 802 wireless network services at plen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on for 802 to manage May01 Meeting Pas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on to have paperless tutorials pas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uart J. Kerry, Philips Semiconductors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FF11-BC2E-4D87-B33F-3E5F30A4D42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ort on Thursday, November 9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2000 ExCom Meeting (Con’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on to form 802.15 HR 5G SG failed, although TG3 is not restricted from proceeding down this path independent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name Marketing Committees as Publicity Committees as ruled by Ex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uart J. Kerry, Philips Semiconductors, In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68AD-5E16-499D-AAB7-7FD1771B5AF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0T00:21:29Z</dcterms:created>
  <dc:creator>Robert F.  Heile</dc:creator>
  <dc:description>&lt;doc#&gt;</dc:description>
  <dc:language>en-US</dc:language>
  <cp:lastModifiedBy>Harry Worstell</cp:lastModifiedBy>
  <cp:lastPrinted>1998-02-10T13:28:06Z</cp:lastPrinted>
  <dcterms:modified xsi:type="dcterms:W3CDTF">2000-11-16T19:57:41Z</dcterms:modified>
  <cp:revision>10</cp:revision>
  <dc:subject>IEEE 802.15 &lt;subject&gt;</dc:subject>
  <dc:title>No Slide Title</dc:title>
</cp:coreProperties>
</file>