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9B8-7FEC-4A1D-9656-C7FD2F93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FA1-CE4A-4DD5-944F-D246AFD5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747-1B6B-42B1-8D58-67966B3F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113-2DA5-403D-A1AA-A5DD0BF4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6D83-F8B1-4B4A-858B-4CE6A194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7F4-373D-4DB2-81C5-1DEE2646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DB5-1AB7-488A-B409-018FCABF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C07-7BD4-460A-BF43-F1AE82D0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B87-5C55-408B-B9F5-061B0AF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842-D17D-4FE2-805A-A246A453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D32-55A0-44EB-B002-A7AA200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B65-58E6-448F-9EA3-197C76CE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248520"/>
            <a:ext cx="31240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3040" y="62481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981CD3-3CDB-49F0-9508-D7866A5F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82880"/>
            <a:ext cx="3962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47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39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2485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al for an IEEE 802 Wireless Coexistence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979-1934-40AB-AA8B-F1BCB0A788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members of 802.15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to 802.15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E90-10AE-4A03-B7AE-8E10FC46CC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, 802.15 and 802.16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, 802.15 and 802.16 can vo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000-5503-441C-BFF1-E4E2AE9FA4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374-9447-4DE9-8813-EBB65B7C34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ew structure meets the two needs of the 802 Wireless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oint forum to address all wireless coexistence issues of of relevance to the IEEE 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s of the Wireless Coexistence Task Group can maintain membership in their “home” Working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21D-03E9-4D46-A314-4761E3CA44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Harry Worstell</cp:lastModifiedBy>
  <cp:lastPrinted>2000-09-20T20:30:42Z</cp:lastPrinted>
  <dcterms:modified xsi:type="dcterms:W3CDTF">2000-11-17T19:47:45Z</dcterms:modified>
  <cp:revision>273</cp:revision>
  <dc:subject>IEEE 802.15 &lt;subject&gt;</dc:subject>
  <dc:title>IEEE P802.15 Working Group for Wireless Personal Area Networks</dc:title>
</cp:coreProperties>
</file>