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2A38-F6B0-4A14-B162-65E7D349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7C6-4691-47E6-909D-946FDE0F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4776-E9FC-430A-A689-569B79E3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6E1-8B91-4422-A176-E5645D03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07C-3662-44C0-B295-D7BD6DC8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1DC-D676-40AF-888C-E521A1CE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AC79-4F23-4E64-BCDC-2FD9CA22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565A-D84E-488F-A46A-A79E9A12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6DAF-710A-4B3C-8810-B3C199D9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164A-89AF-4078-ACCD-FD80F3A3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8BE-5DF0-486B-B1AE-9FBF9C13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931-2483-48B9-AFB4-69BC7923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1718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991200" y="6474960"/>
            <a:ext cx="1619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wen Wu, Cisco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E5AD01-AF94-4809-A5C3-808B431A3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ffic Police Enhancement for E-D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wen Wu, liwwu@cisco.com (408-853-406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b Meier, rmeier@cisco.com (330-664-785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g Smith, dsmit@cisco.com (905-305-004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sco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F83-A03B-4C0E-A0C7-5437309BE19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Compat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802.11 stations will set their NAV to the value in the ‘Duration’ field . Then, they all have to wait for that time perio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other 802.11e stations will ignore this ‘Duration’ fiel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D0A-B2F7-4031-9C60-6DAF4664C49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raffic Pol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ffic Police allows AP to limit the traffic from a single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5D0-687F-4823-A737-E3B9A78B28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Traffic Pol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 unwanted excessive amount of traffic from going through AP into wi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 a abusive station from taking radio resources away from other stations of the same traffic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 premium class traffic from starving the best effort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SP operator may want to have a option not letting best effort user to use more than what they paid f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FC3-1E46-4859-B911-C1AECAA10E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ll Stations send data within its lim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066680" y="2514600"/>
            <a:ext cx="6342120" cy="3371760"/>
            <a:chOff x="1066680" y="2514600"/>
            <a:chExt cx="6342120" cy="337176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6019560" y="3620880"/>
              <a:ext cx="138924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1066680" y="2630520"/>
              <a:ext cx="914400" cy="7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1066680" y="3925800"/>
              <a:ext cx="914400" cy="7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1143000" y="5145120"/>
              <a:ext cx="91440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361960" y="3011400"/>
              <a:ext cx="3505320" cy="83808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61960" y="3849480"/>
              <a:ext cx="350532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61960" y="4687920"/>
              <a:ext cx="3505320" cy="838080"/>
            </a:xfrm>
            <a:prstGeom prst="rect">
              <a:avLst/>
            </a:prstGeom>
            <a:solidFill>
              <a:srgbClr val="00b15b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09320" y="2514600"/>
              <a:ext cx="2594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a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adio medi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04760" y="316368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81080" y="4383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2057400" y="506880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5F63-8344-44EE-B149-407A627428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One Station is abusing the radio resource, other stations get less than they suppose to g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4038480"/>
            <a:ext cx="914400" cy="741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914400" cy="74124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1219320" y="2590920"/>
            <a:ext cx="6265800" cy="3371760"/>
            <a:chOff x="1219320" y="2590920"/>
            <a:chExt cx="6265800" cy="33717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6095880" y="3697200"/>
              <a:ext cx="138924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1219320" y="5221440"/>
              <a:ext cx="914400" cy="7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438280" y="3087720"/>
              <a:ext cx="3505320" cy="114300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38280" y="4230720"/>
              <a:ext cx="3505320" cy="53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438280" y="4764240"/>
              <a:ext cx="3505320" cy="457200"/>
            </a:xfrm>
            <a:prstGeom prst="rect">
              <a:avLst/>
            </a:prstGeom>
            <a:solidFill>
              <a:srgbClr val="00b15b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85640" y="2590920"/>
              <a:ext cx="2594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hared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adio medi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3240000"/>
              <a:ext cx="457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57400" y="4459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2133720" y="514512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5B9F-595B-4F87-B3E6-88385EFB1CC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we use Traffic Pol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 Public Access environment, where stations are untrusted entities, such 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irports(e.g. DC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otel(e.g. DC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ference(e.g. DC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net Café(e.g. DC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t mile(e.g. PCF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049B-7214-47AC-A67D-5926F5ED08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Traffic Pol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ffic Police inside AP, drop the unwanted excess packe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back: This does NOT protect radio 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ffic Police on radio medium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6B7-AD2C-488D-993E-39684B0CA8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ffic Police Proposal for DC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 a new Action Code in Action 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ode=1; Qo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code = 10; traffic pol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AP can send an “Traffic Police” Action frame t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ESTA, to police that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ESTA station is the RA of this “Traffic Police” Action frame, it must set its NAV to the value specified in the ‘Duration’ fiel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DB5A-A00F-4281-BF05-879C63D0A1B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ffic Police of a E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915480" y="1828800"/>
            <a:ext cx="7995240" cy="4419720"/>
            <a:chOff x="915480" y="1828800"/>
            <a:chExt cx="7995240" cy="441972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6500880" y="1884600"/>
              <a:ext cx="138888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76240" y="1828800"/>
              <a:ext cx="91440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2386080" y="2492640"/>
              <a:ext cx="0" cy="370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10360" y="2602080"/>
              <a:ext cx="0" cy="36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614680" y="2646360"/>
              <a:ext cx="4343400" cy="507600"/>
              <a:chOff x="2614680" y="2646360"/>
              <a:chExt cx="4343400" cy="507600"/>
            </a:xfrm>
          </p:grpSpPr>
          <p:sp>
            <p:nvSpPr>
              <p:cNvPr id="90" name=""/>
              <p:cNvSpPr/>
              <p:nvPr/>
            </p:nvSpPr>
            <p:spPr>
              <a:xfrm>
                <a:off x="2614680" y="2823120"/>
                <a:ext cx="4343400" cy="33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591360" y="2646360"/>
                <a:ext cx="62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606760" y="3276720"/>
              <a:ext cx="4343400" cy="507600"/>
              <a:chOff x="2606760" y="3276720"/>
              <a:chExt cx="4343400" cy="507600"/>
            </a:xfrm>
          </p:grpSpPr>
          <p:sp>
            <p:nvSpPr>
              <p:cNvPr id="93" name=""/>
              <p:cNvSpPr/>
              <p:nvPr/>
            </p:nvSpPr>
            <p:spPr>
              <a:xfrm>
                <a:off x="2606760" y="3453480"/>
                <a:ext cx="4343400" cy="33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583440" y="3276720"/>
                <a:ext cx="62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7178400" y="3862440"/>
              <a:ext cx="173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1706"/>
                  </a:solidFill>
                  <a:latin typeface="Times New Roman"/>
                </a:rPr>
                <a:t>exceed the limit!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2462040" y="3983040"/>
              <a:ext cx="4572000" cy="607680"/>
              <a:chOff x="2462040" y="3983040"/>
              <a:chExt cx="4572000" cy="607680"/>
            </a:xfrm>
          </p:grpSpPr>
          <p:sp>
            <p:nvSpPr>
              <p:cNvPr id="97" name=""/>
              <p:cNvSpPr/>
              <p:nvPr/>
            </p:nvSpPr>
            <p:spPr>
              <a:xfrm flipH="1">
                <a:off x="2462040" y="4148640"/>
                <a:ext cx="4572000" cy="44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456720" y="3983040"/>
                <a:ext cx="156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ffic Police”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547640" y="481176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47640" y="558504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52560" y="4811760"/>
              <a:ext cx="0" cy="773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538360" y="5656320"/>
              <a:ext cx="4343400" cy="506160"/>
              <a:chOff x="2538360" y="5656320"/>
              <a:chExt cx="4343400" cy="506160"/>
            </a:xfrm>
          </p:grpSpPr>
          <p:sp>
            <p:nvSpPr>
              <p:cNvPr id="103" name=""/>
              <p:cNvSpPr/>
              <p:nvPr/>
            </p:nvSpPr>
            <p:spPr>
              <a:xfrm>
                <a:off x="2538360" y="5831280"/>
                <a:ext cx="4343400" cy="33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515040" y="5656320"/>
                <a:ext cx="621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ata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915480" y="5116680"/>
              <a:ext cx="4978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2454120" y="2971800"/>
              <a:ext cx="4496040" cy="337320"/>
              <a:chOff x="2454120" y="2971800"/>
              <a:chExt cx="4496040" cy="337320"/>
            </a:xfrm>
          </p:grpSpPr>
          <p:sp>
            <p:nvSpPr>
              <p:cNvPr id="107" name=""/>
              <p:cNvSpPr/>
              <p:nvPr/>
            </p:nvSpPr>
            <p:spPr>
              <a:xfrm>
                <a:off x="2454120" y="3276720"/>
                <a:ext cx="4496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811320" y="29718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530440" y="3505320"/>
              <a:ext cx="4495680" cy="337320"/>
              <a:chOff x="2530440" y="3505320"/>
              <a:chExt cx="4495680" cy="337320"/>
            </a:xfrm>
          </p:grpSpPr>
          <p:sp>
            <p:nvSpPr>
              <p:cNvPr id="110" name=""/>
              <p:cNvSpPr/>
              <p:nvPr/>
            </p:nvSpPr>
            <p:spPr>
              <a:xfrm>
                <a:off x="2530440" y="3810240"/>
                <a:ext cx="449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887280" y="350532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9F8-0CF4-42DC-B2D2-0BA300627E5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arry Worstell</cp:lastModifiedBy>
  <cp:lastPrinted>1998-02-10T13:28:06Z</cp:lastPrinted>
  <dcterms:modified xsi:type="dcterms:W3CDTF">2001-01-15T13:56:21Z</dcterms:modified>
  <cp:revision>23</cp:revision>
  <dc:subject/>
  <dc:title>No Slide Title</dc:title>
</cp:coreProperties>
</file>