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F557-C254-4A43-8F6B-283751A45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9C34-1E8B-40AD-9C9D-32A6DEF3C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AFB9-37E4-4D7C-B353-54A32B1D6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A1A9-19E0-4FFF-AC4D-E95183EBD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0DD3-736D-443E-9043-D3CA778F6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8687-F344-4966-849C-B21F9F939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D044-4FA1-43AF-9C32-A5D756A93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A8DD-8C4F-4019-8471-5A798F014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DE71-C08D-4D4F-9437-A37B7E5B8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9B8C-0CFD-4B40-960E-E7035F46B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5D05-A29B-4714-B41F-2EE434E41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3E02-134E-4802-B3A3-0A39F7C60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228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ovember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39936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 Petrick, ParkerVi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657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6BA53F4D-9840-48EB-ADF2-6230660BAD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2286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ctr">
            <a:no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45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94000" y="6446880"/>
            <a:ext cx="18280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ting Membership Sta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Report of Voting Membership Statu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45716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 Petri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181F-6FE4-4F06-A306-B29BA4BCE5C3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Membership Status November 6, 2000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oters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2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arly Voters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3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tential in Tamp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6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piran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2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n-members (total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3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172200" y="320040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267080" y="350532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6568-EA61-4B13-AEBC-5513030B877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685800" y="1219320"/>
          <a:ext cx="7848720" cy="431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219320"/>
                    <a:ext cx="7848720" cy="43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DB23-48B3-49D0-81D0-DD7C4E65ED03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5T13:03:53Z</dcterms:created>
  <dc:creator>Al Petrick</dc:creator>
  <dc:description/>
  <dc:language>en-US</dc:language>
  <cp:lastModifiedBy>Harry Worstell</cp:lastModifiedBy>
  <cp:lastPrinted>1998-02-10T13:28:06Z</cp:lastPrinted>
  <dcterms:modified xsi:type="dcterms:W3CDTF">2000-12-09T02:39:11Z</dcterms:modified>
  <cp:revision>51</cp:revision>
  <dc:subject/>
  <dc:title>04028W-Report-of-Voting-Membership-Status</dc:title>
</cp:coreProperties>
</file>