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31840" y="688680"/>
            <a:ext cx="459576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7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584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350CFAED-EAAD-4D23-9D31-CBB315460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67800" y="4363920"/>
            <a:ext cx="5645160" cy="4137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5760" cy="34462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67800" y="4363920"/>
            <a:ext cx="5645160" cy="4137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8488-CA31-4CF8-87B4-7D0A571A7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C2FA-472B-4089-915F-8FCCF837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0D90-F948-451A-96ED-EF59EECB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A99C-D912-4213-BCD9-FC39F505A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96BD-EE5E-4059-BBB8-E2A30B6D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4445-ED3C-4806-A930-B5941294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6AD0-4E54-4EC5-9612-4E2CAA74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F619-8164-45A5-B1B5-1B9D83F2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186A-B3EF-42B7-AF3A-D2844742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45EC-7CED-47FD-AF71-75F4CA49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8966-D919-4926-9FE7-5EFD1EAF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FAE9-2DB1-4FDD-A11A-01730078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456552B-0275-4BA2-8BAC-7031C7FD1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4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ckward Compatibility o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‘Tiered Contention’ Multiple Access (TC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thilde Benven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&amp;T Labs,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8A3A-3D69-4CDC-88CA-B6767F07447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0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Hybrid differentiation (arbitration time and persistence probabil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xample:  Constant persistence probability for each 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 constant persistence probability is equivalent to drawing a backoff counter from a geometric distribution with mean           and variance       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 upper bound on the number of retrials truncates the distributions on the righ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3959280" y="2451240"/>
                <a:ext cx="36828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5533920" y="2444760"/>
                <a:ext cx="3304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2098800" y="4994280"/>
                <a:ext cx="3920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2995560" y="5013360"/>
                <a:ext cx="3920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4186080" y="5032440"/>
                <a:ext cx="3924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2" name=""/>
          <p:cNvSpPr/>
          <p:nvPr/>
        </p:nvSpPr>
        <p:spPr>
          <a:xfrm>
            <a:off x="1146240" y="2847960"/>
            <a:ext cx="689112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robability density function of initial backoff counter for the different class populations using the same UAT ti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784520" y="3300480"/>
          <a:ext cx="5354640" cy="173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4520" y="3300480"/>
                    <a:ext cx="535464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14C7-61B9-41CA-AEAA-AF9DDCA1681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Summary and concl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434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ered contention’ enables QoS management while achieving superior performance; 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congestion, it prevents collisions between packets of different classes and allows high urgency packets to transmit before low urgency packe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apts to (class-specific) local congestion level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s backward-compatible with the current 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rough the use of Hybrid TCMA in the short term;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olution into its pure form, following PHY specification of a shorter clear channel assessment time for new st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02CA-F9E2-48D4-AD90-44C9F53AEE3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952720" y="461016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355760" y="2476440"/>
            <a:ext cx="2666880" cy="2133720"/>
            <a:chOff x="1355760" y="2476440"/>
            <a:chExt cx="2666880" cy="2133720"/>
          </a:xfrm>
        </p:grpSpPr>
        <p:sp>
          <p:nvSpPr>
            <p:cNvPr id="56" name=""/>
            <p:cNvSpPr/>
            <p:nvPr/>
          </p:nvSpPr>
          <p:spPr>
            <a:xfrm>
              <a:off x="3489480" y="2476440"/>
              <a:ext cx="533160" cy="2133720"/>
            </a:xfrm>
            <a:prstGeom prst="rect">
              <a:avLst/>
            </a:prstGeom>
            <a:noFill/>
            <a:ln cap="rnd" w="324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55960" y="2476440"/>
              <a:ext cx="533520" cy="2133720"/>
            </a:xfrm>
            <a:prstGeom prst="rect">
              <a:avLst/>
            </a:prstGeom>
            <a:noFill/>
            <a:ln cap="rnd" w="324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422440" y="2476440"/>
              <a:ext cx="533520" cy="2133720"/>
            </a:xfrm>
            <a:prstGeom prst="rect">
              <a:avLst/>
            </a:prstGeom>
            <a:noFill/>
            <a:ln cap="rnd" w="324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55760" y="2476440"/>
              <a:ext cx="533520" cy="2133720"/>
            </a:xfrm>
            <a:prstGeom prst="rect">
              <a:avLst/>
            </a:prstGeom>
            <a:noFill/>
            <a:ln cap="rnd" w="324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89280" y="2476440"/>
              <a:ext cx="533160" cy="2133720"/>
            </a:xfrm>
            <a:prstGeom prst="rect">
              <a:avLst/>
            </a:prstGeom>
            <a:noFill/>
            <a:ln cap="rnd" w="324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4022640" y="2476440"/>
            <a:ext cx="533520" cy="2133720"/>
          </a:xfrm>
          <a:prstGeom prst="rect">
            <a:avLst/>
          </a:prstGeom>
          <a:noFill/>
          <a:ln cap="rnd" w="3240">
            <a:solidFill>
              <a:srgbClr val="b2b2b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56160" y="2476440"/>
            <a:ext cx="533520" cy="2133720"/>
          </a:xfrm>
          <a:prstGeom prst="rect">
            <a:avLst/>
          </a:prstGeom>
          <a:noFill/>
          <a:ln cap="rnd" w="3240">
            <a:solidFill>
              <a:srgbClr val="b2b2b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952720" y="2473200"/>
            <a:ext cx="533520" cy="3733920"/>
          </a:xfrm>
          <a:prstGeom prst="rect">
            <a:avLst/>
          </a:prstGeom>
          <a:noFill/>
          <a:ln cap="rnd" w="3240">
            <a:solidFill>
              <a:srgbClr val="b2b2b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2954160" y="877680"/>
            <a:ext cx="533520" cy="3730680"/>
          </a:xfrm>
          <a:prstGeom prst="rect">
            <a:avLst/>
          </a:prstGeom>
          <a:noFill/>
          <a:ln cap="rnd" w="3240">
            <a:solidFill>
              <a:srgbClr val="b2b2b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2952720" y="1942560"/>
            <a:ext cx="533160" cy="3733920"/>
          </a:xfrm>
          <a:prstGeom prst="rect">
            <a:avLst/>
          </a:prstGeom>
          <a:noFill/>
          <a:ln cap="rnd" w="3240">
            <a:solidFill>
              <a:srgbClr val="b2b2b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2952720" y="1409760"/>
            <a:ext cx="533520" cy="3733920"/>
          </a:xfrm>
          <a:prstGeom prst="rect">
            <a:avLst/>
          </a:prstGeom>
          <a:noFill/>
          <a:ln cap="rnd" w="3240">
            <a:solidFill>
              <a:srgbClr val="b2b2b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352520" y="247608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52520" y="3009960"/>
            <a:ext cx="3733920" cy="1600200"/>
            <a:chOff x="1352520" y="3009960"/>
            <a:chExt cx="3733920" cy="1600200"/>
          </a:xfrm>
        </p:grpSpPr>
        <p:sp>
          <p:nvSpPr>
            <p:cNvPr id="69" name=""/>
            <p:cNvSpPr/>
            <p:nvPr/>
          </p:nvSpPr>
          <p:spPr>
            <a:xfrm>
              <a:off x="1352520" y="3009960"/>
              <a:ext cx="373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52520" y="4610160"/>
              <a:ext cx="3733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2520" y="3543120"/>
              <a:ext cx="373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2520" y="4076640"/>
              <a:ext cx="373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504800" y="2781360"/>
            <a:ext cx="609480" cy="228600"/>
            <a:chOff x="1504800" y="2781360"/>
            <a:chExt cx="609480" cy="228600"/>
          </a:xfrm>
        </p:grpSpPr>
        <p:sp>
          <p:nvSpPr>
            <p:cNvPr id="74" name=""/>
            <p:cNvSpPr/>
            <p:nvPr/>
          </p:nvSpPr>
          <p:spPr>
            <a:xfrm>
              <a:off x="1581120" y="2781360"/>
              <a:ext cx="533160" cy="228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04800" y="2781360"/>
              <a:ext cx="7452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1504800" y="3314880"/>
            <a:ext cx="7488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352520" y="3543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504800" y="3543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647720" y="3543120"/>
            <a:ext cx="162000" cy="228600"/>
            <a:chOff x="1647720" y="3543120"/>
            <a:chExt cx="162000" cy="228600"/>
          </a:xfrm>
        </p:grpSpPr>
        <p:sp>
          <p:nvSpPr>
            <p:cNvPr id="80" name=""/>
            <p:cNvSpPr/>
            <p:nvPr/>
          </p:nvSpPr>
          <p:spPr>
            <a:xfrm flipV="1">
              <a:off x="1647720" y="3543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1809720" y="3543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962000" y="3543120"/>
            <a:ext cx="152280" cy="228600"/>
            <a:chOff x="1962000" y="3543120"/>
            <a:chExt cx="152280" cy="228600"/>
          </a:xfrm>
        </p:grpSpPr>
        <p:sp>
          <p:nvSpPr>
            <p:cNvPr id="83" name=""/>
            <p:cNvSpPr/>
            <p:nvPr/>
          </p:nvSpPr>
          <p:spPr>
            <a:xfrm flipV="1">
              <a:off x="1962000" y="3543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114280" y="3543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571840" y="4076280"/>
            <a:ext cx="304560" cy="228600"/>
            <a:chOff x="2571840" y="4076280"/>
            <a:chExt cx="304560" cy="228600"/>
          </a:xfrm>
        </p:grpSpPr>
        <p:grpSp>
          <p:nvGrpSpPr>
            <p:cNvPr id="86" name=""/>
            <p:cNvGrpSpPr/>
            <p:nvPr/>
          </p:nvGrpSpPr>
          <p:grpSpPr>
            <a:xfrm>
              <a:off x="2571840" y="4076280"/>
              <a:ext cx="161640" cy="228600"/>
              <a:chOff x="2571840" y="4076280"/>
              <a:chExt cx="161640" cy="228600"/>
            </a:xfrm>
          </p:grpSpPr>
          <p:sp>
            <p:nvSpPr>
              <p:cNvPr id="87" name=""/>
              <p:cNvSpPr/>
              <p:nvPr/>
            </p:nvSpPr>
            <p:spPr>
              <a:xfrm flipV="1">
                <a:off x="2571840" y="40762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>
                <a:off x="2733480" y="40762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2876400" y="4076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 flipV="1">
            <a:off x="1352520" y="4076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504800" y="4076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647720" y="4076280"/>
            <a:ext cx="162000" cy="228600"/>
            <a:chOff x="1647720" y="4076280"/>
            <a:chExt cx="162000" cy="228600"/>
          </a:xfrm>
        </p:grpSpPr>
        <p:sp>
          <p:nvSpPr>
            <p:cNvPr id="93" name=""/>
            <p:cNvSpPr/>
            <p:nvPr/>
          </p:nvSpPr>
          <p:spPr>
            <a:xfrm flipV="1">
              <a:off x="1647720" y="4076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1809720" y="4076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962000" y="4076280"/>
            <a:ext cx="457200" cy="228600"/>
            <a:chOff x="1962000" y="4076280"/>
            <a:chExt cx="457200" cy="228600"/>
          </a:xfrm>
        </p:grpSpPr>
        <p:grpSp>
          <p:nvGrpSpPr>
            <p:cNvPr id="96" name=""/>
            <p:cNvGrpSpPr/>
            <p:nvPr/>
          </p:nvGrpSpPr>
          <p:grpSpPr>
            <a:xfrm>
              <a:off x="1962000" y="4076280"/>
              <a:ext cx="162000" cy="228600"/>
              <a:chOff x="1962000" y="4076280"/>
              <a:chExt cx="162000" cy="228600"/>
            </a:xfrm>
          </p:grpSpPr>
          <p:sp>
            <p:nvSpPr>
              <p:cNvPr id="97" name=""/>
              <p:cNvSpPr/>
              <p:nvPr/>
            </p:nvSpPr>
            <p:spPr>
              <a:xfrm flipV="1">
                <a:off x="1962000" y="40762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2124000" y="40762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2257560" y="4076280"/>
              <a:ext cx="161640" cy="228600"/>
              <a:chOff x="2257560" y="4076280"/>
              <a:chExt cx="161640" cy="228600"/>
            </a:xfrm>
          </p:grpSpPr>
          <p:sp>
            <p:nvSpPr>
              <p:cNvPr id="100" name=""/>
              <p:cNvSpPr/>
              <p:nvPr/>
            </p:nvSpPr>
            <p:spPr>
              <a:xfrm flipV="1">
                <a:off x="2257560" y="40762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2419200" y="40762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"/>
          <p:cNvSpPr/>
          <p:nvPr/>
        </p:nvSpPr>
        <p:spPr>
          <a:xfrm>
            <a:off x="1506600" y="3848040"/>
            <a:ext cx="74520" cy="228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266920" y="3314880"/>
            <a:ext cx="762120" cy="228600"/>
            <a:chOff x="2266920" y="3314880"/>
            <a:chExt cx="762120" cy="228600"/>
          </a:xfrm>
        </p:grpSpPr>
        <p:sp>
          <p:nvSpPr>
            <p:cNvPr id="104" name=""/>
            <p:cNvSpPr/>
            <p:nvPr/>
          </p:nvSpPr>
          <p:spPr>
            <a:xfrm>
              <a:off x="2343240" y="3314880"/>
              <a:ext cx="685800" cy="2286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66920" y="3314880"/>
              <a:ext cx="7452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514440" y="278136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ode 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4440" y="331488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ode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4440" y="384804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ode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3848040"/>
            <a:ext cx="74880" cy="228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182760" y="3848040"/>
            <a:ext cx="1522440" cy="228600"/>
            <a:chOff x="3182760" y="3848040"/>
            <a:chExt cx="1522440" cy="228600"/>
          </a:xfrm>
        </p:grpSpPr>
        <p:sp>
          <p:nvSpPr>
            <p:cNvPr id="111" name=""/>
            <p:cNvSpPr/>
            <p:nvPr/>
          </p:nvSpPr>
          <p:spPr>
            <a:xfrm>
              <a:off x="3257280" y="3848040"/>
              <a:ext cx="1447920" cy="2286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ransmiss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82760" y="3848040"/>
              <a:ext cx="74520" cy="228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352520" y="2781360"/>
            <a:ext cx="152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52520" y="3848040"/>
            <a:ext cx="152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52520" y="3314880"/>
            <a:ext cx="152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14640" y="3848040"/>
            <a:ext cx="152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29040" y="3848040"/>
            <a:ext cx="152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14640" y="3314880"/>
            <a:ext cx="152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266920" y="3543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343240" y="3543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029040" y="4076280"/>
            <a:ext cx="162000" cy="228600"/>
            <a:chOff x="3029040" y="4076280"/>
            <a:chExt cx="162000" cy="228600"/>
          </a:xfrm>
        </p:grpSpPr>
        <p:sp>
          <p:nvSpPr>
            <p:cNvPr id="122" name=""/>
            <p:cNvSpPr/>
            <p:nvPr/>
          </p:nvSpPr>
          <p:spPr>
            <a:xfrm flipV="1">
              <a:off x="3029040" y="4076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191040" y="4076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 flipV="1">
            <a:off x="3257640" y="4076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227664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352520" y="1866960"/>
            <a:ext cx="749880" cy="914400"/>
            <a:chOff x="1352520" y="1866960"/>
            <a:chExt cx="749880" cy="914400"/>
          </a:xfrm>
        </p:grpSpPr>
        <p:sp>
          <p:nvSpPr>
            <p:cNvPr id="127" name=""/>
            <p:cNvSpPr/>
            <p:nvPr/>
          </p:nvSpPr>
          <p:spPr>
            <a:xfrm flipV="1">
              <a:off x="1504800" y="1866960"/>
              <a:ext cx="0" cy="9144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1581120" y="1866960"/>
              <a:ext cx="0" cy="9144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1352520" y="2171520"/>
              <a:ext cx="0" cy="609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28480" y="2019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1590480" y="2019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27560" y="1913040"/>
              <a:ext cx="474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BCU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1504800" y="227664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803160" y="2179800"/>
            <a:ext cx="660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BCP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486080" y="3009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581120" y="3009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352520" y="2999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Backoff countdown proced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400360" y="2523600"/>
            <a:ext cx="3057480" cy="29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legacy st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CPT=DI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CUT=slot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l nodes are legacy stations with backoff counters m at       equal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(A)=3; m(B)=2; m(C)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52520" y="4610160"/>
            <a:ext cx="0" cy="676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6120" y="489420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End of la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transmis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241280" y="4600440"/>
                <a:ext cx="29700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7483320" y="4035600"/>
                <a:ext cx="2206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698400" y="5487840"/>
            <a:ext cx="31100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CPT =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ckoff counter preparation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CUT = backoff counter updat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8FD3-F9CC-4A40-A379-D8F2BB1C951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Urgency Arbitration Time (UAT) Differentiation by BCPT 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ontention resolution through backoff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52840" y="2028600"/>
            <a:ext cx="3276360" cy="409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CMA Protocol Backb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ch urgency class is assigned a different urgency arbitration time (UAT) whose length decreases with increasing urg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rbitration Time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= interval that the channel must be sensed idle by a node before 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decreasing its backoff counter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cong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Higher urgency packets dominate the channel, as lower urgency packets get less of a chance to transmit - </a:t>
            </a:r>
            <a:r>
              <a:rPr b="1" lang="en-US" sz="1000" spc="-1" strike="noStrike">
                <a:solidFill>
                  <a:srgbClr val="ff0000"/>
                </a:solidFill>
                <a:latin typeface="Comic Sans MS"/>
              </a:rPr>
              <a:t>decrease their backoff counter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ower urgency packets do not collide with higher urgency packe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 stations with classification i= 0,1,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086520" y="5699160"/>
                <a:ext cx="14605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A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317760" y="5343480"/>
                <a:ext cx="176400" cy="2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49" name=""/>
          <p:cNvGrpSpPr/>
          <p:nvPr/>
        </p:nvGrpSpPr>
        <p:grpSpPr>
          <a:xfrm>
            <a:off x="523800" y="1866960"/>
            <a:ext cx="4575240" cy="3419280"/>
            <a:chOff x="523800" y="1866960"/>
            <a:chExt cx="4575240" cy="3419280"/>
          </a:xfrm>
        </p:grpSpPr>
        <p:sp>
          <p:nvSpPr>
            <p:cNvPr id="150" name=""/>
            <p:cNvSpPr/>
            <p:nvPr/>
          </p:nvSpPr>
          <p:spPr>
            <a:xfrm>
              <a:off x="1362240" y="3314880"/>
              <a:ext cx="2347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62440" y="4610160"/>
              <a:ext cx="99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365120" y="2476440"/>
              <a:ext cx="2666880" cy="2133720"/>
              <a:chOff x="1365120" y="2476440"/>
              <a:chExt cx="2666880" cy="2133720"/>
            </a:xfrm>
          </p:grpSpPr>
          <p:sp>
            <p:nvSpPr>
              <p:cNvPr id="153" name=""/>
              <p:cNvSpPr/>
              <p:nvPr/>
            </p:nvSpPr>
            <p:spPr>
              <a:xfrm>
                <a:off x="3498840" y="2476440"/>
                <a:ext cx="533160" cy="2133720"/>
              </a:xfrm>
              <a:prstGeom prst="rect">
                <a:avLst/>
              </a:prstGeom>
              <a:noFill/>
              <a:ln cap="rnd" w="3240">
                <a:solidFill>
                  <a:srgbClr val="b2b2b2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965320" y="2476440"/>
                <a:ext cx="533520" cy="2133720"/>
              </a:xfrm>
              <a:prstGeom prst="rect">
                <a:avLst/>
              </a:prstGeom>
              <a:noFill/>
              <a:ln cap="rnd" w="3240">
                <a:solidFill>
                  <a:srgbClr val="b2b2b2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431800" y="2476440"/>
                <a:ext cx="533520" cy="2133720"/>
              </a:xfrm>
              <a:prstGeom prst="rect">
                <a:avLst/>
              </a:prstGeom>
              <a:noFill/>
              <a:ln cap="rnd" w="3240">
                <a:solidFill>
                  <a:srgbClr val="b2b2b2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365120" y="2476440"/>
                <a:ext cx="533520" cy="2133720"/>
              </a:xfrm>
              <a:prstGeom prst="rect">
                <a:avLst/>
              </a:prstGeom>
              <a:noFill/>
              <a:ln cap="rnd" w="3240">
                <a:solidFill>
                  <a:srgbClr val="b2b2b2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898640" y="2476440"/>
                <a:ext cx="533160" cy="2133720"/>
              </a:xfrm>
              <a:prstGeom prst="rect">
                <a:avLst/>
              </a:prstGeom>
              <a:noFill/>
              <a:ln cap="rnd" w="3240">
                <a:solidFill>
                  <a:srgbClr val="b2b2b2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4032360" y="2476440"/>
              <a:ext cx="533160" cy="2133720"/>
            </a:xfrm>
            <a:prstGeom prst="rect">
              <a:avLst/>
            </a:prstGeom>
            <a:noFill/>
            <a:ln cap="rnd" w="324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65520" y="2476440"/>
              <a:ext cx="533520" cy="2133720"/>
            </a:xfrm>
            <a:prstGeom prst="rect">
              <a:avLst/>
            </a:prstGeom>
            <a:noFill/>
            <a:ln cap="rnd" w="324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6200000">
              <a:off x="2962080" y="2473200"/>
              <a:ext cx="533520" cy="3733560"/>
            </a:xfrm>
            <a:prstGeom prst="rect">
              <a:avLst/>
            </a:prstGeom>
            <a:noFill/>
            <a:ln cap="rnd" w="324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6200000">
              <a:off x="2963520" y="877680"/>
              <a:ext cx="533520" cy="3730680"/>
            </a:xfrm>
            <a:prstGeom prst="rect">
              <a:avLst/>
            </a:prstGeom>
            <a:noFill/>
            <a:ln cap="rnd" w="324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6200000">
              <a:off x="2962440" y="1942920"/>
              <a:ext cx="533160" cy="3733560"/>
            </a:xfrm>
            <a:prstGeom prst="rect">
              <a:avLst/>
            </a:prstGeom>
            <a:noFill/>
            <a:ln cap="rnd" w="324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6200000">
              <a:off x="2962080" y="1409760"/>
              <a:ext cx="533520" cy="3733560"/>
            </a:xfrm>
            <a:prstGeom prst="rect">
              <a:avLst/>
            </a:prstGeom>
            <a:noFill/>
            <a:ln cap="rnd" w="324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1362240" y="2476080"/>
              <a:ext cx="0" cy="213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1362240" y="3009960"/>
              <a:ext cx="3733560" cy="1600200"/>
              <a:chOff x="1362240" y="3009960"/>
              <a:chExt cx="3733560" cy="1600200"/>
            </a:xfrm>
          </p:grpSpPr>
          <p:sp>
            <p:nvSpPr>
              <p:cNvPr id="166" name=""/>
              <p:cNvSpPr/>
              <p:nvPr/>
            </p:nvSpPr>
            <p:spPr>
              <a:xfrm>
                <a:off x="1362240" y="3009960"/>
                <a:ext cx="373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362240" y="4610160"/>
                <a:ext cx="3733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362240" y="3543120"/>
                <a:ext cx="373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362240" y="4076640"/>
                <a:ext cx="373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1514520" y="2781360"/>
              <a:ext cx="609480" cy="228600"/>
              <a:chOff x="1514520" y="2781360"/>
              <a:chExt cx="609480" cy="228600"/>
            </a:xfrm>
          </p:grpSpPr>
          <p:sp>
            <p:nvSpPr>
              <p:cNvPr id="171" name=""/>
              <p:cNvSpPr/>
              <p:nvPr/>
            </p:nvSpPr>
            <p:spPr>
              <a:xfrm>
                <a:off x="1590840" y="2781360"/>
                <a:ext cx="533160" cy="2286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14520" y="2781360"/>
                <a:ext cx="74520" cy="2286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 flipV="1">
              <a:off x="1362240" y="3543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1514520" y="3543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1657440" y="3543120"/>
              <a:ext cx="162000" cy="228600"/>
              <a:chOff x="1657440" y="3543120"/>
              <a:chExt cx="162000" cy="228600"/>
            </a:xfrm>
          </p:grpSpPr>
          <p:sp>
            <p:nvSpPr>
              <p:cNvPr id="176" name=""/>
              <p:cNvSpPr/>
              <p:nvPr/>
            </p:nvSpPr>
            <p:spPr>
              <a:xfrm flipV="1">
                <a:off x="1657440" y="35431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1819440" y="35431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971720" y="3543120"/>
              <a:ext cx="152280" cy="228600"/>
              <a:chOff x="1971720" y="3543120"/>
              <a:chExt cx="152280" cy="228600"/>
            </a:xfrm>
          </p:grpSpPr>
          <p:sp>
            <p:nvSpPr>
              <p:cNvPr id="179" name=""/>
              <p:cNvSpPr/>
              <p:nvPr/>
            </p:nvSpPr>
            <p:spPr>
              <a:xfrm flipV="1">
                <a:off x="1971720" y="35431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2124000" y="35431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2581200" y="4076280"/>
              <a:ext cx="304920" cy="228600"/>
              <a:chOff x="2581200" y="4076280"/>
              <a:chExt cx="304920" cy="22860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2581200" y="4076280"/>
                <a:ext cx="162000" cy="228600"/>
                <a:chOff x="2581200" y="4076280"/>
                <a:chExt cx="162000" cy="228600"/>
              </a:xfrm>
            </p:grpSpPr>
            <p:sp>
              <p:nvSpPr>
                <p:cNvPr id="183" name=""/>
                <p:cNvSpPr/>
                <p:nvPr/>
              </p:nvSpPr>
              <p:spPr>
                <a:xfrm flipV="1">
                  <a:off x="2581200" y="40762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V="1">
                  <a:off x="2743200" y="40762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" name=""/>
              <p:cNvSpPr/>
              <p:nvPr/>
            </p:nvSpPr>
            <p:spPr>
              <a:xfrm flipV="1">
                <a:off x="2886120" y="40762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 flipV="1">
              <a:off x="1362240" y="4076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1514520" y="4076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1657440" y="4076280"/>
              <a:ext cx="162000" cy="228600"/>
              <a:chOff x="1657440" y="4076280"/>
              <a:chExt cx="162000" cy="228600"/>
            </a:xfrm>
          </p:grpSpPr>
          <p:sp>
            <p:nvSpPr>
              <p:cNvPr id="189" name=""/>
              <p:cNvSpPr/>
              <p:nvPr/>
            </p:nvSpPr>
            <p:spPr>
              <a:xfrm flipV="1">
                <a:off x="1657440" y="40762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1819440" y="40762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1971720" y="4076280"/>
              <a:ext cx="457200" cy="228600"/>
              <a:chOff x="1971720" y="4076280"/>
              <a:chExt cx="457200" cy="22860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1971720" y="4076280"/>
                <a:ext cx="162000" cy="228600"/>
                <a:chOff x="1971720" y="4076280"/>
                <a:chExt cx="162000" cy="228600"/>
              </a:xfrm>
            </p:grpSpPr>
            <p:sp>
              <p:nvSpPr>
                <p:cNvPr id="193" name=""/>
                <p:cNvSpPr/>
                <p:nvPr/>
              </p:nvSpPr>
              <p:spPr>
                <a:xfrm flipV="1">
                  <a:off x="1971720" y="40762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V="1">
                  <a:off x="2133720" y="40762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2267280" y="4076280"/>
                <a:ext cx="161640" cy="228600"/>
                <a:chOff x="2267280" y="4076280"/>
                <a:chExt cx="161640" cy="228600"/>
              </a:xfrm>
            </p:grpSpPr>
            <p:sp>
              <p:nvSpPr>
                <p:cNvPr id="196" name=""/>
                <p:cNvSpPr/>
                <p:nvPr/>
              </p:nvSpPr>
              <p:spPr>
                <a:xfrm flipV="1">
                  <a:off x="2267280" y="40762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flipV="1">
                  <a:off x="2428920" y="40762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8" name=""/>
            <p:cNvGrpSpPr/>
            <p:nvPr/>
          </p:nvGrpSpPr>
          <p:grpSpPr>
            <a:xfrm>
              <a:off x="2359080" y="3314880"/>
              <a:ext cx="762120" cy="228600"/>
              <a:chOff x="2359080" y="3314880"/>
              <a:chExt cx="762120" cy="228600"/>
            </a:xfrm>
          </p:grpSpPr>
          <p:sp>
            <p:nvSpPr>
              <p:cNvPr id="199" name=""/>
              <p:cNvSpPr/>
              <p:nvPr/>
            </p:nvSpPr>
            <p:spPr>
              <a:xfrm>
                <a:off x="2435400" y="3314880"/>
                <a:ext cx="685800" cy="22860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359080" y="3314880"/>
                <a:ext cx="74520" cy="2286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523800" y="278136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Node C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3800" y="331488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Node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3800" y="384804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Node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3427560" y="3848040"/>
              <a:ext cx="1416960" cy="228600"/>
              <a:chOff x="3427560" y="3848040"/>
              <a:chExt cx="1416960" cy="228600"/>
            </a:xfrm>
          </p:grpSpPr>
          <p:sp>
            <p:nvSpPr>
              <p:cNvPr id="205" name=""/>
              <p:cNvSpPr/>
              <p:nvPr/>
            </p:nvSpPr>
            <p:spPr>
              <a:xfrm>
                <a:off x="3496680" y="3848040"/>
                <a:ext cx="1347840" cy="2286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transmi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427560" y="3848040"/>
                <a:ext cx="69120" cy="2286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1362240" y="2781360"/>
              <a:ext cx="152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2276640" y="3543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2422440" y="3543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3038400" y="4076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05000" y="227664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1362240" y="1866960"/>
              <a:ext cx="749880" cy="914400"/>
              <a:chOff x="1362240" y="1866960"/>
              <a:chExt cx="749880" cy="914400"/>
            </a:xfrm>
          </p:grpSpPr>
          <p:sp>
            <p:nvSpPr>
              <p:cNvPr id="213" name=""/>
              <p:cNvSpPr/>
              <p:nvPr/>
            </p:nvSpPr>
            <p:spPr>
              <a:xfrm flipV="1">
                <a:off x="1514520" y="1866960"/>
                <a:ext cx="0" cy="9144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>
                <a:off x="1590840" y="1866960"/>
                <a:ext cx="0" cy="9144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1362240" y="2171520"/>
                <a:ext cx="0" cy="6094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438200" y="201960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1600200" y="201960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37280" y="1913040"/>
                <a:ext cx="4748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BCU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1514520" y="227664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812880" y="2179800"/>
              <a:ext cx="660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BC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1495440" y="3009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1590840" y="3009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1362240" y="299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362240" y="4610160"/>
              <a:ext cx="0" cy="67608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5840" y="4894200"/>
              <a:ext cx="87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End of las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transmiss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1251000" y="4600440"/>
                  <a:ext cx="296640" cy="36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27" name=""/>
            <p:cNvSpPr/>
            <p:nvPr/>
          </p:nvSpPr>
          <p:spPr>
            <a:xfrm>
              <a:off x="2124000" y="3314880"/>
              <a:ext cx="2350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362240" y="3848040"/>
              <a:ext cx="31104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24000" y="3848040"/>
              <a:ext cx="3114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33800" y="3848040"/>
              <a:ext cx="2905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3165480" y="4082760"/>
              <a:ext cx="162000" cy="228600"/>
              <a:chOff x="3165480" y="4082760"/>
              <a:chExt cx="162000" cy="228600"/>
            </a:xfrm>
          </p:grpSpPr>
          <p:sp>
            <p:nvSpPr>
              <p:cNvPr id="232" name=""/>
              <p:cNvSpPr/>
              <p:nvPr/>
            </p:nvSpPr>
            <p:spPr>
              <a:xfrm flipV="1">
                <a:off x="3165480" y="40827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3327480" y="40827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 flipV="1">
              <a:off x="3419640" y="4082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4530600" y="3333600"/>
                  <a:ext cx="100080" cy="19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236" name=""/>
          <p:cNvSpPr/>
          <p:nvPr/>
        </p:nvSpPr>
        <p:spPr>
          <a:xfrm>
            <a:off x="1542960" y="5143680"/>
            <a:ext cx="3276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The backoff counter m at     is equal to 1 for all nodes;    m(A)= m(B)=m(C)=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ansmit urgency ranking: (C, B, A); hence,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UAT(A) &gt;UAT(B)&gt;UAT(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E490-7C05-4417-B35B-3920206F39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Urgency Arbitration Time (UAT) Differentiation by BCPT 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ontention resolution through use of persistence prob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23800" y="1866960"/>
            <a:ext cx="4575240" cy="3419280"/>
            <a:chOff x="523800" y="1866960"/>
            <a:chExt cx="4575240" cy="3419280"/>
          </a:xfrm>
        </p:grpSpPr>
        <p:sp>
          <p:nvSpPr>
            <p:cNvPr id="239" name=""/>
            <p:cNvSpPr/>
            <p:nvPr/>
          </p:nvSpPr>
          <p:spPr>
            <a:xfrm>
              <a:off x="1362240" y="3314880"/>
              <a:ext cx="2347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62440" y="4610160"/>
              <a:ext cx="99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1365120" y="2476440"/>
              <a:ext cx="2666880" cy="2133720"/>
              <a:chOff x="1365120" y="2476440"/>
              <a:chExt cx="2666880" cy="2133720"/>
            </a:xfrm>
          </p:grpSpPr>
          <p:sp>
            <p:nvSpPr>
              <p:cNvPr id="242" name=""/>
              <p:cNvSpPr/>
              <p:nvPr/>
            </p:nvSpPr>
            <p:spPr>
              <a:xfrm>
                <a:off x="3498840" y="2476440"/>
                <a:ext cx="533160" cy="2133720"/>
              </a:xfrm>
              <a:prstGeom prst="rect">
                <a:avLst/>
              </a:prstGeom>
              <a:noFill/>
              <a:ln cap="rnd" w="3240">
                <a:solidFill>
                  <a:srgbClr val="b2b2b2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965320" y="2476440"/>
                <a:ext cx="533520" cy="2133720"/>
              </a:xfrm>
              <a:prstGeom prst="rect">
                <a:avLst/>
              </a:prstGeom>
              <a:noFill/>
              <a:ln cap="rnd" w="3240">
                <a:solidFill>
                  <a:srgbClr val="b2b2b2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431800" y="2476440"/>
                <a:ext cx="533520" cy="2133720"/>
              </a:xfrm>
              <a:prstGeom prst="rect">
                <a:avLst/>
              </a:prstGeom>
              <a:noFill/>
              <a:ln cap="rnd" w="3240">
                <a:solidFill>
                  <a:srgbClr val="b2b2b2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365120" y="2476440"/>
                <a:ext cx="533520" cy="2133720"/>
              </a:xfrm>
              <a:prstGeom prst="rect">
                <a:avLst/>
              </a:prstGeom>
              <a:noFill/>
              <a:ln cap="rnd" w="3240">
                <a:solidFill>
                  <a:srgbClr val="b2b2b2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898640" y="2476440"/>
                <a:ext cx="533160" cy="2133720"/>
              </a:xfrm>
              <a:prstGeom prst="rect">
                <a:avLst/>
              </a:prstGeom>
              <a:noFill/>
              <a:ln cap="rnd" w="3240">
                <a:solidFill>
                  <a:srgbClr val="b2b2b2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4032360" y="2476440"/>
              <a:ext cx="533160" cy="2133720"/>
            </a:xfrm>
            <a:prstGeom prst="rect">
              <a:avLst/>
            </a:prstGeom>
            <a:noFill/>
            <a:ln cap="rnd" w="324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65520" y="2476440"/>
              <a:ext cx="533520" cy="2133720"/>
            </a:xfrm>
            <a:prstGeom prst="rect">
              <a:avLst/>
            </a:prstGeom>
            <a:noFill/>
            <a:ln cap="rnd" w="324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6200000">
              <a:off x="2962080" y="2473200"/>
              <a:ext cx="533520" cy="3733560"/>
            </a:xfrm>
            <a:prstGeom prst="rect">
              <a:avLst/>
            </a:prstGeom>
            <a:noFill/>
            <a:ln cap="rnd" w="324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6200000">
              <a:off x="2963520" y="877680"/>
              <a:ext cx="533520" cy="3730680"/>
            </a:xfrm>
            <a:prstGeom prst="rect">
              <a:avLst/>
            </a:prstGeom>
            <a:noFill/>
            <a:ln cap="rnd" w="324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6200000">
              <a:off x="2962440" y="1942920"/>
              <a:ext cx="533160" cy="3733560"/>
            </a:xfrm>
            <a:prstGeom prst="rect">
              <a:avLst/>
            </a:prstGeom>
            <a:noFill/>
            <a:ln cap="rnd" w="324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6200000">
              <a:off x="2962080" y="1409760"/>
              <a:ext cx="533520" cy="3733560"/>
            </a:xfrm>
            <a:prstGeom prst="rect">
              <a:avLst/>
            </a:prstGeom>
            <a:noFill/>
            <a:ln cap="rnd" w="3240">
              <a:solidFill>
                <a:srgbClr val="b2b2b2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1362240" y="2476080"/>
              <a:ext cx="0" cy="213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1362240" y="3009960"/>
              <a:ext cx="3733560" cy="1600200"/>
              <a:chOff x="1362240" y="3009960"/>
              <a:chExt cx="3733560" cy="1600200"/>
            </a:xfrm>
          </p:grpSpPr>
          <p:sp>
            <p:nvSpPr>
              <p:cNvPr id="255" name=""/>
              <p:cNvSpPr/>
              <p:nvPr/>
            </p:nvSpPr>
            <p:spPr>
              <a:xfrm>
                <a:off x="1362240" y="3009960"/>
                <a:ext cx="373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362240" y="4610160"/>
                <a:ext cx="3733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362240" y="3543120"/>
                <a:ext cx="373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362240" y="4076640"/>
                <a:ext cx="373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1514520" y="2781360"/>
              <a:ext cx="609480" cy="228600"/>
              <a:chOff x="1514520" y="2781360"/>
              <a:chExt cx="609480" cy="228600"/>
            </a:xfrm>
          </p:grpSpPr>
          <p:sp>
            <p:nvSpPr>
              <p:cNvPr id="260" name=""/>
              <p:cNvSpPr/>
              <p:nvPr/>
            </p:nvSpPr>
            <p:spPr>
              <a:xfrm>
                <a:off x="1590840" y="2781360"/>
                <a:ext cx="533160" cy="2286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14520" y="2781360"/>
                <a:ext cx="74520" cy="2286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 flipV="1">
              <a:off x="1362240" y="3543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1514520" y="3543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1657440" y="3543120"/>
              <a:ext cx="162000" cy="228600"/>
              <a:chOff x="1657440" y="3543120"/>
              <a:chExt cx="162000" cy="228600"/>
            </a:xfrm>
          </p:grpSpPr>
          <p:sp>
            <p:nvSpPr>
              <p:cNvPr id="265" name=""/>
              <p:cNvSpPr/>
              <p:nvPr/>
            </p:nvSpPr>
            <p:spPr>
              <a:xfrm flipV="1">
                <a:off x="1657440" y="35431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1819440" y="35431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1971720" y="3543120"/>
              <a:ext cx="152280" cy="228600"/>
              <a:chOff x="1971720" y="3543120"/>
              <a:chExt cx="152280" cy="228600"/>
            </a:xfrm>
          </p:grpSpPr>
          <p:sp>
            <p:nvSpPr>
              <p:cNvPr id="268" name=""/>
              <p:cNvSpPr/>
              <p:nvPr/>
            </p:nvSpPr>
            <p:spPr>
              <a:xfrm flipV="1">
                <a:off x="1971720" y="35431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2124000" y="354312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2581200" y="4076280"/>
              <a:ext cx="304920" cy="228600"/>
              <a:chOff x="2581200" y="4076280"/>
              <a:chExt cx="304920" cy="22860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2581200" y="4076280"/>
                <a:ext cx="162000" cy="228600"/>
                <a:chOff x="2581200" y="4076280"/>
                <a:chExt cx="162000" cy="228600"/>
              </a:xfrm>
            </p:grpSpPr>
            <p:sp>
              <p:nvSpPr>
                <p:cNvPr id="272" name=""/>
                <p:cNvSpPr/>
                <p:nvPr/>
              </p:nvSpPr>
              <p:spPr>
                <a:xfrm flipV="1">
                  <a:off x="2581200" y="40762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V="1">
                  <a:off x="2743200" y="40762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4" name=""/>
              <p:cNvSpPr/>
              <p:nvPr/>
            </p:nvSpPr>
            <p:spPr>
              <a:xfrm flipV="1">
                <a:off x="2886120" y="40762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 flipV="1">
              <a:off x="1362240" y="4076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1514520" y="4076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1657440" y="4076280"/>
              <a:ext cx="162000" cy="228600"/>
              <a:chOff x="1657440" y="4076280"/>
              <a:chExt cx="162000" cy="228600"/>
            </a:xfrm>
          </p:grpSpPr>
          <p:sp>
            <p:nvSpPr>
              <p:cNvPr id="278" name=""/>
              <p:cNvSpPr/>
              <p:nvPr/>
            </p:nvSpPr>
            <p:spPr>
              <a:xfrm flipV="1">
                <a:off x="1657440" y="40762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1819440" y="40762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1971720" y="4076280"/>
              <a:ext cx="457200" cy="228600"/>
              <a:chOff x="1971720" y="4076280"/>
              <a:chExt cx="457200" cy="228600"/>
            </a:xfrm>
          </p:grpSpPr>
          <p:grpSp>
            <p:nvGrpSpPr>
              <p:cNvPr id="281" name=""/>
              <p:cNvGrpSpPr/>
              <p:nvPr/>
            </p:nvGrpSpPr>
            <p:grpSpPr>
              <a:xfrm>
                <a:off x="1971720" y="4076280"/>
                <a:ext cx="162000" cy="228600"/>
                <a:chOff x="1971720" y="4076280"/>
                <a:chExt cx="162000" cy="228600"/>
              </a:xfrm>
            </p:grpSpPr>
            <p:sp>
              <p:nvSpPr>
                <p:cNvPr id="282" name=""/>
                <p:cNvSpPr/>
                <p:nvPr/>
              </p:nvSpPr>
              <p:spPr>
                <a:xfrm flipV="1">
                  <a:off x="1971720" y="40762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V="1">
                  <a:off x="2133720" y="40762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2267280" y="4076280"/>
                <a:ext cx="161640" cy="228600"/>
                <a:chOff x="2267280" y="4076280"/>
                <a:chExt cx="161640" cy="228600"/>
              </a:xfrm>
            </p:grpSpPr>
            <p:sp>
              <p:nvSpPr>
                <p:cNvPr id="285" name=""/>
                <p:cNvSpPr/>
                <p:nvPr/>
              </p:nvSpPr>
              <p:spPr>
                <a:xfrm flipV="1">
                  <a:off x="2267280" y="40762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V="1">
                  <a:off x="2428920" y="407628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7" name=""/>
            <p:cNvGrpSpPr/>
            <p:nvPr/>
          </p:nvGrpSpPr>
          <p:grpSpPr>
            <a:xfrm>
              <a:off x="2359080" y="3314880"/>
              <a:ext cx="762120" cy="228600"/>
              <a:chOff x="2359080" y="3314880"/>
              <a:chExt cx="762120" cy="228600"/>
            </a:xfrm>
          </p:grpSpPr>
          <p:sp>
            <p:nvSpPr>
              <p:cNvPr id="288" name=""/>
              <p:cNvSpPr/>
              <p:nvPr/>
            </p:nvSpPr>
            <p:spPr>
              <a:xfrm>
                <a:off x="2435400" y="3314880"/>
                <a:ext cx="685800" cy="22860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359080" y="3314880"/>
                <a:ext cx="74520" cy="2286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523800" y="278136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Node C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3800" y="331488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Node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3800" y="384804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Node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3427560" y="3848040"/>
              <a:ext cx="1416960" cy="228600"/>
              <a:chOff x="3427560" y="3848040"/>
              <a:chExt cx="1416960" cy="228600"/>
            </a:xfrm>
          </p:grpSpPr>
          <p:sp>
            <p:nvSpPr>
              <p:cNvPr id="294" name=""/>
              <p:cNvSpPr/>
              <p:nvPr/>
            </p:nvSpPr>
            <p:spPr>
              <a:xfrm>
                <a:off x="3496680" y="3848040"/>
                <a:ext cx="1347840" cy="2286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transmi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427560" y="3848040"/>
                <a:ext cx="69120" cy="2286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1362240" y="2781360"/>
              <a:ext cx="152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2276640" y="3543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2422440" y="35431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3038400" y="4076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05000" y="227664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1362240" y="1866960"/>
              <a:ext cx="749880" cy="914400"/>
              <a:chOff x="1362240" y="1866960"/>
              <a:chExt cx="749880" cy="914400"/>
            </a:xfrm>
          </p:grpSpPr>
          <p:sp>
            <p:nvSpPr>
              <p:cNvPr id="302" name=""/>
              <p:cNvSpPr/>
              <p:nvPr/>
            </p:nvSpPr>
            <p:spPr>
              <a:xfrm flipV="1">
                <a:off x="1514520" y="1866960"/>
                <a:ext cx="0" cy="9144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1590840" y="1866960"/>
                <a:ext cx="0" cy="9144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1362240" y="2171520"/>
                <a:ext cx="0" cy="6094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438200" y="201960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1600200" y="201960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637280" y="1913040"/>
                <a:ext cx="4748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BCU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1514520" y="2276640"/>
                <a:ext cx="76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812880" y="2179800"/>
              <a:ext cx="660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BC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1495440" y="3009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1590840" y="3009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1362240" y="2999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362240" y="4610160"/>
              <a:ext cx="0" cy="67608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5840" y="4894200"/>
              <a:ext cx="87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End of las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transmiss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5" name=""/>
                <p:cNvSpPr txBox="1"/>
                <p:nvPr/>
              </p:nvSpPr>
              <p:spPr>
                <a:xfrm>
                  <a:off x="1251000" y="4600440"/>
                  <a:ext cx="296640" cy="365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16" name=""/>
            <p:cNvSpPr/>
            <p:nvPr/>
          </p:nvSpPr>
          <p:spPr>
            <a:xfrm>
              <a:off x="2124000" y="3314880"/>
              <a:ext cx="2350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62240" y="3848040"/>
              <a:ext cx="31104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4000" y="3848040"/>
              <a:ext cx="3114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133800" y="3848040"/>
              <a:ext cx="2905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3165480" y="4082760"/>
              <a:ext cx="162000" cy="228600"/>
              <a:chOff x="3165480" y="4082760"/>
              <a:chExt cx="162000" cy="228600"/>
            </a:xfrm>
          </p:grpSpPr>
          <p:sp>
            <p:nvSpPr>
              <p:cNvPr id="321" name=""/>
              <p:cNvSpPr/>
              <p:nvPr/>
            </p:nvSpPr>
            <p:spPr>
              <a:xfrm flipV="1">
                <a:off x="3165480" y="40827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3327480" y="408276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 flipV="1">
              <a:off x="3419640" y="4082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4" name=""/>
                <p:cNvSpPr txBox="1"/>
                <p:nvPr/>
              </p:nvSpPr>
              <p:spPr>
                <a:xfrm>
                  <a:off x="4530600" y="3333600"/>
                  <a:ext cx="100080" cy="19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6060960" y="5575320"/>
                <a:ext cx="14605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A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1441440" y="4898880"/>
            <a:ext cx="327672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Every node got a ‘success’ when checking for permission to transmit after the first idle slot 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Transmit urgency ranking: (C, B, A); hence,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UAT(A) &gt;UAT(B)&gt;UAT(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04960" y="1905120"/>
            <a:ext cx="3305160" cy="410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CMA Protocol Backb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ch urgency class is assigned a different arbitration time (UAT) whose length decreases with increasing urg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rbitration Time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= interval that the channel must be sensed idle by a node before </a:t>
            </a: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checking for permission to transm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conges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Higher urgency packets  dominate the channel, as lower urgency packets get less of a chance to transmit - </a:t>
            </a:r>
            <a:r>
              <a:rPr b="1" lang="en-US" sz="1000" spc="-1" strike="noStrike">
                <a:solidFill>
                  <a:srgbClr val="ff0000"/>
                </a:solidFill>
                <a:latin typeface="Comic Sans MS"/>
              </a:rPr>
              <a:t>check for permission to transm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ower urgency packets do not collide with higher urgency packe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 stations with classification i= 0,1,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B8D2-C5E5-4F86-9F81-401DF2BEB5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48276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Additional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7840" y="1619280"/>
            <a:ext cx="83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ther QoS-management featur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ssigns urgency class to access buffer packet by various QoS-driven scheduling algorithms that adapt to real-time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apts to estimates of (class-specific) local congestion levels, which are obtained by broadcasting the number and age of (class-specific) transmission attemp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justs starting backoff counter to provide proper dispersion of traffic bursts and reduce conten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rts with traffic-adjusted backoff counter distribution, which may be made more persistent upon re-transmission to reduce contention and del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collision avoidance through backoff with similar benefi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ncels transmission retrials based on delay-related criteria that discriminate between traffic typ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6586-474C-4ECB-915B-4FD439620BA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95160" y="7239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Requirements for backward Compatibility with IEEE 802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244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ith arbitration time differentiation,                          for stations with classification i= 0,1,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ackward compatibility with legacy stations requi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.                              for all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.                            ; the arbitration increment (AI)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must enable clear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annel assessm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                              ;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backoff counter update time must enable clear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annel assessm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rbitration time differentiation thus permits a single class with urgency higher than legacy packets, since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IFS=PIFS+slot.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n the short term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: Use a ‘hybrid’ approach to increase the number of high urgency classes; this emplo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CMA to generate a high-urgency class with UAT=PIFS;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ifferentiates further by varying the contention resolution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ong-term approach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: Changes in the PHY specification would accommodate shorter AI and BCUT times, thus yielding multiple UAT-differentiated classes with higher urg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4365720" y="1486080"/>
                <a:ext cx="1460520" cy="30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A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1739880" y="2343240"/>
                <a:ext cx="130500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A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PIF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1735200" y="3191040"/>
                <a:ext cx="144936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CUT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slo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tim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736640" y="2654280"/>
                <a:ext cx="126216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I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slo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tim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13C8-CD9B-488B-AC76-4EEC4D05EC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Hybrid differentiation (arbitration time and backoff distribu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2187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AT differentiation generates a top-urgency class -- UAT(0)=PIF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rther differentiation is achieved through the probability distribution, from which backoff counters are drawn.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lower mean value is used for higher priority packe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higher variance is used for higher traffic intens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raffic intensity is determined by remembering the number and age of transmission attempts of packets in different classes by a station;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y listening to the same information, contained in the transmissions of other st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*v-DCF differentiates between all classes through the use of different backoff p.d.f.s that are unifor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344A-D57A-4C20-A36F-3D2663C6A3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Hybrid differentiation (arbitration time and backoff distribu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51416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xample:  Uniform Backoff Distribution for each clas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ree classes are shown, with means                       and variances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ntiguous, non-overlapping uniform distributions are employed to obtain uniform envelop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ir boundaries are determined from class-specific traffic estim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    is the local congestion of class i, and                      is the window size needed for adequate dispersion of the composite cong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X is determined from  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 superposition of the probability density functions of the backoff counter distributions yields a uniform density function,  thus achieving uniform dispersion of the contending stations’ backoff ti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4400640" y="1711440"/>
                <a:ext cx="7808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6599160" y="1681200"/>
                <a:ext cx="12384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1327320" y="5130720"/>
            <a:ext cx="689112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robability density function of initial backoff counter for the different class populations using the same UAT ti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809720" y="5978520"/>
            <a:ext cx="4705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320920" y="5730840"/>
            <a:ext cx="1009800" cy="2476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340080" y="5730840"/>
            <a:ext cx="1476360" cy="2476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16440" y="5730840"/>
            <a:ext cx="1009800" cy="24768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167200" y="6053040"/>
            <a:ext cx="34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48200" y="6072120"/>
            <a:ext cx="57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2/U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72440" y="6062760"/>
            <a:ext cx="57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3/U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19680" y="603396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54440" y="63198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139920" y="631044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424600" y="544356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624840" y="543384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005800" y="543384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342880" y="5710320"/>
            <a:ext cx="3504960" cy="276480"/>
            <a:chOff x="2342880" y="5710320"/>
            <a:chExt cx="3504960" cy="276480"/>
          </a:xfrm>
        </p:grpSpPr>
        <p:sp>
          <p:nvSpPr>
            <p:cNvPr id="357" name=""/>
            <p:cNvSpPr/>
            <p:nvPr/>
          </p:nvSpPr>
          <p:spPr>
            <a:xfrm>
              <a:off x="2709720" y="57103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66840" y="5854680"/>
              <a:ext cx="285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2342880" y="5854680"/>
              <a:ext cx="285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00240" y="57103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257360" y="5854680"/>
              <a:ext cx="5522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3371760" y="5854680"/>
              <a:ext cx="4471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205240" y="57103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562360" y="5854680"/>
              <a:ext cx="285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4838040" y="5854680"/>
              <a:ext cx="285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177920" y="2971800"/>
                <a:ext cx="14130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4521240" y="3333600"/>
                <a:ext cx="10008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7074000" y="2736720"/>
                <a:ext cx="86184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4997520" y="3543480"/>
                <a:ext cx="93960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1657440" y="3522600"/>
                <a:ext cx="22536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1" name=""/>
          <p:cNvSpPr/>
          <p:nvPr/>
        </p:nvSpPr>
        <p:spPr>
          <a:xfrm>
            <a:off x="1803240" y="5981760"/>
            <a:ext cx="485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2171880" y="548640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72A7-BDFB-43B6-B949-47AB998CF92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Hybrid differentiation (arbitration time and persistence probabil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5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AT differentiation generates a master urgency class -- UAT(0)=PIF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rther differentiation is achieved through the persistence probability, which is used to determine whether to transmit following an idle slot t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higher persistence probability is used for higher priority packets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variance of the distribution will depend on the traffic intens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raffic intensity is determined by remembering the number and age of transmission attempts of packets in different classes by a station;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y listening to a broadcast of the same in transmissions from other st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*p-DCF differentiates between all classes through the use of different persistence probabilities that are higher for higher priority packe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thilde Benveniste, AT&amp;T Labs -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F35C-10BB-48E3-94B7-7732120656A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cember 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2T15:24:53Z</dcterms:created>
  <dc:creator>Mathilde Benveniste</dc:creator>
  <dc:description/>
  <dc:language>en-US</dc:language>
  <cp:lastModifiedBy>Mathilde Benveniste</cp:lastModifiedBy>
  <cp:lastPrinted>2000-12-12T22:28:27Z</cp:lastPrinted>
  <dcterms:modified xsi:type="dcterms:W3CDTF">2000-12-20T22:21:18Z</dcterms:modified>
  <cp:revision>105</cp:revision>
  <dc:subject/>
  <dc:title>No Slide Title</dc:title>
</cp:coreProperties>
</file>