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31840" y="688680"/>
            <a:ext cx="459576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81BA57E5-A386-41BF-91D0-C19BF5198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45DA-18B3-4530-835D-01DD8783B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488E-1417-44DA-A2FF-45D0B5E9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A827-CE54-4333-A692-AB6195F18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5687-B58F-4262-B69C-EE6720221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9F46-291B-49DA-A54E-4D244A66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8B33-7833-4F85-AAAA-DAE35F3E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437A-7ECB-4352-A544-A724688F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ADCD-45DF-4ACC-BC66-B298C07B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6C6C-645C-4D8A-800E-D98B51D4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E27F-E611-4AD7-90EA-50ABFC7B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74B0-1F5C-469D-BD0A-FC1E115D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A25B-219E-41D8-8CE4-E7674236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CD4D957-72AF-4191-9CDE-03D2B7817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45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Enhanced-DCF Proposal Based on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‘Tiered Contention’ Multiple Access (TC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thilde Benveni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&amp;T Labs,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D8B9-42CE-415B-99BB-0D0C562F82F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Key Benef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36840"/>
            <a:ext cx="7772400" cy="455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s E-DCF proposal enables QoS management while achieving the follow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s responsive to QoS performance with simple MAC protocol --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ftware mapping of 8 traffic classes into a fewer urgency classes 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adapts in real tim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duces contenti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ithout starving low priority classes --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nimizes collision probability between certain traffic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lasses, allowing high urgency packets to go firs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CF remains a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truly distributed protocol -- 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l nodes (APs and stations) are treated alike; the same DCF MAC protocol is used by both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CC83-B0CC-40E0-9379-AE2C502851D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Traffic classifi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85720"/>
            <a:ext cx="7772400" cy="460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re are nPC=8 priority classes defined for all traffic packets which are permanently assigned to a packet once generated,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according to 802.1d Annex H.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re are nUC=N urgency classes employed for channel contention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urgency class of a packet is updated in real time so that 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reflects both the priority class of the packet and the speed with which packets of different traffic classes and ages (the time since arrival at the queue) must be transmit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relies on the performance observed in real tim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*The value of N will be determined following further sensitivity analysis and optim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106640" y="3505320"/>
            <a:ext cx="6693120" cy="1966320"/>
            <a:chOff x="1106640" y="3505320"/>
            <a:chExt cx="6693120" cy="1966320"/>
          </a:xfrm>
        </p:grpSpPr>
        <p:sp>
          <p:nvSpPr>
            <p:cNvPr id="59" name=""/>
            <p:cNvSpPr/>
            <p:nvPr/>
          </p:nvSpPr>
          <p:spPr>
            <a:xfrm>
              <a:off x="1106640" y="466236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95600" y="4541760"/>
              <a:ext cx="97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95600" y="4770360"/>
              <a:ext cx="97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95600" y="4998960"/>
              <a:ext cx="97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695600" y="5227560"/>
              <a:ext cx="97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404000" y="4387680"/>
              <a:ext cx="386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PC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06520" y="5149800"/>
              <a:ext cx="390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PC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95600" y="5126040"/>
              <a:ext cx="97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695600" y="4643280"/>
              <a:ext cx="97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95600" y="4889520"/>
              <a:ext cx="974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2670120" y="4389480"/>
              <a:ext cx="2381400" cy="1066320"/>
              <a:chOff x="2670120" y="4389480"/>
              <a:chExt cx="2381400" cy="1066320"/>
            </a:xfrm>
          </p:grpSpPr>
          <p:sp>
            <p:nvSpPr>
              <p:cNvPr id="70" name=""/>
              <p:cNvSpPr/>
              <p:nvPr/>
            </p:nvSpPr>
            <p:spPr>
              <a:xfrm>
                <a:off x="2670120" y="4389480"/>
                <a:ext cx="1258560" cy="106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936240" y="4496760"/>
                <a:ext cx="1115280" cy="261720"/>
              </a:xfrm>
              <a:custGeom>
                <a:avLst/>
                <a:gdLst/>
                <a:ahLst/>
                <a:rect l="l" t="t" r="r" b="b"/>
                <a:pathLst>
                  <a:path w="1045" h="165">
                    <a:moveTo>
                      <a:pt x="784" y="0"/>
                    </a:moveTo>
                    <a:lnTo>
                      <a:pt x="784" y="40"/>
                    </a:lnTo>
                    <a:lnTo>
                      <a:pt x="0" y="40"/>
                    </a:lnTo>
                    <a:lnTo>
                      <a:pt x="0" y="124"/>
                    </a:lnTo>
                    <a:lnTo>
                      <a:pt x="784" y="124"/>
                    </a:lnTo>
                    <a:lnTo>
                      <a:pt x="784" y="165"/>
                    </a:lnTo>
                    <a:lnTo>
                      <a:pt x="1045" y="82"/>
                    </a:lnTo>
                    <a:lnTo>
                      <a:pt x="784" y="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34440" y="4789080"/>
                <a:ext cx="1115280" cy="261360"/>
              </a:xfrm>
              <a:custGeom>
                <a:avLst/>
                <a:gdLst/>
                <a:ahLst/>
                <a:rect l="l" t="t" r="r" b="b"/>
                <a:pathLst>
                  <a:path w="1045" h="165">
                    <a:moveTo>
                      <a:pt x="784" y="0"/>
                    </a:moveTo>
                    <a:lnTo>
                      <a:pt x="784" y="40"/>
                    </a:lnTo>
                    <a:lnTo>
                      <a:pt x="0" y="40"/>
                    </a:lnTo>
                    <a:lnTo>
                      <a:pt x="0" y="124"/>
                    </a:lnTo>
                    <a:lnTo>
                      <a:pt x="784" y="124"/>
                    </a:lnTo>
                    <a:lnTo>
                      <a:pt x="784" y="165"/>
                    </a:lnTo>
                    <a:lnTo>
                      <a:pt x="1045" y="82"/>
                    </a:lnTo>
                    <a:lnTo>
                      <a:pt x="784" y="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36240" y="5082840"/>
                <a:ext cx="1115280" cy="261360"/>
              </a:xfrm>
              <a:custGeom>
                <a:avLst/>
                <a:gdLst/>
                <a:ahLst/>
                <a:rect l="l" t="t" r="r" b="b"/>
                <a:pathLst>
                  <a:path w="1045" h="165">
                    <a:moveTo>
                      <a:pt x="784" y="0"/>
                    </a:moveTo>
                    <a:lnTo>
                      <a:pt x="784" y="40"/>
                    </a:lnTo>
                    <a:lnTo>
                      <a:pt x="0" y="40"/>
                    </a:lnTo>
                    <a:lnTo>
                      <a:pt x="0" y="124"/>
                    </a:lnTo>
                    <a:lnTo>
                      <a:pt x="784" y="124"/>
                    </a:lnTo>
                    <a:lnTo>
                      <a:pt x="784" y="165"/>
                    </a:lnTo>
                    <a:lnTo>
                      <a:pt x="1045" y="82"/>
                    </a:lnTo>
                    <a:lnTo>
                      <a:pt x="784" y="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2660760" y="4537080"/>
              <a:ext cx="1272960" cy="7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671920" y="4537080"/>
              <a:ext cx="1261800" cy="37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660760" y="5233680"/>
              <a:ext cx="127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660760" y="4659120"/>
              <a:ext cx="1272960" cy="28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660760" y="4781520"/>
              <a:ext cx="127296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60760" y="5135400"/>
              <a:ext cx="1262160" cy="8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2671920" y="4647600"/>
              <a:ext cx="1251000" cy="2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71920" y="4890960"/>
              <a:ext cx="1251000" cy="6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2684520" y="4976280"/>
              <a:ext cx="1238400" cy="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684520" y="5013360"/>
              <a:ext cx="1260360" cy="20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5060880" y="4405320"/>
              <a:ext cx="2382480" cy="1066320"/>
              <a:chOff x="5060880" y="4405320"/>
              <a:chExt cx="2382480" cy="1066320"/>
            </a:xfrm>
          </p:grpSpPr>
          <p:sp>
            <p:nvSpPr>
              <p:cNvPr id="85" name=""/>
              <p:cNvSpPr/>
              <p:nvPr/>
            </p:nvSpPr>
            <p:spPr>
              <a:xfrm>
                <a:off x="5060880" y="4405320"/>
                <a:ext cx="1259280" cy="106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327720" y="4512600"/>
                <a:ext cx="1115640" cy="261720"/>
              </a:xfrm>
              <a:custGeom>
                <a:avLst/>
                <a:gdLst/>
                <a:ahLst/>
                <a:rect l="l" t="t" r="r" b="b"/>
                <a:pathLst>
                  <a:path w="1045" h="165">
                    <a:moveTo>
                      <a:pt x="784" y="0"/>
                    </a:moveTo>
                    <a:lnTo>
                      <a:pt x="784" y="40"/>
                    </a:lnTo>
                    <a:lnTo>
                      <a:pt x="0" y="40"/>
                    </a:lnTo>
                    <a:lnTo>
                      <a:pt x="0" y="124"/>
                    </a:lnTo>
                    <a:lnTo>
                      <a:pt x="784" y="124"/>
                    </a:lnTo>
                    <a:lnTo>
                      <a:pt x="784" y="165"/>
                    </a:lnTo>
                    <a:lnTo>
                      <a:pt x="1045" y="82"/>
                    </a:lnTo>
                    <a:lnTo>
                      <a:pt x="784" y="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325920" y="4804920"/>
                <a:ext cx="1115640" cy="261360"/>
              </a:xfrm>
              <a:custGeom>
                <a:avLst/>
                <a:gdLst/>
                <a:ahLst/>
                <a:rect l="l" t="t" r="r" b="b"/>
                <a:pathLst>
                  <a:path w="1045" h="165">
                    <a:moveTo>
                      <a:pt x="784" y="0"/>
                    </a:moveTo>
                    <a:lnTo>
                      <a:pt x="784" y="40"/>
                    </a:lnTo>
                    <a:lnTo>
                      <a:pt x="0" y="40"/>
                    </a:lnTo>
                    <a:lnTo>
                      <a:pt x="0" y="124"/>
                    </a:lnTo>
                    <a:lnTo>
                      <a:pt x="784" y="124"/>
                    </a:lnTo>
                    <a:lnTo>
                      <a:pt x="784" y="165"/>
                    </a:lnTo>
                    <a:lnTo>
                      <a:pt x="1045" y="82"/>
                    </a:lnTo>
                    <a:lnTo>
                      <a:pt x="784" y="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327720" y="5098680"/>
                <a:ext cx="1115640" cy="261360"/>
              </a:xfrm>
              <a:custGeom>
                <a:avLst/>
                <a:gdLst/>
                <a:ahLst/>
                <a:rect l="l" t="t" r="r" b="b"/>
                <a:pathLst>
                  <a:path w="1045" h="165">
                    <a:moveTo>
                      <a:pt x="784" y="0"/>
                    </a:moveTo>
                    <a:lnTo>
                      <a:pt x="784" y="40"/>
                    </a:lnTo>
                    <a:lnTo>
                      <a:pt x="0" y="40"/>
                    </a:lnTo>
                    <a:lnTo>
                      <a:pt x="0" y="124"/>
                    </a:lnTo>
                    <a:lnTo>
                      <a:pt x="784" y="124"/>
                    </a:lnTo>
                    <a:lnTo>
                      <a:pt x="784" y="165"/>
                    </a:lnTo>
                    <a:lnTo>
                      <a:pt x="1045" y="82"/>
                    </a:lnTo>
                    <a:lnTo>
                      <a:pt x="784" y="0"/>
                    </a:lnTo>
                    <a:close/>
                  </a:path>
                </a:pathLst>
              </a:custGeom>
              <a:solidFill>
                <a:srgbClr val="ccff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1490760" y="3652560"/>
              <a:ext cx="858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ior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Class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65480" y="392904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3984840" y="3898800"/>
              <a:ext cx="168120" cy="1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100040" y="3703680"/>
              <a:ext cx="677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Urgenc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Class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4950000" y="3505320"/>
              <a:ext cx="1438200" cy="855360"/>
              <a:chOff x="4950000" y="3505320"/>
              <a:chExt cx="1438200" cy="855360"/>
            </a:xfrm>
          </p:grpSpPr>
          <p:sp>
            <p:nvSpPr>
              <p:cNvPr id="94" name=""/>
              <p:cNvSpPr/>
              <p:nvPr/>
            </p:nvSpPr>
            <p:spPr>
              <a:xfrm>
                <a:off x="5058000" y="3589200"/>
                <a:ext cx="1266840" cy="70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Traffi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Classification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(t2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950000" y="3505320"/>
                <a:ext cx="1438200" cy="855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 flipV="1">
              <a:off x="6399360" y="3903480"/>
              <a:ext cx="169920" cy="1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577920" y="3708360"/>
              <a:ext cx="677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Urgenc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Class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4795920" y="3909960"/>
              <a:ext cx="169920" cy="1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58000" y="4624200"/>
              <a:ext cx="126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058000" y="4636800"/>
              <a:ext cx="1261800" cy="28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067360" y="4917960"/>
              <a:ext cx="125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5058000" y="4941720"/>
              <a:ext cx="1261800" cy="2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058000" y="5209920"/>
              <a:ext cx="127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7350480" y="4506840"/>
              <a:ext cx="449280" cy="902160"/>
              <a:chOff x="7350480" y="4506840"/>
              <a:chExt cx="449280" cy="902160"/>
            </a:xfrm>
          </p:grpSpPr>
          <p:sp>
            <p:nvSpPr>
              <p:cNvPr id="105" name=""/>
              <p:cNvSpPr/>
              <p:nvPr/>
            </p:nvSpPr>
            <p:spPr>
              <a:xfrm>
                <a:off x="7350480" y="4506840"/>
                <a:ext cx="4017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UC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356960" y="5177880"/>
                <a:ext cx="442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UC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350120" y="36622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08480" y="3511440"/>
              <a:ext cx="1438200" cy="855360"/>
              <a:chOff x="2508480" y="3511440"/>
              <a:chExt cx="1438200" cy="855360"/>
            </a:xfrm>
          </p:grpSpPr>
          <p:sp>
            <p:nvSpPr>
              <p:cNvPr id="109" name=""/>
              <p:cNvSpPr/>
              <p:nvPr/>
            </p:nvSpPr>
            <p:spPr>
              <a:xfrm>
                <a:off x="2616480" y="3595320"/>
                <a:ext cx="1266840" cy="70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Traffi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Classification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(t1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08480" y="3511440"/>
                <a:ext cx="1438200" cy="855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9DB0-EDCC-4002-A9E4-A0401507D5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lass different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4000"/>
          </a:bodyPr>
          <a:p>
            <a:pPr marL="219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ifferentiation between urgency classes is achieved through differentiation w.r.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rgency arbitration times (U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horter arbitration times are used for greater-urgency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arameters of the probability distribution for the  backoff counters (for the same UAT valu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mean and variance will reflect the traffic intensity in the differen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ackoff retry adjustment funct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overn the adjustment of the backoff distribution parameters on successive retries following transmission fail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llision avoidance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overn the degree to which new arrivals defer to contending 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acket age lim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ad to cancellation of transmission if the age exceeds the threshold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*S is an integer multiple of the slot time; its value will be determined following further sensitivity analysis and optim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12880" y="4610160"/>
          <a:ext cx="7569000" cy="167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880" y="4610160"/>
                    <a:ext cx="756900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9254-4269-4636-BB4B-3BEB62DDAA8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7284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Urgency Arbitration Times (UA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minimum UAT value is PI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tention with the PCF is thus avo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different UAT values associated with different urgency classes differ by a time slo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 carrier-sense mechanism thus has time to determine if the medium is bu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 probability that packets from classes with different UAT values will collide is minimiz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congestion, when several nodes have packets of higher classifications with nearly expired backoff counters (that is, equal to 1) the possibility of collision is elimin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congestion, higher urgency packets will be transmitted before lower urgency 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ABC8-F1DA-455F-A802-941B1BE010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Backoff Counter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49080"/>
            <a:ext cx="7772400" cy="45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random backoff counter will be drawn initially from a uniform distribution with range [rLower,rUpper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ranges of the backoff distributions are determined from estimates of traffic inten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higher variance is used for higher traffic int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gher intensity in classes of greater urgency increase the mean of the distribu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 lower bound of the backoff range, rLower, will be greater than or equal to 1, for all classes with UAT=PIF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tention with the PCF is thus avo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ly legacy packets with initial backoff=0  will transmit before classes 1,2, and 3 in congestion [This occurs for 1/(aCWmin+1)=3% of the legacy packets; the remaining 97% will defer to the higher urgency classe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ollowing transmission failure, adjustment of the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backoff range (aLower,aUpper) will depend 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 packet’s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rgency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 clas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 traffic intensity estimates,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 packet 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new backoff range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ay lead to greater persistence (lower backoff counters) for aging packe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D4D0-9FC0-49D1-8212-5F231448EE5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Adaptation to Traffic Conge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36840"/>
            <a:ext cx="7772400" cy="455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acket headers and messages will be exchanged during reservation inclu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 urgency class of the 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 number of the retrial attempts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 packet ag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Class-specific traffic intensity estimates will be derived from information “remembered”  by a node concerning its own packets and from information received about packets of neighbouring node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raffic adaptation occurs when the parameters of the backoff distribution are determined initially and upon retrial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Distributed Coordination Function thus remains </a:t>
            </a:r>
            <a:r>
              <a:rPr b="0" i="1" lang="en-GB" sz="1400" spc="-1" strike="noStrike">
                <a:solidFill>
                  <a:srgbClr val="000000"/>
                </a:solidFill>
                <a:latin typeface="Comic Sans MS"/>
              </a:rPr>
              <a:t>distributed,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s estimation of traffic intensity and adaptation of the backoff distribution is performed in a decentralized mann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*Formulas for the adaptation will be provided following further sensitivity analysis and optimization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37AB-2DCE-4E42-9700-398D53CDF7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Scheduling of multiple streams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6168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6000"/>
          </a:bodyPr>
          <a:p>
            <a:pPr marL="157680" indent="-157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arallel queues shall be maintained for each class at a node, each adhering to backoff principles consistent with that 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640" indent="-1314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Packets will change queues when their urgency classifications are adju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1640" indent="-1314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A packet will leave its queue if its transmission is cancelled due to excessive latency; the age threshold, aAgeLimit, will be class depe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57680" indent="-1576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cc"/>
                </a:solidFill>
                <a:latin typeface="Comic Sans MS"/>
              </a:rPr>
              <a:t>When a packet’s backoff counter becomes 1 it shall be placed in the node’s access buffer; in case of a tie, the higher urgency packet is select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57680" indent="-157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ackets generated by stations with multiple traffic types will thus not be disadvantag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7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7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7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7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7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7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7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7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7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7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7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* This is similar to the approach in the V-DCF proposal with a mod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57560" y="4197240"/>
            <a:ext cx="835200" cy="446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98680" y="4303800"/>
            <a:ext cx="1658880" cy="261720"/>
          </a:xfrm>
          <a:custGeom>
            <a:avLst/>
            <a:gdLst/>
            <a:ahLst/>
            <a:rect l="l" t="t" r="r" b="b"/>
            <a:pathLst>
              <a:path w="1045" h="165">
                <a:moveTo>
                  <a:pt x="784" y="0"/>
                </a:moveTo>
                <a:lnTo>
                  <a:pt x="784" y="40"/>
                </a:lnTo>
                <a:lnTo>
                  <a:pt x="0" y="40"/>
                </a:lnTo>
                <a:lnTo>
                  <a:pt x="0" y="124"/>
                </a:lnTo>
                <a:lnTo>
                  <a:pt x="784" y="124"/>
                </a:lnTo>
                <a:lnTo>
                  <a:pt x="784" y="165"/>
                </a:lnTo>
                <a:lnTo>
                  <a:pt x="1045" y="82"/>
                </a:lnTo>
                <a:lnTo>
                  <a:pt x="784" y="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98680" y="4905360"/>
            <a:ext cx="1658880" cy="263520"/>
          </a:xfrm>
          <a:custGeom>
            <a:avLst/>
            <a:gdLst/>
            <a:ahLst/>
            <a:rect l="l" t="t" r="r" b="b"/>
            <a:pathLst>
              <a:path w="1045" h="166">
                <a:moveTo>
                  <a:pt x="784" y="0"/>
                </a:moveTo>
                <a:lnTo>
                  <a:pt x="784" y="41"/>
                </a:lnTo>
                <a:lnTo>
                  <a:pt x="0" y="41"/>
                </a:lnTo>
                <a:lnTo>
                  <a:pt x="0" y="123"/>
                </a:lnTo>
                <a:lnTo>
                  <a:pt x="784" y="123"/>
                </a:lnTo>
                <a:lnTo>
                  <a:pt x="784" y="166"/>
                </a:lnTo>
                <a:lnTo>
                  <a:pt x="1045" y="83"/>
                </a:lnTo>
                <a:lnTo>
                  <a:pt x="784" y="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57560" y="4809960"/>
            <a:ext cx="835200" cy="4431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22360" y="4113360"/>
            <a:ext cx="114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13800" y="4179960"/>
            <a:ext cx="1155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cket Stream to Node 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22360" y="4737240"/>
            <a:ext cx="11401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04440" y="4795920"/>
            <a:ext cx="1155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cket Stream to Node 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81600" y="4030560"/>
            <a:ext cx="10569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54000" y="3930480"/>
            <a:ext cx="634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cess Buff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81600" y="4637160"/>
            <a:ext cx="105696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25600" y="5373720"/>
            <a:ext cx="11318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17040" y="5421240"/>
            <a:ext cx="1160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cket Stream to Node 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98680" y="5526000"/>
            <a:ext cx="1658880" cy="265320"/>
          </a:xfrm>
          <a:custGeom>
            <a:avLst/>
            <a:gdLst/>
            <a:ahLst/>
            <a:rect l="l" t="t" r="r" b="b"/>
            <a:pathLst>
              <a:path w="1045" h="167">
                <a:moveTo>
                  <a:pt x="784" y="0"/>
                </a:moveTo>
                <a:lnTo>
                  <a:pt x="784" y="42"/>
                </a:lnTo>
                <a:lnTo>
                  <a:pt x="0" y="42"/>
                </a:lnTo>
                <a:lnTo>
                  <a:pt x="0" y="125"/>
                </a:lnTo>
                <a:lnTo>
                  <a:pt x="784" y="125"/>
                </a:lnTo>
                <a:lnTo>
                  <a:pt x="784" y="167"/>
                </a:lnTo>
                <a:lnTo>
                  <a:pt x="1045" y="85"/>
                </a:lnTo>
                <a:lnTo>
                  <a:pt x="784" y="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57560" y="5421240"/>
            <a:ext cx="835200" cy="44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81600" y="5248440"/>
            <a:ext cx="105696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11880" y="4853160"/>
            <a:ext cx="612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19800" y="4505400"/>
            <a:ext cx="7160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89520" y="4419720"/>
            <a:ext cx="785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89520" y="5657760"/>
            <a:ext cx="784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634000" y="5452920"/>
            <a:ext cx="74520" cy="207360"/>
            <a:chOff x="5634000" y="5452920"/>
            <a:chExt cx="74520" cy="207360"/>
          </a:xfrm>
        </p:grpSpPr>
        <p:sp>
          <p:nvSpPr>
            <p:cNvPr id="144" name=""/>
            <p:cNvSpPr/>
            <p:nvPr/>
          </p:nvSpPr>
          <p:spPr>
            <a:xfrm flipV="1">
              <a:off x="5670720" y="5520960"/>
              <a:ext cx="72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34000" y="5452920"/>
              <a:ext cx="74520" cy="7308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63" y="61"/>
                  </a:moveTo>
                  <a:lnTo>
                    <a:pt x="31" y="0"/>
                  </a:lnTo>
                  <a:lnTo>
                    <a:pt x="0" y="61"/>
                  </a:lnTo>
                  <a:lnTo>
                    <a:pt x="63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889520" y="4981680"/>
            <a:ext cx="377280" cy="100080"/>
            <a:chOff x="4889520" y="4981680"/>
            <a:chExt cx="377280" cy="100080"/>
          </a:xfrm>
        </p:grpSpPr>
        <p:sp>
          <p:nvSpPr>
            <p:cNvPr id="147" name=""/>
            <p:cNvSpPr/>
            <p:nvPr/>
          </p:nvSpPr>
          <p:spPr>
            <a:xfrm>
              <a:off x="4889520" y="5029560"/>
              <a:ext cx="286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0320" y="4981680"/>
              <a:ext cx="96480" cy="10008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0" y="63"/>
                  </a:moveTo>
                  <a:lnTo>
                    <a:pt x="61" y="30"/>
                  </a:lnTo>
                  <a:lnTo>
                    <a:pt x="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021360" y="4886280"/>
            <a:ext cx="1206360" cy="262080"/>
          </a:xfrm>
          <a:custGeom>
            <a:avLst/>
            <a:gdLst/>
            <a:ahLst/>
            <a:rect l="l" t="t" r="r" b="b"/>
            <a:pathLst>
              <a:path w="760" h="165">
                <a:moveTo>
                  <a:pt x="570" y="0"/>
                </a:moveTo>
                <a:lnTo>
                  <a:pt x="570" y="40"/>
                </a:lnTo>
                <a:lnTo>
                  <a:pt x="0" y="40"/>
                </a:lnTo>
                <a:lnTo>
                  <a:pt x="0" y="123"/>
                </a:lnTo>
                <a:lnTo>
                  <a:pt x="570" y="123"/>
                </a:lnTo>
                <a:lnTo>
                  <a:pt x="570" y="165"/>
                </a:lnTo>
                <a:lnTo>
                  <a:pt x="760" y="82"/>
                </a:lnTo>
                <a:lnTo>
                  <a:pt x="570" y="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53120" y="4734000"/>
            <a:ext cx="790560" cy="609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77680" y="4886280"/>
            <a:ext cx="522000" cy="243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en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a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10000" y="448308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MISS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19680" y="4203720"/>
            <a:ext cx="74520" cy="447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19680" y="4809960"/>
            <a:ext cx="74520" cy="44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29040" y="5419800"/>
            <a:ext cx="74880" cy="447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633640" y="4421880"/>
            <a:ext cx="74520" cy="207360"/>
            <a:chOff x="5633640" y="4421880"/>
            <a:chExt cx="74520" cy="207360"/>
          </a:xfrm>
        </p:grpSpPr>
        <p:sp>
          <p:nvSpPr>
            <p:cNvPr id="157" name=""/>
            <p:cNvSpPr/>
            <p:nvPr/>
          </p:nvSpPr>
          <p:spPr>
            <a:xfrm flipH="1">
              <a:off x="5670720" y="4421880"/>
              <a:ext cx="72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0800000">
              <a:off x="5633640" y="4556160"/>
              <a:ext cx="74520" cy="7308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63" y="61"/>
                  </a:moveTo>
                  <a:lnTo>
                    <a:pt x="31" y="0"/>
                  </a:lnTo>
                  <a:lnTo>
                    <a:pt x="0" y="61"/>
                  </a:lnTo>
                  <a:lnTo>
                    <a:pt x="63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9" name=""/>
          <p:cNvCxnSpPr>
            <a:stCxn id="132" idx="2"/>
            <a:endCxn id="153" idx="0"/>
          </p:cNvCxnSpPr>
          <p:nvPr/>
        </p:nvCxnSpPr>
        <p:spPr>
          <a:xfrm flipH="1">
            <a:off x="4857120" y="4052520"/>
            <a:ext cx="14760" cy="15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60" name=""/>
          <p:cNvGrpSpPr/>
          <p:nvPr/>
        </p:nvGrpSpPr>
        <p:grpSpPr>
          <a:xfrm>
            <a:off x="4071600" y="4292640"/>
            <a:ext cx="747720" cy="271080"/>
            <a:chOff x="4071600" y="4292640"/>
            <a:chExt cx="747720" cy="271080"/>
          </a:xfrm>
        </p:grpSpPr>
        <p:sp>
          <p:nvSpPr>
            <p:cNvPr id="161" name=""/>
            <p:cNvSpPr/>
            <p:nvPr/>
          </p:nvSpPr>
          <p:spPr>
            <a:xfrm flipH="1" flipV="1">
              <a:off x="4071600" y="4292640"/>
              <a:ext cx="747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4071600" y="4473360"/>
              <a:ext cx="747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4071600" y="4563000"/>
              <a:ext cx="747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4071600" y="4383720"/>
              <a:ext cx="747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4059000" y="4902120"/>
            <a:ext cx="747720" cy="271080"/>
            <a:chOff x="4059000" y="4902120"/>
            <a:chExt cx="747720" cy="271080"/>
          </a:xfrm>
        </p:grpSpPr>
        <p:sp>
          <p:nvSpPr>
            <p:cNvPr id="166" name=""/>
            <p:cNvSpPr/>
            <p:nvPr/>
          </p:nvSpPr>
          <p:spPr>
            <a:xfrm flipH="1" flipV="1">
              <a:off x="4059000" y="4902120"/>
              <a:ext cx="747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4059000" y="5082840"/>
              <a:ext cx="747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4059000" y="5172480"/>
              <a:ext cx="747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059000" y="4993200"/>
              <a:ext cx="747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059000" y="5511960"/>
            <a:ext cx="747720" cy="271080"/>
            <a:chOff x="4059000" y="5511960"/>
            <a:chExt cx="747720" cy="271080"/>
          </a:xfrm>
        </p:grpSpPr>
        <p:sp>
          <p:nvSpPr>
            <p:cNvPr id="171" name=""/>
            <p:cNvSpPr/>
            <p:nvPr/>
          </p:nvSpPr>
          <p:spPr>
            <a:xfrm flipH="1" flipV="1">
              <a:off x="4059000" y="5511960"/>
              <a:ext cx="747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4059000" y="5692680"/>
              <a:ext cx="747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4059000" y="5782320"/>
              <a:ext cx="747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4059000" y="5603040"/>
              <a:ext cx="747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61E2-7252-40CD-9ADF-025717FFA75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Fast adaptation to traffic with low latency ji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If continuous adaptation to traffic is desired, the backoff counter is scaled up or d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age of packets is thus respec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Leading to low latency jitter, which is desirable for real-time and isochronous traff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660240" y="3208320"/>
            <a:ext cx="7530840" cy="3289320"/>
            <a:chOff x="660240" y="3208320"/>
            <a:chExt cx="7530840" cy="3289320"/>
          </a:xfrm>
        </p:grpSpPr>
        <p:grpSp>
          <p:nvGrpSpPr>
            <p:cNvPr id="178" name=""/>
            <p:cNvGrpSpPr/>
            <p:nvPr/>
          </p:nvGrpSpPr>
          <p:grpSpPr>
            <a:xfrm>
              <a:off x="660240" y="3208320"/>
              <a:ext cx="7530840" cy="3289320"/>
              <a:chOff x="660240" y="3208320"/>
              <a:chExt cx="7530840" cy="328932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3375000" y="3233160"/>
                <a:ext cx="4816080" cy="3264480"/>
                <a:chOff x="3375000" y="3233160"/>
                <a:chExt cx="4816080" cy="3264480"/>
              </a:xfrm>
            </p:grpSpPr>
            <p:graphicFrame>
              <p:nvGraphicFramePr>
                <p:cNvPr id="180" name=""/>
                <p:cNvGraphicFramePr/>
                <p:nvPr/>
              </p:nvGraphicFramePr>
              <p:xfrm>
                <a:off x="3375000" y="3233160"/>
                <a:ext cx="4816080" cy="3264480"/>
              </p:xfrm>
              <a:graphic>
                <a:graphicData uri="http://schemas.openxmlformats.org/presentationml/2006/ole">
                  <p:oleObj progId="Word.Document.12" r:id="rId1" spid="">
                    <p:embed/>
                    <p:pic>
                      <p:nvPicPr>
                        <p:cNvPr id="18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3375000" y="3233160"/>
                          <a:ext cx="4816080" cy="32644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pSp>
              <p:nvGrpSpPr>
                <p:cNvPr id="182" name=""/>
                <p:cNvGrpSpPr/>
                <p:nvPr/>
              </p:nvGrpSpPr>
              <p:grpSpPr>
                <a:xfrm>
                  <a:off x="5585040" y="3881520"/>
                  <a:ext cx="690840" cy="1621440"/>
                  <a:chOff x="5585040" y="3881520"/>
                  <a:chExt cx="690840" cy="1621440"/>
                </a:xfrm>
              </p:grpSpPr>
              <p:grpSp>
                <p:nvGrpSpPr>
                  <p:cNvPr id="183" name=""/>
                  <p:cNvGrpSpPr/>
                  <p:nvPr/>
                </p:nvGrpSpPr>
                <p:grpSpPr>
                  <a:xfrm>
                    <a:off x="5585040" y="3881520"/>
                    <a:ext cx="690840" cy="277920"/>
                    <a:chOff x="5585040" y="3881520"/>
                    <a:chExt cx="690840" cy="277920"/>
                  </a:xfrm>
                </p:grpSpPr>
                <p:sp>
                  <p:nvSpPr>
                    <p:cNvPr id="184" name=""/>
                    <p:cNvSpPr/>
                    <p:nvPr/>
                  </p:nvSpPr>
                  <p:spPr>
                    <a:xfrm flipH="1" flipV="1">
                      <a:off x="5585040" y="3881520"/>
                      <a:ext cx="690840" cy="138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 flipH="1">
                      <a:off x="5585040" y="4020480"/>
                      <a:ext cx="690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 flipH="1">
                      <a:off x="5585040" y="4020480"/>
                      <a:ext cx="690840" cy="138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7" name=""/>
                  <p:cNvGrpSpPr/>
                  <p:nvPr/>
                </p:nvGrpSpPr>
                <p:grpSpPr>
                  <a:xfrm>
                    <a:off x="5585040" y="4529880"/>
                    <a:ext cx="690840" cy="277920"/>
                    <a:chOff x="5585040" y="4529880"/>
                    <a:chExt cx="690840" cy="277920"/>
                  </a:xfrm>
                </p:grpSpPr>
                <p:sp>
                  <p:nvSpPr>
                    <p:cNvPr id="188" name=""/>
                    <p:cNvSpPr/>
                    <p:nvPr/>
                  </p:nvSpPr>
                  <p:spPr>
                    <a:xfrm flipH="1" flipV="1">
                      <a:off x="5585040" y="4529880"/>
                      <a:ext cx="690840" cy="138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 flipH="1">
                      <a:off x="5585040" y="4668840"/>
                      <a:ext cx="690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 flipH="1">
                      <a:off x="5585040" y="4668840"/>
                      <a:ext cx="690840" cy="138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1" name=""/>
                  <p:cNvGrpSpPr/>
                  <p:nvPr/>
                </p:nvGrpSpPr>
                <p:grpSpPr>
                  <a:xfrm>
                    <a:off x="5585040" y="5225040"/>
                    <a:ext cx="690840" cy="277920"/>
                    <a:chOff x="5585040" y="5225040"/>
                    <a:chExt cx="690840" cy="277920"/>
                  </a:xfrm>
                </p:grpSpPr>
                <p:sp>
                  <p:nvSpPr>
                    <p:cNvPr id="192" name=""/>
                    <p:cNvSpPr/>
                    <p:nvPr/>
                  </p:nvSpPr>
                  <p:spPr>
                    <a:xfrm flipH="1" flipV="1">
                      <a:off x="5585040" y="5225040"/>
                      <a:ext cx="690840" cy="138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" name=""/>
                    <p:cNvSpPr/>
                    <p:nvPr/>
                  </p:nvSpPr>
                  <p:spPr>
                    <a:xfrm flipH="1">
                      <a:off x="5585040" y="5364000"/>
                      <a:ext cx="690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flipH="1">
                      <a:off x="5585040" y="5364000"/>
                      <a:ext cx="690840" cy="138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aphicFrame>
            <p:nvGraphicFramePr>
              <p:cNvPr id="195" name=""/>
              <p:cNvGraphicFramePr/>
              <p:nvPr/>
            </p:nvGraphicFramePr>
            <p:xfrm>
              <a:off x="660240" y="3208320"/>
              <a:ext cx="5181840" cy="2395440"/>
            </p:xfrm>
            <a:graphic>
              <a:graphicData uri="http://schemas.openxmlformats.org/presentationml/2006/ole">
                <p:oleObj progId="Word.Document.12" r:id="rId3" spid="">
                  <p:embed/>
                  <p:pic>
                    <p:nvPicPr>
                      <p:cNvPr id="19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60240" y="3208320"/>
                        <a:ext cx="5181840" cy="2395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97" name=""/>
            <p:cNvGrpSpPr/>
            <p:nvPr/>
          </p:nvGrpSpPr>
          <p:grpSpPr>
            <a:xfrm>
              <a:off x="2940120" y="3856320"/>
              <a:ext cx="690840" cy="1204200"/>
              <a:chOff x="2940120" y="3856320"/>
              <a:chExt cx="690840" cy="120420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2940120" y="3856320"/>
                <a:ext cx="690840" cy="138960"/>
                <a:chOff x="2940120" y="3856320"/>
                <a:chExt cx="690840" cy="138960"/>
              </a:xfrm>
            </p:grpSpPr>
            <p:sp>
              <p:nvSpPr>
                <p:cNvPr id="199" name=""/>
                <p:cNvSpPr/>
                <p:nvPr/>
              </p:nvSpPr>
              <p:spPr>
                <a:xfrm flipV="1">
                  <a:off x="2940120" y="3856320"/>
                  <a:ext cx="690840" cy="13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940120" y="3995280"/>
                  <a:ext cx="690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2940120" y="4411800"/>
                <a:ext cx="690840" cy="138960"/>
                <a:chOff x="2940120" y="4411800"/>
                <a:chExt cx="690840" cy="138960"/>
              </a:xfrm>
            </p:grpSpPr>
            <p:sp>
              <p:nvSpPr>
                <p:cNvPr id="202" name=""/>
                <p:cNvSpPr/>
                <p:nvPr/>
              </p:nvSpPr>
              <p:spPr>
                <a:xfrm flipV="1">
                  <a:off x="2940120" y="4411800"/>
                  <a:ext cx="690840" cy="13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940120" y="4550760"/>
                  <a:ext cx="690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2940120" y="4921560"/>
                <a:ext cx="690840" cy="138960"/>
                <a:chOff x="2940120" y="4921560"/>
                <a:chExt cx="690840" cy="138960"/>
              </a:xfrm>
            </p:grpSpPr>
            <p:sp>
              <p:nvSpPr>
                <p:cNvPr id="205" name=""/>
                <p:cNvSpPr/>
                <p:nvPr/>
              </p:nvSpPr>
              <p:spPr>
                <a:xfrm flipV="1">
                  <a:off x="2940120" y="4921560"/>
                  <a:ext cx="690840" cy="13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2940120" y="5060520"/>
                  <a:ext cx="690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1924-968E-481F-94C3-828952E6A9D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15:24:53Z</dcterms:created>
  <dc:creator>Mathilde Benveniste</dc:creator>
  <dc:description/>
  <dc:language>en-US</dc:language>
  <cp:lastModifiedBy>Mathilde Benveniste</cp:lastModifiedBy>
  <cp:lastPrinted>2000-12-12T22:28:27Z</cp:lastPrinted>
  <dcterms:modified xsi:type="dcterms:W3CDTF">2001-01-03T05:00:20Z</dcterms:modified>
  <cp:revision>131</cp:revision>
  <dc:subject/>
  <dc:title>No Slide Title</dc:title>
</cp:coreProperties>
</file>