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6C7-E0A2-4D4F-8F7F-6108CF5C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E5DC-78FA-49B4-B679-AE99C5A3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75000" y="928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08560" y="8853480"/>
            <a:ext cx="905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959200" y="88534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229ED6-A5AF-4BD2-A42A-7E32FD1A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FA1-75DB-4F2A-8BA3-AA8E0A5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7D1-C139-4FE7-BA66-99EB6F1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23E-7812-4B37-B795-8078F41B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0EF-B6BC-42C5-BFAD-2C6CF11E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FE4-5DBD-415D-9873-2B6EBF1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18E-324A-4175-ADC1-A29235B2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02E-76B2-47EA-BF9E-4DB5A16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BA2-BE77-4E35-8293-9BFD2DED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205-4CBD-495D-BA94-6633330C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A25-4C84-45A5-A0F8-15FD9F0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B00-E56C-41C5-819B-5E72505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7B2-D7A7-4CF7-9D99-69B8634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C1B-C311-48F2-925B-7445977BB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696960" y="334800"/>
            <a:ext cx="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G SC – May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 AM1 (08:00-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ing Wireless Emulation for system evaluation of new technologies development() – Hiroshi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5:01Z</dcterms:created>
  <dc:creator>c.chaplin</dc:creator>
  <dc:description/>
  <dc:language>en-US</dc:language>
  <cp:lastModifiedBy>Clint Chaplin - SISA</cp:lastModifiedBy>
  <dcterms:modified xsi:type="dcterms:W3CDTF">2014-03-21T05:33:53Z</dcterms:modified>
  <cp:revision>122</cp:revision>
  <dc:subject/>
  <dc:title>WNG SC – November 2009</dc:title>
</cp:coreProperties>
</file>