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70E9-EACF-483B-87CE-47D1254EC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8A30-C55D-4732-9639-7BE59B027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75000" y="928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08560" y="8853480"/>
            <a:ext cx="905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959200" y="88534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0E6E88-A63D-408C-95C7-844E9DFFC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6AD-2179-4553-A41F-BD668F2F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5D2-9A1D-4AA5-826A-7F9194CD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038-29EC-45F3-8459-6C428D68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D71-ABDC-4AE6-A2CD-C6192C58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C07-C2A9-4553-A1B7-32178E48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D02-B505-4ECF-B7B0-25E9881C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768-9D2F-4192-AF1F-FDA34E38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FAE-46FF-451D-A512-B6AD5EDF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D0B-30BE-4653-924F-99513D03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F5C-4CBA-44BD-A284-E7AAC4B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534-4DD3-4793-A541-A9D758A1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6E9-16C2-4BD3-BA8E-6CE5BC0B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C7B1-10CD-4971-95ED-CC04A29DD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1"/>
          <p:cNvSpPr/>
          <p:nvPr/>
        </p:nvSpPr>
        <p:spPr>
          <a:xfrm>
            <a:off x="696960" y="334800"/>
            <a:ext cx="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G SC – May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 AM1 (08:00-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ing Wireless Emulation for system evaluation of new technologies development() – Hiroshi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2:05:01Z</dcterms:created>
  <dc:creator>c.chaplin</dc:creator>
  <dc:description/>
  <dc:language>en-US</dc:language>
  <cp:lastModifiedBy>Clint Chaplin - SISA</cp:lastModifiedBy>
  <dcterms:modified xsi:type="dcterms:W3CDTF">2014-03-21T05:33:53Z</dcterms:modified>
  <cp:revision>122</cp:revision>
  <dc:subject/>
  <dc:title>WNG SC – November 2009</dc:title>
</cp:coreProperties>
</file>